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FFC-9D84-4E43-A225-9A37282C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390-B31F-415F-816E-8A2C4F3A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887D6-BB88-4939-B64B-5C2C5550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332C7-DBC3-4F05-BE2F-7745E54C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904B1-885C-4CA5-81EA-2E3B24DD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22068-BF1A-49D1-803F-13A49932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0CF69-290F-4A5C-9855-986B5047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E81F5-CBD9-4483-A39D-5B4C393E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C6DF9-372C-4A2B-8C35-1D727D0C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C1F5C-D2DF-44A4-80E5-08067A6A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F5EF4-C731-4473-9348-D423F3A2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AF2B2-D006-4F05-B886-BEF451CE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CDA-D1FB-4195-838C-3371A9B2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D5773-B0D3-4F9A-B7D5-E56495EE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CD626-F76C-4658-A33B-C16D3235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D60DD-B5C4-4012-B09D-D3720EE5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EC2A6-7F00-4350-840F-CB263282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38671-5581-441D-BB85-3B1268E0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68560-F452-4EE2-AE5C-B1589050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24AFB-6076-4C53-A8D7-3B31048C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F69F5-0809-47E7-91B5-7971AE6A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00BBB-644C-400E-AF57-B0F6D3B9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40B56-CF6E-4635-BC6D-3D8ECFF7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4F2-5B32-4834-A1EC-F3AEA2A3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DAB7F-575D-4980-A528-60AD3D35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EAF46-99CC-4B39-B4A5-A6F97BE9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0C116-E0C1-4882-80C6-273532A0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C5C82-B8D6-4EC2-A131-45D91C23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4ADE7-0ED3-4730-B49C-9D0043D5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90207-E5CD-4BCE-8991-581162CA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D0BF2-C295-4859-9E89-4EFC338F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0564C-C1E8-4754-AB8E-2B60EAFA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6F2CF-6C35-4A97-845B-EB443BD2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490CF-C58B-4CE9-8300-5A98BFE5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634B-9B90-4366-94A2-9783BBC4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45E8C-464F-4E99-8FBD-A0FD8F49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9EE6D-E8E9-4AFC-86BA-8C945CFC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2A060-8A9F-4C53-ABB0-D15B70FC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2917C-7F68-44C1-B6A5-A6694C62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F415A-E012-4C07-B9FD-6AC1A06B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7C68C-0F6A-4397-BDB1-78942DA8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A45FC-6EC2-4C38-A574-7BF17B41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202B8-B5C1-4778-AEEF-8E157BF2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0788C-EC90-43C1-83A9-C342F0CB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C8B9D-B10D-4483-B98D-2E1FA016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3E3B-0F01-4135-8B37-DD61DC21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28AF9-96BC-477E-9856-42D301B8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FEE94-1D4E-412A-BF68-67B14311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F2347-6E5F-4BC6-8109-5A0055AB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4F2DC-EBB6-4197-8199-0EFC455D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982E4-C832-4788-B5D5-C028111F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39B09-5E2F-48C0-BE03-D3CA9768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85F16-84E4-4100-B3F9-62335E95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AB602-F93D-4CFB-A1CA-054106F9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D94F0-074B-4F28-8461-BA0E8A8A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D732B-84D2-4BEC-9D22-4A7533AF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9E78-09B9-418B-AD55-AE0D226A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2FAFA-2111-4BAF-8361-0B4E30CE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77F0B-6BBF-4CCD-AA93-E78B36EB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48874-75D3-4677-940E-10FB9934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54DF9-48FF-4818-850B-5EA10B30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C2F24-5710-460F-B5F4-1195087D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2CF22-1692-4D20-8276-87B19B90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0F3B8-E600-43A9-9378-1D27B807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A609-7229-4EE7-913C-DBCD1CAC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B739-1BAE-4128-AA73-A3AE6F77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8ACA-EE65-495A-8237-1A8E97D3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7505-68A2-4EC6-9172-8AF97C36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083-AD42-41FD-A979-33A17CC5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9FD6-83B7-4AC7-BCAA-95CE9C3D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E9C9-2DA1-4A0C-B7FB-9E20E7FE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83C4-0617-432D-A0C9-941F593F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2E63-4B39-41E7-9E2B-EBEC6F37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0001-EBB2-491E-8186-AF456BEE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13F13-A9EE-4D71-9B3C-7FE69516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C80B9-A887-440F-B711-B63AD2A3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55F75-0277-4954-B63D-C54274A8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D9D6-6BDB-47B9-A14E-ED1C7883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B043C-3F0D-4641-A57E-D5FE41CD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0CD-A504-4A17-9488-0FB42686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E8AC-5D29-4EEF-8868-66ABDE2D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A655F-325B-4094-8930-8447E7A3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ABC6B-B3ED-4FE4-B8BB-0A10FB49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B0CB3-A627-4E7D-BC7B-21B685FA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DE4FC-68ED-48A6-90C5-146E7859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B1B69-F558-485A-A2E2-908CE36B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28F0E-4AAE-4777-AB69-3416936F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C800C-7751-48FB-93BF-1CC3CC5F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BA5BF-D540-4BA3-8F55-2BBA3E78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C3800-47B4-4C0A-BEBB-11612469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5A7-C506-4559-9245-F7081FDC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FA289-E7AE-4E56-A726-5537FD70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0D3FB-405E-434E-B9E9-B8D225F6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ACAA1-3212-4B00-B2D3-46E0AE32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4E856-6364-4AEE-9645-D3031C69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24CCA-1D46-40B5-AE06-4731B8E8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1745F-1342-400D-BD3A-E2AC5C95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2A263-646E-4088-84F0-76F1B690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BFD2A-70EE-40D4-9803-EAA79C32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C3EDE-37CD-471B-898F-CA1B28CF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EB7E2-2314-4A5F-B12F-36DABABF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C12-6D33-4B28-BB8E-C5E00166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D9C8A-D8A8-4600-B9EA-12A380E7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8F566-7FC9-452F-8071-D0593062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65051-4758-4AC1-8B67-6CD06575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9E0A7-AD85-4A52-B4C1-FAE5EEA7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EB6C7-B6FC-4FBB-8D11-EBDA6615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8024B-C630-4EB6-971A-1027D947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4F54C-F242-470A-B99A-D4B469F7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C043A-8FA1-4C77-B23D-66D86DD3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C2CFA-B165-42F7-9C7C-85615EFC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F771C-FB88-4066-8DB7-4CBB2FFE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4A0-A4D3-4CC8-92A7-3ADB4936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48A17-908B-4C00-8E12-2F9FAE82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46607-0DB9-4E55-8EB0-9A9345A9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360D1-6907-43C9-B17C-4F89048F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0AA0B-130C-4D51-BCA4-E69FC78C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53F5E-C845-44B1-BF78-2CD722AF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E3526-CC35-4EEE-A42C-038FD877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0A309-262C-4AF4-94A8-B14B3B11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1221F-831D-4F80-A2C3-4F6CF324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EFD36-88EC-49EC-B932-3FF15AFD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8D611-674A-45D6-B035-40F444F4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943-B3F6-4672-9774-D4DE0FEB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AAD88-5F09-4048-80ED-C13B3692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F115B-7548-43BC-8CCF-95D312C3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30098-0E67-423C-874A-80FF8363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8334A-BF41-495F-B1B0-DCC53E9F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EB587-7710-4508-98BC-A3105921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A630A-582E-412E-8F76-995DA3C5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B7D29-AB12-4AAC-AE87-26629B88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9C91E-F5D3-4914-B225-BDBEC299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F3F60-0816-4C17-9028-0C8F8EF8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3C9B3-81FF-49FA-A142-36FB258A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007-AD84-49D3-A3D7-BBCFA94B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BC5C4-7197-4D92-A95C-D2166573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0971C-1856-4DD6-AC9E-469F5EB1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C3807-7238-4DA8-91A6-FF0B8583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DA75D-9ECB-4AE7-B977-0737577A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81ABD-592D-4DBC-86E4-AF408E60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F8E99-6BD6-4BCA-8159-5527B27A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FC7E6-FD87-435F-BC5D-5E6D413F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48F15-8FF9-419C-AACA-5D2F4E6C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E158E-9019-437D-BC42-A34722AE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871CE-CB73-42CB-95C5-2D8D6D33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B29-6AE7-422E-ACB4-19D58FA5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A04FF-9DD1-46A9-BF6D-DB47A4BE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C4E92-CB2D-48C8-AD36-F572AA51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C3DE2-2098-4CD2-8104-CCB8EB9C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457D6-C4BC-401F-9FCD-D38ABC58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FEA7B-29D4-4A97-8166-747B7A3D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E3CCB-4246-4795-BB97-44100296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45DE4-71B9-446D-AD1B-B7EC5332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D3C07-E5CB-4614-B807-8DFB82C8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EF6F3-289B-4DFF-B552-8312AD7B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37EEE-8697-4275-951C-A22F2360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7680" y="275760"/>
            <a:ext cx="10976040" cy="11415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768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7600" indent="-160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42960" indent="-12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00000" indent="-128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8040" y="6356160"/>
            <a:ext cx="2844720" cy="3632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160"/>
            <a:ext cx="3861000" cy="3632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9360" y="6356160"/>
            <a:ext cx="2844720" cy="3632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BE1F-5933-486B-B310-113364E6E9B1}" type="slidenum">
              <a:rPr b="0" lang="zh-CN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5526-E9A8-469F-9255-B61BEEE3577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E8E1-747A-488C-B370-A60D7D2C0E1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DD6C-23A1-461E-AE32-54E63E0A1EC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AB70-7062-40CB-AE66-BFAAAA72398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ACC0-19D7-4479-9072-C39ED637B55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BD42-BF02-44B8-8355-C46EC80E1F7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06EA-F428-4219-9BFB-820A924FDAF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E948-F0FE-41A4-AF8E-D451822EF35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0FEB-5CEB-4C76-ACAF-D53B666D15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B94F-BA2F-40B5-AC43-AEF024535E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B658-9E61-4055-B32B-AF18271D125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C438-E472-4959-911A-C10465190F0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C77F-FF6E-471E-A312-6714D16840A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76AE-6828-4B00-BB5D-65F9E25BB7D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3360-2B35-4F20-9E78-31A7CE57622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7D98-6A38-4388-AAB0-13CA038AF3F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6DE9-B67C-433A-BC76-44AA76729CE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FC2C-0458-4326-B5CF-A9FFB0C2B8C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C2E8-A638-48B2-B92D-EE8E7343686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A8F6-C3E2-4F6C-9F4E-E7683CBCAAD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49E0-A63A-4EC6-972D-DF0151C57E6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35B9-E87A-49FB-A799-8D94F02F388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8924-C607-4C64-98A1-380D9CA79BD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7900-AC93-493A-A999-697C2A75E38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4"/>
          <p:cNvSpPr/>
          <p:nvPr/>
        </p:nvSpPr>
        <p:spPr>
          <a:xfrm>
            <a:off x="6715080" y="0"/>
            <a:ext cx="5025960" cy="3159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rm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矩形 4"/>
          <p:cNvSpPr/>
          <p:nvPr/>
        </p:nvSpPr>
        <p:spPr>
          <a:xfrm>
            <a:off x="6715080" y="3760920"/>
            <a:ext cx="5025960" cy="3097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rm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矩形 4"/>
          <p:cNvSpPr/>
          <p:nvPr/>
        </p:nvSpPr>
        <p:spPr>
          <a:xfrm>
            <a:off x="6554880" y="0"/>
            <a:ext cx="5025960" cy="315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rm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8"/>
          <p:cNvSpPr/>
          <p:nvPr/>
        </p:nvSpPr>
        <p:spPr>
          <a:xfrm>
            <a:off x="6222960" y="3151080"/>
            <a:ext cx="5689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Calibri"/>
                <a:ea typeface="Kozuka Gothic Pro B"/>
              </a:rPr>
              <a:t>Simple, Powerful and fr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4"/>
          <p:cNvSpPr/>
          <p:nvPr/>
        </p:nvSpPr>
        <p:spPr>
          <a:xfrm>
            <a:off x="6554880" y="3760920"/>
            <a:ext cx="5025960" cy="309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rm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612720" y="1832040"/>
            <a:ext cx="569268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8000" spc="-1" strike="noStrike">
                <a:solidFill>
                  <a:srgbClr val="808080"/>
                </a:solidFill>
                <a:latin typeface="Arial"/>
                <a:ea typeface="黑体"/>
              </a:rPr>
              <a:t>职场沟通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4"/>
          <p:cNvSpPr/>
          <p:nvPr/>
        </p:nvSpPr>
        <p:spPr>
          <a:xfrm>
            <a:off x="-1023840" y="-1481040"/>
            <a:ext cx="13844520" cy="4025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3"/>
          <p:cNvSpPr/>
          <p:nvPr/>
        </p:nvSpPr>
        <p:spPr>
          <a:xfrm rot="20640000">
            <a:off x="5208480" y="488520"/>
            <a:ext cx="513000" cy="68961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4"/>
          <p:cNvSpPr/>
          <p:nvPr/>
        </p:nvSpPr>
        <p:spPr>
          <a:xfrm rot="20640000">
            <a:off x="9116640" y="469440"/>
            <a:ext cx="512640" cy="6894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5"/>
          <p:cNvSpPr/>
          <p:nvPr/>
        </p:nvSpPr>
        <p:spPr>
          <a:xfrm rot="20640000">
            <a:off x="1896840" y="479520"/>
            <a:ext cx="511200" cy="6894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-1023840" y="-1625760"/>
            <a:ext cx="13845960" cy="402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048120" y="2454120"/>
            <a:ext cx="59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Comple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2281320" y="933480"/>
            <a:ext cx="747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99ccff"/>
                </a:solidFill>
                <a:latin typeface="Arial"/>
              </a:rPr>
              <a:t>Busines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9"/>
          <p:cNvSpPr/>
          <p:nvPr/>
        </p:nvSpPr>
        <p:spPr>
          <a:xfrm rot="20640000">
            <a:off x="1746000" y="539280"/>
            <a:ext cx="512640" cy="689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10"/>
          <p:cNvSpPr/>
          <p:nvPr/>
        </p:nvSpPr>
        <p:spPr>
          <a:xfrm rot="20640000">
            <a:off x="5081400" y="539280"/>
            <a:ext cx="512640" cy="689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11"/>
          <p:cNvSpPr/>
          <p:nvPr/>
        </p:nvSpPr>
        <p:spPr>
          <a:xfrm rot="20640000">
            <a:off x="8981640" y="539280"/>
            <a:ext cx="513000" cy="689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Group 12"/>
          <p:cNvGrpSpPr/>
          <p:nvPr/>
        </p:nvGrpSpPr>
        <p:grpSpPr>
          <a:xfrm>
            <a:off x="79200" y="865080"/>
            <a:ext cx="2872080" cy="2873520"/>
            <a:chOff x="79200" y="865080"/>
            <a:chExt cx="2872080" cy="2873520"/>
          </a:xfrm>
        </p:grpSpPr>
        <p:sp>
          <p:nvSpPr>
            <p:cNvPr id="550" name="AutoShape 13"/>
            <p:cNvSpPr/>
            <p:nvPr/>
          </p:nvSpPr>
          <p:spPr>
            <a:xfrm rot="20700000">
              <a:off x="342720" y="1128600"/>
              <a:ext cx="2344680" cy="2346480"/>
            </a:xfrm>
            <a:prstGeom prst="octagon">
              <a:avLst>
                <a:gd name="adj" fmla="val 29287"/>
              </a:avLst>
            </a:prstGeom>
            <a:solidFill>
              <a:srgbClr val="99cc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AutoShape 14"/>
            <p:cNvSpPr/>
            <p:nvPr/>
          </p:nvSpPr>
          <p:spPr>
            <a:xfrm rot="20700000">
              <a:off x="516960" y="1302480"/>
              <a:ext cx="1996920" cy="1998360"/>
            </a:xfrm>
            <a:prstGeom prst="octagon">
              <a:avLst>
                <a:gd name="adj" fmla="val 29287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2" name="Text Box 15"/>
          <p:cNvSpPr/>
          <p:nvPr/>
        </p:nvSpPr>
        <p:spPr>
          <a:xfrm rot="20700000">
            <a:off x="190800" y="1363680"/>
            <a:ext cx="55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16"/>
          <p:cNvSpPr/>
          <p:nvPr/>
        </p:nvSpPr>
        <p:spPr>
          <a:xfrm rot="20700000">
            <a:off x="2660760" y="3822480"/>
            <a:ext cx="2514600" cy="1312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ff"/>
                </a:solidFill>
                <a:latin typeface="Calibri"/>
              </a:rPr>
              <a:t>Simpl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99"/>
                </a:solidFill>
                <a:latin typeface="Calibri"/>
                <a:ea typeface="黑体"/>
              </a:rPr>
              <a:t>言简意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17"/>
          <p:cNvSpPr/>
          <p:nvPr/>
        </p:nvSpPr>
        <p:spPr>
          <a:xfrm rot="20700000">
            <a:off x="5937120" y="3822480"/>
            <a:ext cx="2514600" cy="1312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ff"/>
                </a:solidFill>
                <a:latin typeface="Calibri"/>
              </a:rPr>
              <a:t>Powerf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99"/>
                </a:solidFill>
                <a:latin typeface="Calibri"/>
                <a:ea typeface="黑体"/>
              </a:rPr>
              <a:t>言必有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18"/>
          <p:cNvSpPr/>
          <p:nvPr/>
        </p:nvSpPr>
        <p:spPr>
          <a:xfrm rot="20700000">
            <a:off x="9848880" y="3823920"/>
            <a:ext cx="2514600" cy="1312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ff"/>
                </a:solidFill>
                <a:latin typeface="Calibri"/>
              </a:rPr>
              <a:t>Fr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99"/>
                </a:solidFill>
                <a:latin typeface="Calibri"/>
                <a:ea typeface="黑体"/>
              </a:rPr>
              <a:t>言人人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8688E-006 4.31373E-006 L -4.38688E-006 -0.13089 E">
                                      <p:cBhvr>
                                        <p:cTn id="42" dur="5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8688E-006 0.04701 L -4.38688E-006 0.17434 E">
                                      <p:cBhvr>
                                        <p:cTn id="44" dur="5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399">
                                      <p:cBhvr>
                                        <p:cTn id="4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399">
                                      <p:cBhvr>
                                        <p:cTn id="5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399">
                                      <p:cBhvr>
                                        <p:cTn id="5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399">
                                      <p:cBhvr>
                                        <p:cTn id="5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57025E-006 0.17451 L -0.86832 0.59215 E">
                                      <p:cBhvr>
                                        <p:cTn id="57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30926 L -0.881719 0.289352 E">
                                      <p:cBhvr>
                                        <p:cTn id="59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459">
                                      <p:cBhvr>
                                        <p:cTn id="7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4"/>
          <p:cNvSpPr/>
          <p:nvPr/>
        </p:nvSpPr>
        <p:spPr>
          <a:xfrm>
            <a:off x="-3425760" y="2386080"/>
            <a:ext cx="7472160" cy="2000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-133200" y="-3565440"/>
            <a:ext cx="12779280" cy="501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35000" y="1450800"/>
            <a:ext cx="59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Si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3656160" y="534960"/>
            <a:ext cx="48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99ccff"/>
                </a:solidFill>
                <a:latin typeface="Calibri"/>
                <a:ea typeface="黑体"/>
              </a:rPr>
              <a:t>言简意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5638680" y="380880"/>
            <a:ext cx="56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alibri"/>
              </a:rPr>
              <a:t>1</a:t>
            </a:r>
            <a:r>
              <a:rPr b="1" lang="en-US" sz="2000" spc="-1" strike="noStrike" baseline="30000">
                <a:solidFill>
                  <a:srgbClr val="336699"/>
                </a:solidFill>
                <a:latin typeface="Calibri"/>
              </a:rPr>
              <a:t>st</a:t>
            </a:r>
            <a:r>
              <a:rPr b="1" lang="en-US" sz="2000" spc="-1" strike="noStrike">
                <a:solidFill>
                  <a:srgbClr val="336699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336699"/>
                </a:solidFill>
                <a:latin typeface="Calibri"/>
              </a:rPr>
              <a:t>top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6032520" y="238140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Si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Group 8"/>
          <p:cNvGrpSpPr/>
          <p:nvPr/>
        </p:nvGrpSpPr>
        <p:grpSpPr>
          <a:xfrm>
            <a:off x="723960" y="1650960"/>
            <a:ext cx="1963440" cy="1221840"/>
            <a:chOff x="723960" y="1650960"/>
            <a:chExt cx="1963440" cy="1221840"/>
          </a:xfrm>
        </p:grpSpPr>
        <p:sp>
          <p:nvSpPr>
            <p:cNvPr id="563" name="Oval 9"/>
            <p:cNvSpPr/>
            <p:nvPr/>
          </p:nvSpPr>
          <p:spPr>
            <a:xfrm>
              <a:off x="918000" y="1870560"/>
              <a:ext cx="167040" cy="167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Oval 10"/>
            <p:cNvSpPr/>
            <p:nvPr/>
          </p:nvSpPr>
          <p:spPr>
            <a:xfrm>
              <a:off x="1103760" y="178056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Oval 11"/>
            <p:cNvSpPr/>
            <p:nvPr/>
          </p:nvSpPr>
          <p:spPr>
            <a:xfrm>
              <a:off x="1459800" y="2261880"/>
              <a:ext cx="176400" cy="176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Oval 12"/>
            <p:cNvSpPr/>
            <p:nvPr/>
          </p:nvSpPr>
          <p:spPr>
            <a:xfrm>
              <a:off x="1600200" y="1846080"/>
              <a:ext cx="154440" cy="154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Oval 13"/>
            <p:cNvSpPr/>
            <p:nvPr/>
          </p:nvSpPr>
          <p:spPr>
            <a:xfrm>
              <a:off x="1073880" y="2511000"/>
              <a:ext cx="117720" cy="117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Oval 14"/>
            <p:cNvSpPr/>
            <p:nvPr/>
          </p:nvSpPr>
          <p:spPr>
            <a:xfrm>
              <a:off x="1419480" y="194580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Oval 15"/>
            <p:cNvSpPr/>
            <p:nvPr/>
          </p:nvSpPr>
          <p:spPr>
            <a:xfrm>
              <a:off x="958680" y="2261880"/>
              <a:ext cx="66240" cy="66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Oval 16"/>
            <p:cNvSpPr/>
            <p:nvPr/>
          </p:nvSpPr>
          <p:spPr>
            <a:xfrm>
              <a:off x="1133640" y="2043000"/>
              <a:ext cx="66240" cy="66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Oval 17"/>
            <p:cNvSpPr/>
            <p:nvPr/>
          </p:nvSpPr>
          <p:spPr>
            <a:xfrm>
              <a:off x="1427400" y="2279520"/>
              <a:ext cx="66240" cy="66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Oval 18"/>
            <p:cNvSpPr/>
            <p:nvPr/>
          </p:nvSpPr>
          <p:spPr>
            <a:xfrm>
              <a:off x="1521000" y="206172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Oval 19"/>
            <p:cNvSpPr/>
            <p:nvPr/>
          </p:nvSpPr>
          <p:spPr>
            <a:xfrm>
              <a:off x="1039680" y="209988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Oval 20"/>
            <p:cNvSpPr/>
            <p:nvPr/>
          </p:nvSpPr>
          <p:spPr>
            <a:xfrm>
              <a:off x="1284120" y="2050560"/>
              <a:ext cx="154440" cy="154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Oval 21"/>
            <p:cNvSpPr/>
            <p:nvPr/>
          </p:nvSpPr>
          <p:spPr>
            <a:xfrm>
              <a:off x="723960" y="230436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Oval 22"/>
            <p:cNvSpPr/>
            <p:nvPr/>
          </p:nvSpPr>
          <p:spPr>
            <a:xfrm>
              <a:off x="1828080" y="1862280"/>
              <a:ext cx="176400" cy="176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Oval 23"/>
            <p:cNvSpPr/>
            <p:nvPr/>
          </p:nvSpPr>
          <p:spPr>
            <a:xfrm>
              <a:off x="1652400" y="1650960"/>
              <a:ext cx="154440" cy="154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Oval 24"/>
            <p:cNvSpPr/>
            <p:nvPr/>
          </p:nvSpPr>
          <p:spPr>
            <a:xfrm>
              <a:off x="1092240" y="190476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Oval 25"/>
            <p:cNvSpPr/>
            <p:nvPr/>
          </p:nvSpPr>
          <p:spPr>
            <a:xfrm rot="5640000">
              <a:off x="2346840" y="1780560"/>
              <a:ext cx="167040" cy="167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Oval 26"/>
            <p:cNvSpPr/>
            <p:nvPr/>
          </p:nvSpPr>
          <p:spPr>
            <a:xfrm rot="5640000">
              <a:off x="2489400" y="197676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Oval 27"/>
            <p:cNvSpPr/>
            <p:nvPr/>
          </p:nvSpPr>
          <p:spPr>
            <a:xfrm rot="5640000">
              <a:off x="1911600" y="2295360"/>
              <a:ext cx="176040" cy="176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Oval 28"/>
            <p:cNvSpPr/>
            <p:nvPr/>
          </p:nvSpPr>
          <p:spPr>
            <a:xfrm rot="5640000">
              <a:off x="2336400" y="2462040"/>
              <a:ext cx="154440" cy="154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Oval 29"/>
            <p:cNvSpPr/>
            <p:nvPr/>
          </p:nvSpPr>
          <p:spPr>
            <a:xfrm rot="5640000">
              <a:off x="2302200" y="227988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Oval 30"/>
            <p:cNvSpPr/>
            <p:nvPr/>
          </p:nvSpPr>
          <p:spPr>
            <a:xfrm rot="5640000">
              <a:off x="2057040" y="1797480"/>
              <a:ext cx="66240" cy="66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Oval 31"/>
            <p:cNvSpPr/>
            <p:nvPr/>
          </p:nvSpPr>
          <p:spPr>
            <a:xfrm rot="5640000">
              <a:off x="2263680" y="1986840"/>
              <a:ext cx="66240" cy="66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Oval 32"/>
            <p:cNvSpPr/>
            <p:nvPr/>
          </p:nvSpPr>
          <p:spPr>
            <a:xfrm rot="5640000">
              <a:off x="2007360" y="2263320"/>
              <a:ext cx="66240" cy="66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Oval 33"/>
            <p:cNvSpPr/>
            <p:nvPr/>
          </p:nvSpPr>
          <p:spPr>
            <a:xfrm rot="5640000">
              <a:off x="2179440" y="237312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Oval 34"/>
            <p:cNvSpPr/>
            <p:nvPr/>
          </p:nvSpPr>
          <p:spPr>
            <a:xfrm rot="5640000">
              <a:off x="2175120" y="189072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Oval 35"/>
            <p:cNvSpPr/>
            <p:nvPr/>
          </p:nvSpPr>
          <p:spPr>
            <a:xfrm rot="5640000">
              <a:off x="2153880" y="2132640"/>
              <a:ext cx="154440" cy="154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Oval 36"/>
            <p:cNvSpPr/>
            <p:nvPr/>
          </p:nvSpPr>
          <p:spPr>
            <a:xfrm rot="5640000">
              <a:off x="2285280" y="2690280"/>
              <a:ext cx="176040" cy="176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Oval 37"/>
            <p:cNvSpPr/>
            <p:nvPr/>
          </p:nvSpPr>
          <p:spPr>
            <a:xfrm rot="5640000">
              <a:off x="2527560" y="2527920"/>
              <a:ext cx="154440" cy="154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Oval 38"/>
            <p:cNvSpPr/>
            <p:nvPr/>
          </p:nvSpPr>
          <p:spPr>
            <a:xfrm rot="5640000">
              <a:off x="2366280" y="195660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Oval 39"/>
            <p:cNvSpPr/>
            <p:nvPr/>
          </p:nvSpPr>
          <p:spPr>
            <a:xfrm rot="5640000">
              <a:off x="1725840" y="2106000"/>
              <a:ext cx="63000" cy="63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Oval 40"/>
            <p:cNvSpPr/>
            <p:nvPr/>
          </p:nvSpPr>
          <p:spPr>
            <a:xfrm>
              <a:off x="1724400" y="2450520"/>
              <a:ext cx="66240" cy="66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Oval 41"/>
            <p:cNvSpPr/>
            <p:nvPr/>
          </p:nvSpPr>
          <p:spPr>
            <a:xfrm>
              <a:off x="1630440" y="250740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Oval 42"/>
            <p:cNvSpPr/>
            <p:nvPr/>
          </p:nvSpPr>
          <p:spPr>
            <a:xfrm>
              <a:off x="1874880" y="2458080"/>
              <a:ext cx="154440" cy="154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7" name="Group 43"/>
          <p:cNvGrpSpPr/>
          <p:nvPr/>
        </p:nvGrpSpPr>
        <p:grpSpPr>
          <a:xfrm>
            <a:off x="9217080" y="1517760"/>
            <a:ext cx="2680560" cy="1666800"/>
            <a:chOff x="9217080" y="1517760"/>
            <a:chExt cx="2680560" cy="1666800"/>
          </a:xfrm>
        </p:grpSpPr>
        <p:sp>
          <p:nvSpPr>
            <p:cNvPr id="598" name="Oval 44"/>
            <p:cNvSpPr/>
            <p:nvPr/>
          </p:nvSpPr>
          <p:spPr>
            <a:xfrm>
              <a:off x="9482040" y="1817640"/>
              <a:ext cx="228240" cy="227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Oval 45"/>
            <p:cNvSpPr/>
            <p:nvPr/>
          </p:nvSpPr>
          <p:spPr>
            <a:xfrm>
              <a:off x="9735480" y="1694520"/>
              <a:ext cx="145440" cy="14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Oval 46"/>
            <p:cNvSpPr/>
            <p:nvPr/>
          </p:nvSpPr>
          <p:spPr>
            <a:xfrm>
              <a:off x="10221120" y="2351160"/>
              <a:ext cx="240840" cy="240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Oval 47"/>
            <p:cNvSpPr/>
            <p:nvPr/>
          </p:nvSpPr>
          <p:spPr>
            <a:xfrm>
              <a:off x="10412640" y="1783800"/>
              <a:ext cx="210960" cy="21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Oval 48"/>
            <p:cNvSpPr/>
            <p:nvPr/>
          </p:nvSpPr>
          <p:spPr>
            <a:xfrm>
              <a:off x="9694800" y="2691000"/>
              <a:ext cx="160560" cy="160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Oval 49"/>
            <p:cNvSpPr/>
            <p:nvPr/>
          </p:nvSpPr>
          <p:spPr>
            <a:xfrm>
              <a:off x="10166040" y="1920240"/>
              <a:ext cx="145440" cy="14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Oval 50"/>
            <p:cNvSpPr/>
            <p:nvPr/>
          </p:nvSpPr>
          <p:spPr>
            <a:xfrm>
              <a:off x="9537480" y="2351160"/>
              <a:ext cx="90360" cy="90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Oval 51"/>
            <p:cNvSpPr/>
            <p:nvPr/>
          </p:nvSpPr>
          <p:spPr>
            <a:xfrm>
              <a:off x="9776160" y="2052720"/>
              <a:ext cx="90360" cy="90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Oval 52"/>
            <p:cNvSpPr/>
            <p:nvPr/>
          </p:nvSpPr>
          <p:spPr>
            <a:xfrm>
              <a:off x="10177200" y="2375280"/>
              <a:ext cx="90360" cy="90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Oval 53"/>
            <p:cNvSpPr/>
            <p:nvPr/>
          </p:nvSpPr>
          <p:spPr>
            <a:xfrm>
              <a:off x="10305000" y="2078280"/>
              <a:ext cx="145440" cy="14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Oval 54"/>
            <p:cNvSpPr/>
            <p:nvPr/>
          </p:nvSpPr>
          <p:spPr>
            <a:xfrm>
              <a:off x="9648360" y="2130120"/>
              <a:ext cx="145440" cy="14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Oval 55"/>
            <p:cNvSpPr/>
            <p:nvPr/>
          </p:nvSpPr>
          <p:spPr>
            <a:xfrm>
              <a:off x="9981720" y="2062800"/>
              <a:ext cx="210960" cy="21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Oval 56"/>
            <p:cNvSpPr/>
            <p:nvPr/>
          </p:nvSpPr>
          <p:spPr>
            <a:xfrm>
              <a:off x="9217080" y="2409120"/>
              <a:ext cx="145440" cy="14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Oval 57"/>
            <p:cNvSpPr/>
            <p:nvPr/>
          </p:nvSpPr>
          <p:spPr>
            <a:xfrm>
              <a:off x="10724040" y="1805760"/>
              <a:ext cx="240840" cy="240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Oval 58"/>
            <p:cNvSpPr/>
            <p:nvPr/>
          </p:nvSpPr>
          <p:spPr>
            <a:xfrm>
              <a:off x="10484280" y="1517760"/>
              <a:ext cx="210960" cy="21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Oval 59"/>
            <p:cNvSpPr/>
            <p:nvPr/>
          </p:nvSpPr>
          <p:spPr>
            <a:xfrm>
              <a:off x="9719640" y="1863720"/>
              <a:ext cx="145440" cy="14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Oval 60"/>
            <p:cNvSpPr/>
            <p:nvPr/>
          </p:nvSpPr>
          <p:spPr>
            <a:xfrm rot="5640000">
              <a:off x="11431800" y="1694160"/>
              <a:ext cx="227880" cy="228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Oval 61"/>
            <p:cNvSpPr/>
            <p:nvPr/>
          </p:nvSpPr>
          <p:spPr>
            <a:xfrm rot="5640000">
              <a:off x="11626560" y="1961640"/>
              <a:ext cx="145080" cy="14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Oval 62"/>
            <p:cNvSpPr/>
            <p:nvPr/>
          </p:nvSpPr>
          <p:spPr>
            <a:xfrm rot="5640000">
              <a:off x="10837800" y="2396880"/>
              <a:ext cx="240480" cy="240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Oval 63"/>
            <p:cNvSpPr/>
            <p:nvPr/>
          </p:nvSpPr>
          <p:spPr>
            <a:xfrm rot="5640000">
              <a:off x="11418480" y="2624400"/>
              <a:ext cx="210600" cy="210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Oval 64"/>
            <p:cNvSpPr/>
            <p:nvPr/>
          </p:nvSpPr>
          <p:spPr>
            <a:xfrm rot="5640000">
              <a:off x="11371320" y="2375640"/>
              <a:ext cx="145440" cy="14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Oval 65"/>
            <p:cNvSpPr/>
            <p:nvPr/>
          </p:nvSpPr>
          <p:spPr>
            <a:xfrm rot="5640000">
              <a:off x="11036160" y="1717200"/>
              <a:ext cx="90360" cy="90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Oval 66"/>
            <p:cNvSpPr/>
            <p:nvPr/>
          </p:nvSpPr>
          <p:spPr>
            <a:xfrm rot="5640000">
              <a:off x="11318040" y="1975680"/>
              <a:ext cx="90360" cy="90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Oval 67"/>
            <p:cNvSpPr/>
            <p:nvPr/>
          </p:nvSpPr>
          <p:spPr>
            <a:xfrm rot="5640000">
              <a:off x="10968120" y="2352600"/>
              <a:ext cx="90360" cy="90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Oval 68"/>
            <p:cNvSpPr/>
            <p:nvPr/>
          </p:nvSpPr>
          <p:spPr>
            <a:xfrm rot="5640000">
              <a:off x="11203560" y="2502360"/>
              <a:ext cx="145080" cy="14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Oval 69"/>
            <p:cNvSpPr/>
            <p:nvPr/>
          </p:nvSpPr>
          <p:spPr>
            <a:xfrm rot="5640000">
              <a:off x="11197440" y="1844640"/>
              <a:ext cx="145080" cy="14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Oval 70"/>
            <p:cNvSpPr/>
            <p:nvPr/>
          </p:nvSpPr>
          <p:spPr>
            <a:xfrm rot="5640000">
              <a:off x="11169720" y="2175120"/>
              <a:ext cx="210600" cy="210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Oval 71"/>
            <p:cNvSpPr/>
            <p:nvPr/>
          </p:nvSpPr>
          <p:spPr>
            <a:xfrm rot="5640000">
              <a:off x="11347560" y="2935800"/>
              <a:ext cx="240480" cy="240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Oval 72"/>
            <p:cNvSpPr/>
            <p:nvPr/>
          </p:nvSpPr>
          <p:spPr>
            <a:xfrm rot="5640000">
              <a:off x="11679480" y="2714040"/>
              <a:ext cx="210600" cy="210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Oval 73"/>
            <p:cNvSpPr/>
            <p:nvPr/>
          </p:nvSpPr>
          <p:spPr>
            <a:xfrm rot="5640000">
              <a:off x="11458440" y="1935000"/>
              <a:ext cx="145440" cy="14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Oval 74"/>
            <p:cNvSpPr/>
            <p:nvPr/>
          </p:nvSpPr>
          <p:spPr>
            <a:xfrm rot="5640000">
              <a:off x="10584360" y="2139120"/>
              <a:ext cx="8604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Oval 75"/>
            <p:cNvSpPr/>
            <p:nvPr/>
          </p:nvSpPr>
          <p:spPr>
            <a:xfrm>
              <a:off x="10582200" y="2608560"/>
              <a:ext cx="90360" cy="90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Oval 76"/>
            <p:cNvSpPr/>
            <p:nvPr/>
          </p:nvSpPr>
          <p:spPr>
            <a:xfrm>
              <a:off x="10454400" y="2685960"/>
              <a:ext cx="145440" cy="14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Oval 77"/>
            <p:cNvSpPr/>
            <p:nvPr/>
          </p:nvSpPr>
          <p:spPr>
            <a:xfrm>
              <a:off x="10787760" y="2618640"/>
              <a:ext cx="210960" cy="21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Group 78"/>
          <p:cNvGrpSpPr/>
          <p:nvPr/>
        </p:nvGrpSpPr>
        <p:grpSpPr>
          <a:xfrm>
            <a:off x="7945560" y="1617840"/>
            <a:ext cx="1639440" cy="1019160"/>
            <a:chOff x="7945560" y="1617840"/>
            <a:chExt cx="1639440" cy="1019160"/>
          </a:xfrm>
        </p:grpSpPr>
        <p:sp>
          <p:nvSpPr>
            <p:cNvPr id="633" name="Oval 79"/>
            <p:cNvSpPr/>
            <p:nvPr/>
          </p:nvSpPr>
          <p:spPr>
            <a:xfrm>
              <a:off x="8107560" y="1801080"/>
              <a:ext cx="139680" cy="139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Oval 80"/>
            <p:cNvSpPr/>
            <p:nvPr/>
          </p:nvSpPr>
          <p:spPr>
            <a:xfrm>
              <a:off x="8262360" y="1725840"/>
              <a:ext cx="88920" cy="88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Oval 81"/>
            <p:cNvSpPr/>
            <p:nvPr/>
          </p:nvSpPr>
          <p:spPr>
            <a:xfrm>
              <a:off x="8559720" y="2127240"/>
              <a:ext cx="147240" cy="146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Oval 82"/>
            <p:cNvSpPr/>
            <p:nvPr/>
          </p:nvSpPr>
          <p:spPr>
            <a:xfrm>
              <a:off x="8676720" y="1780560"/>
              <a:ext cx="128880" cy="12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Oval 83"/>
            <p:cNvSpPr/>
            <p:nvPr/>
          </p:nvSpPr>
          <p:spPr>
            <a:xfrm>
              <a:off x="8237520" y="2335320"/>
              <a:ext cx="98280" cy="97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Oval 84"/>
            <p:cNvSpPr/>
            <p:nvPr/>
          </p:nvSpPr>
          <p:spPr>
            <a:xfrm>
              <a:off x="8525880" y="1863720"/>
              <a:ext cx="88920" cy="8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Oval 85"/>
            <p:cNvSpPr/>
            <p:nvPr/>
          </p:nvSpPr>
          <p:spPr>
            <a:xfrm>
              <a:off x="8141400" y="2127240"/>
              <a:ext cx="55080" cy="5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Oval 86"/>
            <p:cNvSpPr/>
            <p:nvPr/>
          </p:nvSpPr>
          <p:spPr>
            <a:xfrm>
              <a:off x="8287560" y="1944720"/>
              <a:ext cx="55080" cy="5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Oval 87"/>
            <p:cNvSpPr/>
            <p:nvPr/>
          </p:nvSpPr>
          <p:spPr>
            <a:xfrm>
              <a:off x="8532720" y="2142000"/>
              <a:ext cx="55080" cy="5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Oval 88"/>
            <p:cNvSpPr/>
            <p:nvPr/>
          </p:nvSpPr>
          <p:spPr>
            <a:xfrm>
              <a:off x="8610840" y="1960560"/>
              <a:ext cx="88920" cy="88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Oval 89"/>
            <p:cNvSpPr/>
            <p:nvPr/>
          </p:nvSpPr>
          <p:spPr>
            <a:xfrm>
              <a:off x="8209080" y="1992240"/>
              <a:ext cx="88920" cy="88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Oval 90"/>
            <p:cNvSpPr/>
            <p:nvPr/>
          </p:nvSpPr>
          <p:spPr>
            <a:xfrm>
              <a:off x="8413200" y="1951200"/>
              <a:ext cx="128880" cy="12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Oval 91"/>
            <p:cNvSpPr/>
            <p:nvPr/>
          </p:nvSpPr>
          <p:spPr>
            <a:xfrm>
              <a:off x="7945560" y="2162880"/>
              <a:ext cx="88920" cy="8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Oval 92"/>
            <p:cNvSpPr/>
            <p:nvPr/>
          </p:nvSpPr>
          <p:spPr>
            <a:xfrm>
              <a:off x="8867160" y="1793880"/>
              <a:ext cx="147240" cy="146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Oval 93"/>
            <p:cNvSpPr/>
            <p:nvPr/>
          </p:nvSpPr>
          <p:spPr>
            <a:xfrm>
              <a:off x="8720640" y="1617840"/>
              <a:ext cx="128880" cy="12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Oval 94"/>
            <p:cNvSpPr/>
            <p:nvPr/>
          </p:nvSpPr>
          <p:spPr>
            <a:xfrm>
              <a:off x="8253000" y="1829520"/>
              <a:ext cx="88920" cy="88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Oval 95"/>
            <p:cNvSpPr/>
            <p:nvPr/>
          </p:nvSpPr>
          <p:spPr>
            <a:xfrm rot="5640000">
              <a:off x="9300240" y="1725480"/>
              <a:ext cx="139320" cy="139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Oval 96"/>
            <p:cNvSpPr/>
            <p:nvPr/>
          </p:nvSpPr>
          <p:spPr>
            <a:xfrm rot="5640000">
              <a:off x="9419040" y="1889280"/>
              <a:ext cx="88560" cy="8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Oval 97"/>
            <p:cNvSpPr/>
            <p:nvPr/>
          </p:nvSpPr>
          <p:spPr>
            <a:xfrm rot="5640000">
              <a:off x="8936640" y="2154960"/>
              <a:ext cx="146880" cy="147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Oval 98"/>
            <p:cNvSpPr/>
            <p:nvPr/>
          </p:nvSpPr>
          <p:spPr>
            <a:xfrm rot="5640000">
              <a:off x="9291600" y="2294640"/>
              <a:ext cx="128880" cy="12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Oval 99"/>
            <p:cNvSpPr/>
            <p:nvPr/>
          </p:nvSpPr>
          <p:spPr>
            <a:xfrm rot="5640000">
              <a:off x="9262440" y="2142360"/>
              <a:ext cx="88920" cy="8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Oval 100"/>
            <p:cNvSpPr/>
            <p:nvPr/>
          </p:nvSpPr>
          <p:spPr>
            <a:xfrm rot="5640000">
              <a:off x="9057960" y="1739520"/>
              <a:ext cx="55080" cy="5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Oval 101"/>
            <p:cNvSpPr/>
            <p:nvPr/>
          </p:nvSpPr>
          <p:spPr>
            <a:xfrm rot="5640000">
              <a:off x="9230400" y="1897560"/>
              <a:ext cx="55080" cy="5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Oval 102"/>
            <p:cNvSpPr/>
            <p:nvPr/>
          </p:nvSpPr>
          <p:spPr>
            <a:xfrm rot="5640000">
              <a:off x="9016560" y="2127960"/>
              <a:ext cx="55080" cy="5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Oval 103"/>
            <p:cNvSpPr/>
            <p:nvPr/>
          </p:nvSpPr>
          <p:spPr>
            <a:xfrm rot="5640000">
              <a:off x="9160200" y="2219760"/>
              <a:ext cx="88560" cy="8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Oval 104"/>
            <p:cNvSpPr/>
            <p:nvPr/>
          </p:nvSpPr>
          <p:spPr>
            <a:xfrm rot="5640000">
              <a:off x="9156600" y="1817280"/>
              <a:ext cx="88560" cy="8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Oval 105"/>
            <p:cNvSpPr/>
            <p:nvPr/>
          </p:nvSpPr>
          <p:spPr>
            <a:xfrm rot="5640000">
              <a:off x="9140040" y="2019600"/>
              <a:ext cx="128520" cy="12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Oval 106"/>
            <p:cNvSpPr/>
            <p:nvPr/>
          </p:nvSpPr>
          <p:spPr>
            <a:xfrm rot="5640000">
              <a:off x="9248400" y="2484720"/>
              <a:ext cx="146880" cy="147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Oval 107"/>
            <p:cNvSpPr/>
            <p:nvPr/>
          </p:nvSpPr>
          <p:spPr>
            <a:xfrm rot="5640000">
              <a:off x="9451800" y="2349000"/>
              <a:ext cx="128520" cy="12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Oval 108"/>
            <p:cNvSpPr/>
            <p:nvPr/>
          </p:nvSpPr>
          <p:spPr>
            <a:xfrm rot="5640000">
              <a:off x="9315720" y="1872720"/>
              <a:ext cx="88920" cy="8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Oval 109"/>
            <p:cNvSpPr/>
            <p:nvPr/>
          </p:nvSpPr>
          <p:spPr>
            <a:xfrm rot="5640000">
              <a:off x="8782200" y="1997280"/>
              <a:ext cx="52560" cy="52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Oval 110"/>
            <p:cNvSpPr/>
            <p:nvPr/>
          </p:nvSpPr>
          <p:spPr>
            <a:xfrm>
              <a:off x="8780760" y="2284560"/>
              <a:ext cx="55080" cy="5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Oval 111"/>
            <p:cNvSpPr/>
            <p:nvPr/>
          </p:nvSpPr>
          <p:spPr>
            <a:xfrm>
              <a:off x="8702280" y="2332080"/>
              <a:ext cx="88920" cy="8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Oval 112"/>
            <p:cNvSpPr/>
            <p:nvPr/>
          </p:nvSpPr>
          <p:spPr>
            <a:xfrm>
              <a:off x="8906400" y="2291040"/>
              <a:ext cx="128880" cy="12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Text Box 113"/>
          <p:cNvSpPr/>
          <p:nvPr/>
        </p:nvSpPr>
        <p:spPr>
          <a:xfrm>
            <a:off x="5628960" y="2425680"/>
            <a:ext cx="573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许多时候，我们都急着把自己的观点表达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想说的话就像茶壶里的饺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我们需要言简意赅，</a:t>
            </a:r>
            <a:r>
              <a:rPr b="0" lang="zh-CN" sz="2400" spc="-1" strike="noStrike">
                <a:solidFill>
                  <a:srgbClr val="336699"/>
                </a:solidFill>
                <a:latin typeface="Arial"/>
                <a:ea typeface="Arial"/>
              </a:rPr>
              <a:t>Simple</a:t>
            </a:r>
            <a:r>
              <a:rPr b="0" lang="zh-CN" sz="2400" spc="-1" strike="noStrike">
                <a:solidFill>
                  <a:srgbClr val="336699"/>
                </a:solidFill>
                <a:latin typeface="Arial"/>
                <a:ea typeface="Arial"/>
              </a:rPr>
              <a:t>！</a:t>
            </a:r>
            <a:r>
              <a:rPr b="0" lang="zh-CN" sz="2400" spc="-1" strike="noStrike">
                <a:solidFill>
                  <a:srgbClr val="336699"/>
                </a:solidFill>
                <a:latin typeface="Arial"/>
                <a:ea typeface="Arial"/>
              </a:rPr>
              <a:t>Simple</a:t>
            </a:r>
            <a:r>
              <a:rPr b="0" lang="zh-CN" sz="2400" spc="-1" strike="noStrike">
                <a:solidFill>
                  <a:srgbClr val="336699"/>
                </a:solidFill>
                <a:latin typeface="Arial"/>
                <a:ea typeface="Arial"/>
              </a:rPr>
              <a:t>！</a:t>
            </a:r>
            <a:r>
              <a:rPr b="0" lang="zh-CN" sz="2400" spc="-1" strike="noStrike">
                <a:solidFill>
                  <a:srgbClr val="336699"/>
                </a:solidFill>
                <a:latin typeface="Arial"/>
                <a:ea typeface="Arial"/>
              </a:rPr>
              <a:t>Simple</a:t>
            </a:r>
            <a:r>
              <a:rPr b="0" lang="zh-CN" sz="2400" spc="-1" strike="noStrike">
                <a:solidFill>
                  <a:srgbClr val="336699"/>
                </a:solidFill>
                <a:latin typeface="Arial"/>
                <a:ea typeface="Arial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5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 -0 L -0 -0.095826 E">
                                      <p:cBhvr>
                                        <p:cTn id="119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21" dur="3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23" dur="3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25" dur="3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90833 E">
                                      <p:cBhvr>
                                        <p:cTn id="127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-0.287865 0.3275 E">
                                      <p:cBhvr>
                                        <p:cTn id="130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 rot="16200000">
            <a:off x="-5192280" y="-2863800"/>
            <a:ext cx="12490560" cy="7029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Rectangle 3"/>
          <p:cNvSpPr/>
          <p:nvPr/>
        </p:nvSpPr>
        <p:spPr>
          <a:xfrm rot="16200000">
            <a:off x="-5290920" y="-2865600"/>
            <a:ext cx="12496680" cy="7029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-10296360" y="-5575320"/>
            <a:ext cx="22507560" cy="7029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152280" y="1503360"/>
            <a:ext cx="551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Powerfu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4721400" y="534960"/>
            <a:ext cx="74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Calibri"/>
                <a:ea typeface="黑体"/>
              </a:rPr>
              <a:t>言必有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6099120" y="380880"/>
            <a:ext cx="56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2000" spc="-1" strike="noStrike">
                <a:solidFill>
                  <a:srgbClr val="336699"/>
                </a:solidFill>
                <a:latin typeface="Calibri"/>
              </a:rPr>
              <a:t>2</a:t>
            </a:r>
            <a:r>
              <a:rPr b="1" lang="zh-CN" sz="2000" spc="-1" strike="noStrike" baseline="30000">
                <a:solidFill>
                  <a:srgbClr val="336699"/>
                </a:solidFill>
                <a:latin typeface="Calibri"/>
              </a:rPr>
              <a:t>nd</a:t>
            </a:r>
            <a:r>
              <a:rPr b="1" lang="en-US" sz="2000" spc="-1" strike="noStrike">
                <a:solidFill>
                  <a:srgbClr val="336699"/>
                </a:solidFill>
                <a:latin typeface="Calibri"/>
              </a:rPr>
              <a:t> top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8"/>
          <p:cNvSpPr/>
          <p:nvPr/>
        </p:nvSpPr>
        <p:spPr>
          <a:xfrm>
            <a:off x="5407560" y="2425680"/>
            <a:ext cx="58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说空话只能让</a:t>
            </a: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team members</a:t>
            </a: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一头雾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团队沟通需要效率，需要有力量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交流需要言之有物，</a:t>
            </a:r>
            <a:r>
              <a:rPr b="0" lang="zh-CN" sz="2400" spc="-1" strike="noStrike">
                <a:solidFill>
                  <a:srgbClr val="336699"/>
                </a:solidFill>
                <a:latin typeface="Arial"/>
                <a:ea typeface="Arial"/>
              </a:rPr>
              <a:t>Powerful! Powerful! Powerfu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640">
                                      <p:cBhvr>
                                        <p:cTn id="143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2"/>
          <p:cNvGrpSpPr/>
          <p:nvPr/>
        </p:nvGrpSpPr>
        <p:grpSpPr>
          <a:xfrm>
            <a:off x="10590120" y="-2974680"/>
            <a:ext cx="2524320" cy="6825600"/>
            <a:chOff x="10590120" y="-2974680"/>
            <a:chExt cx="2524320" cy="6825600"/>
          </a:xfrm>
        </p:grpSpPr>
        <p:sp>
          <p:nvSpPr>
            <p:cNvPr id="676" name="Rectangle 3"/>
            <p:cNvSpPr/>
            <p:nvPr/>
          </p:nvSpPr>
          <p:spPr>
            <a:xfrm rot="20640000">
              <a:off x="11662920" y="-3036960"/>
              <a:ext cx="513000" cy="688032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Rectangle 4"/>
            <p:cNvSpPr/>
            <p:nvPr/>
          </p:nvSpPr>
          <p:spPr>
            <a:xfrm rot="20640000">
              <a:off x="11528280" y="-2966760"/>
              <a:ext cx="513720" cy="6880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Group 5"/>
          <p:cNvGrpSpPr/>
          <p:nvPr/>
        </p:nvGrpSpPr>
        <p:grpSpPr>
          <a:xfrm>
            <a:off x="10577880" y="-2152080"/>
            <a:ext cx="2143800" cy="6739560"/>
            <a:chOff x="10577880" y="-2152080"/>
            <a:chExt cx="2143800" cy="6739560"/>
          </a:xfrm>
        </p:grpSpPr>
        <p:sp>
          <p:nvSpPr>
            <p:cNvPr id="679" name="Rectangle 6"/>
            <p:cNvSpPr/>
            <p:nvPr/>
          </p:nvSpPr>
          <p:spPr>
            <a:xfrm rot="20640000">
              <a:off x="11575080" y="-2257200"/>
              <a:ext cx="202320" cy="688032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Rectangle 7"/>
            <p:cNvSpPr/>
            <p:nvPr/>
          </p:nvSpPr>
          <p:spPr>
            <a:xfrm rot="20640000">
              <a:off x="11522160" y="-2187360"/>
              <a:ext cx="202680" cy="6880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Group 8"/>
          <p:cNvGrpSpPr/>
          <p:nvPr/>
        </p:nvGrpSpPr>
        <p:grpSpPr>
          <a:xfrm>
            <a:off x="10360080" y="-1011960"/>
            <a:ext cx="2522880" cy="6824880"/>
            <a:chOff x="10360080" y="-1011960"/>
            <a:chExt cx="2522880" cy="6824880"/>
          </a:xfrm>
        </p:grpSpPr>
        <p:sp>
          <p:nvSpPr>
            <p:cNvPr id="682" name="Rectangle 9"/>
            <p:cNvSpPr/>
            <p:nvPr/>
          </p:nvSpPr>
          <p:spPr>
            <a:xfrm rot="20640000">
              <a:off x="11432520" y="-1074600"/>
              <a:ext cx="511920" cy="688032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10"/>
            <p:cNvSpPr/>
            <p:nvPr/>
          </p:nvSpPr>
          <p:spPr>
            <a:xfrm rot="20640000">
              <a:off x="11298240" y="-1004760"/>
              <a:ext cx="512280" cy="6880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4" name="Group 11"/>
          <p:cNvGrpSpPr/>
          <p:nvPr/>
        </p:nvGrpSpPr>
        <p:grpSpPr>
          <a:xfrm>
            <a:off x="10347480" y="-188280"/>
            <a:ext cx="2143800" cy="6739560"/>
            <a:chOff x="10347480" y="-188280"/>
            <a:chExt cx="2143800" cy="6739560"/>
          </a:xfrm>
        </p:grpSpPr>
        <p:sp>
          <p:nvSpPr>
            <p:cNvPr id="685" name="Rectangle 12"/>
            <p:cNvSpPr/>
            <p:nvPr/>
          </p:nvSpPr>
          <p:spPr>
            <a:xfrm rot="20640000">
              <a:off x="11344680" y="-293400"/>
              <a:ext cx="202320" cy="688032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Rectangle 13"/>
            <p:cNvSpPr/>
            <p:nvPr/>
          </p:nvSpPr>
          <p:spPr>
            <a:xfrm rot="20640000">
              <a:off x="11291760" y="-223560"/>
              <a:ext cx="202680" cy="6880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7" name="Rectangle 4"/>
          <p:cNvSpPr/>
          <p:nvPr/>
        </p:nvSpPr>
        <p:spPr>
          <a:xfrm>
            <a:off x="-301680" y="-961920"/>
            <a:ext cx="12769920" cy="2514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-281160" y="-557280"/>
            <a:ext cx="12769920" cy="9223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-271440" y="423720"/>
            <a:ext cx="12771360" cy="136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-271440" y="1260360"/>
            <a:ext cx="12771360" cy="136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3505320" y="588960"/>
            <a:ext cx="551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Fr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 Box 19"/>
          <p:cNvSpPr/>
          <p:nvPr/>
        </p:nvSpPr>
        <p:spPr>
          <a:xfrm>
            <a:off x="3981960" y="3225960"/>
            <a:ext cx="493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头脑风暴的能力是考验一个团队活力的指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团队沟通需要集思广益，需要放飞自己的思维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没有异样的声音就没有突破，</a:t>
            </a:r>
            <a:r>
              <a:rPr b="0" lang="zh-CN" sz="2400" spc="-1" strike="noStrike">
                <a:solidFill>
                  <a:srgbClr val="336699"/>
                </a:solidFill>
                <a:latin typeface="Arial"/>
                <a:ea typeface="Arial"/>
              </a:rPr>
              <a:t>Free! Free! Fre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4"/>
          <p:cNvSpPr/>
          <p:nvPr/>
        </p:nvSpPr>
        <p:spPr>
          <a:xfrm>
            <a:off x="996840" y="2805120"/>
            <a:ext cx="1019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4f81bd"/>
                </a:solidFill>
                <a:latin typeface="Arial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4000680" y="2798640"/>
            <a:ext cx="62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000" spc="-1" strike="noStrike">
                <a:solidFill>
                  <a:srgbClr val="808080"/>
                </a:solidFill>
                <a:latin typeface="Calibri"/>
              </a:rPr>
              <a:t>Keep your pace to practise and fe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 Box 8"/>
          <p:cNvSpPr/>
          <p:nvPr/>
        </p:nvSpPr>
        <p:spPr>
          <a:xfrm>
            <a:off x="2063880" y="3587760"/>
            <a:ext cx="62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Calibri"/>
              </a:rPr>
              <a:t>All things are possible until they are prov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10"/>
          <p:cNvSpPr/>
          <p:nvPr/>
        </p:nvSpPr>
        <p:spPr>
          <a:xfrm>
            <a:off x="5560920" y="2373480"/>
            <a:ext cx="1068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0" spc="-1" strike="noStrike">
                <a:solidFill>
                  <a:srgbClr val="b2b2b2"/>
                </a:solidFill>
                <a:latin typeface="Calibri"/>
              </a:rPr>
              <a:t>[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5562720" y="2373480"/>
            <a:ext cx="1066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0" spc="-1" strike="noStrike">
                <a:solidFill>
                  <a:srgbClr val="b2b2b2"/>
                </a:solidFill>
                <a:latin typeface="Calibri"/>
              </a:rPr>
              <a:t>]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mph" presetID="24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24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1615 0 E">
                                      <p:cBhvr>
                                        <p:cTn id="221" dur="2000" fill="hold"/>
                                        <p:tgtEl>
                                          <p:spTgt spid="6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16823 0 E">
                                      <p:cBhvr>
                                        <p:cTn id="223" dur="20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99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6T07:42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