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A4157-49DF-499B-9D74-02E08D9719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35093-FE49-4DD1-9B08-88D415553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9D124-6970-4D29-873D-A3D1F996E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E2957-4FC0-44D2-8CFD-6FB315ECE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12AD9-AD94-4F45-AAC1-D475D84B9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D4D7E-98F7-4787-9417-4246E4F5B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052DC-4342-46F1-837B-C483341BA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84232-1BAF-4888-A674-819766001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A74FA-6557-479B-9E5A-B147F6E69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9175F-6C75-43E8-BFFC-510A49C5B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94FE2-5DD0-4771-94FE-059A1C58F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B4AA7-5361-49A1-88B9-E0DB4CA18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GFD GDFOPKZ RZ£DF "/>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F6B9CB93-0467-4FA7-B8E0-D640DC01A933}"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C0B9-7D14-4EC3-B994-50695CE2E1C9}"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2E5E-B417-4505-9061-76FF58FE088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ojoez rpz fsdfs$f$ez"/>
          <p:cNvPicPr/>
          <p:nvPr/>
        </p:nvPicPr>
        <p:blipFill>
          <a:blip r:embed="rId2"/>
          <a:stretch/>
        </p:blipFill>
        <p:spPr>
          <a:xfrm>
            <a:off x="0" y="0"/>
            <a:ext cx="9144000" cy="6858000"/>
          </a:xfrm>
          <a:prstGeom prst="rect">
            <a:avLst/>
          </a:prstGeom>
          <a:ln w="0">
            <a:noFill/>
          </a:ln>
        </p:spPr>
      </p:pic>
      <p:sp>
        <p:nvSpPr>
          <p:cNvPr id="82" name="Text Box 4"/>
          <p:cNvSpPr/>
          <p:nvPr/>
        </p:nvSpPr>
        <p:spPr>
          <a:xfrm>
            <a:off x="2050920" y="1916280"/>
            <a:ext cx="687708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9316d"/>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755640" y="1846440"/>
            <a:ext cx="7704000" cy="431928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755640" y="1846440"/>
            <a:ext cx="7704000" cy="431928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15T02:40:01Z</dcterms:modified>
  <cp:revision>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