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0F11-D487-42F5-A794-BE54C0CD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16CE-FAE2-40BB-9A71-29D13C74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36682-3717-4076-B84C-E26963F5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F64C8-E486-462F-ABA7-4EC2B5C1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B427D-3360-4E22-9CFF-906976FF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A8DBA-03AA-4EC7-B25B-B8E2F575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2F9B4-95F8-4AD4-9E46-7A415A1C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9678B-08EC-4068-8CDE-DBAC813A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C0CE8-F011-4992-B178-E5739F30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D54EE-E3C3-4645-8D04-98C18B54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37683-5735-4C8E-84C3-FB353B81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517EB-8259-48A6-87FF-B3F74EF2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6F38-8FF5-4381-B075-3D8055E3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25A13-1C51-481F-8BAB-9DD0EACC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CCC1C-DA36-4477-A60E-C68E56E2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0A917-0C82-4963-AA9E-5B66672E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E4FA6-F8F8-422C-A339-64FA5C6C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FF59A-88D8-42A6-AA71-F28C24A7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28291-89AA-473A-9A2C-5893546B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9E84F-E833-43CD-AB4E-0FE80846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BF579-4E3D-4107-B796-719EF467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FDD48-EE75-4534-B8BA-3C4B5060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02ACA-FC84-403D-B9BB-14751CBB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6B5-D507-49D9-A824-FDC1A2DE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7A845-2B09-4262-9AD6-2311A1FE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FC784-4014-423C-B68E-8DA409BB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CBBD2-C31F-4BF4-800F-DF3977AE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D3965-82E5-4328-A7E3-A4413588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86F94-6922-4396-8CB7-AB003949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CB8A8-1082-4B99-862F-0D864E3F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BFCE6-EE38-49FF-BF69-AA2DFD83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34A1E-8E4F-4023-B598-65750D9D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1DF97-30E8-4CD0-AD1C-8C1EDE18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FB644-3147-4693-8650-60D1C1D2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F54A-14B0-4CB4-A0D6-5F2BBE79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7E2E5-AA64-4E8D-8E67-4B699423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A952E-689D-4CFB-B9EB-EF8E39FD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9DF94-250A-498D-81E5-F0C0CB34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EFBFC-E7B6-46BD-B2BB-5AAC0914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D9504-4A85-41C1-8F25-1FADFB7E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ACCDB-2AC1-448E-85D9-68144D57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4B59C-FB1C-4EF5-9CBA-E25E3EB1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0139A-3EE0-4772-99BA-CE182D87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72B36-0362-4508-B8FF-CD0AD0D1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6F235-10BE-4A1D-A277-49BB3FD5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9067-F30B-423E-8C94-7A65E829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7E37F-A49D-4178-A9E9-544D9E84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3C587-A4C1-4451-BB17-067EB8C7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2E309-923D-405C-A8AD-5807969A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B5621-A27C-473F-8C34-4CF6B7C6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D9B7F-5EB0-4C01-A7DB-0DDA2F20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8DD6BF-CF34-4283-B656-B4E532AC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DD9EA7-AED5-4D69-B346-99BE8DB1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29C5A1-F159-44C0-BE54-795C8BFF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000A9-0838-403F-B74D-6306AA21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253AA1-3FD1-4BA1-A379-F905B9B8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AD99-4CC5-4C79-8FBC-12E8D823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61BFD-619F-4DED-9699-A7A2723A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8A8A6-0641-4D47-A4BF-D21B989D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65CE7E-6C86-4443-B705-64CCF5FB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0D745D-7380-4786-BDC1-F549FC88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409E71-EE7F-4345-8C34-11A3B5F5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A10EAB-EB75-4FF8-ABBB-F3C7BAF9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6D1D92-DCEB-48CE-88AF-62C82A29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6B26-6D99-430B-810C-016980CB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3CE3-A04D-411E-BA9D-4704DB25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28D8-9FC4-41D5-847D-550C3460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AB2F-81E1-4D77-9806-73098827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7B52-7BD4-4951-AACA-B292258E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AE73-78B5-4751-A2AF-944893AD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AC26-3688-4B37-923E-DE24E78A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3B00-E07C-44AB-BB0A-163A065D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4029-098C-4DE7-8664-CE5B5F8D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A9ED-A239-47BD-81F0-26EF9044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F6810-B5A0-42C8-9EE7-79DC96B4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5BDAA-CDFC-4656-8C90-F46CF7E2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AC980-1EC2-4F1E-B4A5-72F9F371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57084-3F5E-474F-A761-B7B0E3BB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B7B55-EC4E-4343-98BB-EAEAF003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D39-3D7E-4D0C-9E6F-9B96E158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AF3C7-50CC-400A-BD10-956FC4CA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698D1-96A7-4AFA-BA0F-B6E8C86E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56943-3EBA-417C-9C14-3EBC9D41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AC58C-F964-4DFD-9B45-E174A7DD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CF44C-0084-4D6B-92C8-1C9AA4C9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3B177-DE26-4B61-8A1E-08323C35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2EF84-35D1-4520-8D36-F239480C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F4ED3-8FC1-49E8-8F79-96604EAE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994DB-8F94-4220-B744-E73DFE8D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5ACA2-82D6-47DD-9A69-A7BBCFDE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242-E45D-4482-AFC5-6B66BDCC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B70A3-DF28-4F4F-B4E5-7F275375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A2498-0E1D-406E-BF2A-1077D5DD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EF4D8-121C-4322-BA37-6E7C18CD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77C1D-36DD-4F20-9F30-DC95D698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A4065-E702-44BF-A400-3680EC64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A6206-62F5-4361-833C-1FF6AECC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F6470-2A78-4A95-B312-583B5AB5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1E57D-1B7C-4B62-A205-08E7AD2A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C10D9-5C4C-4018-9FA8-B96F3B41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A4B99-2379-436A-9CC8-9E2AD0B5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C2BC-485F-447D-9439-2B4DCED0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86867-D5A4-4CDC-BC66-89C0FFFB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6FC7C-1F00-485C-BC63-27598D8D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4CE45-0496-4809-8436-5A09A174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F6AE8-5717-4146-BEC7-EF2FDDFD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B956A-85F9-44A8-9743-072F0DA8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1BA91-0FAC-4123-AA21-8D9CA493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8FEAF-43D1-455C-8BA2-05976319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A059D-41C3-4A93-8C82-E9956AB1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6110A-1784-4FDB-8E6E-2E090481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42136-37D7-4893-9FA6-9FECDEA4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9CF4-F921-4D87-BD10-0403B728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5128D-A292-47A0-B20E-DC100794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9F913-CFB6-444C-8354-8C9DFC40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FB6B5-71A1-4EFC-9A20-1C0699CE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81E97-3A50-44A8-9FE1-6DC957F1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BD109-C278-4275-917A-7C654F50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DC571-B168-45FA-BB38-46E3A189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4ABC3-C781-4F2D-87FC-95B08F70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898AB-90DB-44B0-8258-D6E6A997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93CCE-790B-4815-A646-1DA53AB3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54115-30D6-434D-AE93-E06550A8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A9D-8BDA-4A89-9814-A7B0D469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2D3BB-BCD5-4DE2-A87E-652E7744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26714-9E12-4398-B91D-E44E02AC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19F61-2E1C-4BEB-A4AC-AD169989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F9B6C-77E0-4AEA-AB33-2B411E9C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C69A8-0D9D-404B-88D2-DEC71475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C80AA-8CBE-4A3D-8D2C-08E8F9C5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13BDD-7B01-461E-84DC-6F5D5938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30517-4B23-4C9A-B416-6BAD8C3F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1ADED-29D3-40EF-8CFA-A9C8B73E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89ABB-5F9B-42F6-9BCA-360CA0F2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75AF-25ED-4C7B-BAB7-70236CE6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2E929-A8B3-403E-807F-D277F26B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04333-B5C6-403A-8D23-56962CF6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538EB-C28B-4AFF-9671-631D0CD0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898C2-E6BB-462C-A68C-B2C04C0D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1EF6A-21E5-4CC3-96BA-2FFB2345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FCD02-382B-4C1A-9FB9-98BFA0D9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6CA7D-9B35-4567-AFAD-3C117A31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B260D-E826-479F-B8A4-E1F2C714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78A0F-F5E8-43A6-9DEC-72EE0A47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C606D-09D5-42A9-AEEC-10333C7F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3D78-CB59-4EE3-8987-678C1F93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05A90-EC08-4EDD-8546-8DA5F4D5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C6C85-942E-4A50-BE97-3E6B5391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5A57A-EBAC-44DD-BD6B-7AF83759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95FF5-CA8E-49C8-A6C0-7F311E04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EF312-443A-4D48-BFC2-209BC297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13C38-8B81-4A85-A664-807660DF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9B1C7-590F-4AC4-B71D-7A7E34F2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D6016-0905-4946-AD52-BC6D513D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EDC7A-5082-43C8-BBB8-A5A3FB0C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D766F-8917-49B7-AF73-74E61B6B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111111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523F-9472-4947-90FD-30CD4D17BB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3503-80EB-49B3-9094-AF7D96C7182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00D5-1A9A-4B3C-9EF5-50A3313978D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5A86-6414-458B-9A98-C037AEC6389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FC4A-9394-4F0E-A6C2-5436CA6A577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B748-C8EA-4CAD-BED0-5D9C7063EFA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480E-614F-41B4-9C79-D96348565A9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7902-B271-40C1-AD5B-3BDC5DCE8CE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AA47-EB17-4EB7-AA76-21548C2E2B0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023F-F306-480D-B94A-642BC2AB628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6D82-4F06-43AD-9FF0-08A2188CC8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1510-F375-47B6-8556-5B332292D53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A4AF-618D-4C28-9D9F-12BDFEDA581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51A1-62F4-463F-9DFE-4889C893B06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C2AF-A369-4B74-A824-2999ECFD080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E7A6-8B72-4495-953E-01E81C02DEE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EB2A-8E8B-4A3F-A4F0-B8B5AED7D64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C0E5-9B5B-441F-95DF-2173E1FF90F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F0F1-31E1-43ED-ACB0-1E8AAE9BECA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19DB-B91F-48E8-A995-64E44C63223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A4EA-AF90-406C-BB19-C9EA263A046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3593-2664-4EFF-8285-631BB9ACACC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7DDF-E8F1-4AFD-B5CC-7C3FDA485D8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3064-E23C-4DDC-8B7A-CDF8BBFEB5E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B395-5853-40BB-9CE1-773262223D6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Box 3"/>
          <p:cNvSpPr/>
          <p:nvPr/>
        </p:nvSpPr>
        <p:spPr>
          <a:xfrm>
            <a:off x="5767560" y="3527280"/>
            <a:ext cx="30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需求方：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xxx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设计师：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xxx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时    间：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2012·10-12·16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535" name="矩形 4"/>
          <p:cNvSpPr/>
          <p:nvPr/>
        </p:nvSpPr>
        <p:spPr>
          <a:xfrm>
            <a:off x="5064120" y="3511440"/>
            <a:ext cx="574560" cy="57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536" name="矩形 9"/>
          <p:cNvSpPr/>
          <p:nvPr/>
        </p:nvSpPr>
        <p:spPr>
          <a:xfrm>
            <a:off x="5818320" y="1960560"/>
            <a:ext cx="1782720" cy="1455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TextBox 5"/>
          <p:cNvSpPr/>
          <p:nvPr/>
        </p:nvSpPr>
        <p:spPr>
          <a:xfrm>
            <a:off x="6826320" y="2838600"/>
            <a:ext cx="551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请输入文字</a:t>
            </a:r>
            <a:endParaRPr b="0" lang="en-US" sz="24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Calibri"/>
            </a:endParaRPr>
          </a:p>
        </p:txBody>
      </p:sp>
      <p:grpSp>
        <p:nvGrpSpPr>
          <p:cNvPr id="539" name="Group 4"/>
          <p:cNvGrpSpPr/>
          <p:nvPr/>
        </p:nvGrpSpPr>
        <p:grpSpPr>
          <a:xfrm>
            <a:off x="1779480" y="749160"/>
            <a:ext cx="1757520" cy="1527120"/>
            <a:chOff x="1779480" y="749160"/>
            <a:chExt cx="1757520" cy="1527120"/>
          </a:xfrm>
        </p:grpSpPr>
        <p:sp>
          <p:nvSpPr>
            <p:cNvPr id="540" name="TextBox 10"/>
            <p:cNvSpPr/>
            <p:nvPr/>
          </p:nvSpPr>
          <p:spPr>
            <a:xfrm>
              <a:off x="2212560" y="1816560"/>
              <a:ext cx="10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方正细倩简体"/>
                  <a:ea typeface="方正细倩简体"/>
                </a:rPr>
                <a:t>目录</a:t>
              </a:r>
              <a:endParaRPr b="0" lang="en-US" sz="2400" spc="-1" strike="noStrike">
                <a:solidFill>
                  <a:srgbClr val="111111"/>
                </a:solidFill>
                <a:latin typeface="Calibri"/>
              </a:endParaRPr>
            </a:p>
          </p:txBody>
        </p:sp>
        <p:sp>
          <p:nvSpPr>
            <p:cNvPr id="541" name="矩形 11"/>
            <p:cNvSpPr/>
            <p:nvPr/>
          </p:nvSpPr>
          <p:spPr>
            <a:xfrm>
              <a:off x="1779480" y="1839600"/>
              <a:ext cx="398880" cy="3988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Calibri"/>
              </a:endParaRPr>
            </a:p>
          </p:txBody>
        </p:sp>
        <p:sp>
          <p:nvSpPr>
            <p:cNvPr id="542" name="矩形 12"/>
            <p:cNvSpPr/>
            <p:nvPr/>
          </p:nvSpPr>
          <p:spPr>
            <a:xfrm>
              <a:off x="2301840" y="749160"/>
              <a:ext cx="1235160" cy="100836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矩形 4"/>
          <p:cNvSpPr/>
          <p:nvPr/>
        </p:nvSpPr>
        <p:spPr>
          <a:xfrm>
            <a:off x="5064120" y="3511440"/>
            <a:ext cx="574560" cy="57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545" name="矩形 9"/>
          <p:cNvSpPr/>
          <p:nvPr/>
        </p:nvSpPr>
        <p:spPr>
          <a:xfrm>
            <a:off x="5818320" y="1960560"/>
            <a:ext cx="1782720" cy="1455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6560"/>
          </a:xfrm>
          <a:prstGeom prst="rect">
            <a:avLst/>
          </a:prstGeom>
          <a:ln w="0">
            <a:noFill/>
          </a:ln>
        </p:spPr>
      </p:pic>
      <p:grpSp>
        <p:nvGrpSpPr>
          <p:cNvPr id="547" name="Group 3"/>
          <p:cNvGrpSpPr/>
          <p:nvPr/>
        </p:nvGrpSpPr>
        <p:grpSpPr>
          <a:xfrm>
            <a:off x="1542960" y="244440"/>
            <a:ext cx="1757520" cy="1488960"/>
            <a:chOff x="1542960" y="244440"/>
            <a:chExt cx="1757520" cy="1488960"/>
          </a:xfrm>
        </p:grpSpPr>
        <p:sp>
          <p:nvSpPr>
            <p:cNvPr id="548" name="TextBox 10"/>
            <p:cNvSpPr/>
            <p:nvPr/>
          </p:nvSpPr>
          <p:spPr>
            <a:xfrm>
              <a:off x="1960200" y="1280160"/>
              <a:ext cx="13244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Calibri"/>
              </a:endParaRPr>
            </a:p>
          </p:txBody>
        </p:sp>
        <p:sp>
          <p:nvSpPr>
            <p:cNvPr id="549" name="矩形 11"/>
            <p:cNvSpPr/>
            <p:nvPr/>
          </p:nvSpPr>
          <p:spPr>
            <a:xfrm>
              <a:off x="1542960" y="1334520"/>
              <a:ext cx="398880" cy="3988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Calibri"/>
              </a:endParaRPr>
            </a:p>
          </p:txBody>
        </p:sp>
        <p:sp>
          <p:nvSpPr>
            <p:cNvPr id="550" name="矩形 12"/>
            <p:cNvSpPr/>
            <p:nvPr/>
          </p:nvSpPr>
          <p:spPr>
            <a:xfrm>
              <a:off x="2065320" y="244440"/>
              <a:ext cx="1235160" cy="10083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Calibri"/>
              </a:endParaRPr>
            </a:p>
          </p:txBody>
        </p:sp>
      </p:grpSp>
      <p:sp>
        <p:nvSpPr>
          <p:cNvPr id="551" name="TextBox 10"/>
          <p:cNvSpPr/>
          <p:nvPr/>
        </p:nvSpPr>
        <p:spPr>
          <a:xfrm>
            <a:off x="3565440" y="1201680"/>
            <a:ext cx="2795760" cy="37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请输入文字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TextBox 2"/>
          <p:cNvSpPr/>
          <p:nvPr/>
        </p:nvSpPr>
        <p:spPr>
          <a:xfrm>
            <a:off x="4197240" y="1819440"/>
            <a:ext cx="179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感谢</a:t>
            </a:r>
            <a:endParaRPr b="0" lang="en-US" sz="54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观赏</a:t>
            </a:r>
            <a:endParaRPr b="0" lang="en-US" sz="54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554" name="TextBox 3"/>
          <p:cNvSpPr/>
          <p:nvPr/>
        </p:nvSpPr>
        <p:spPr>
          <a:xfrm>
            <a:off x="5767560" y="3527280"/>
            <a:ext cx="30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需求方：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xxx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设计师：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xxx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时    间：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2012·10-12·16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555" name="矩形 4"/>
          <p:cNvSpPr/>
          <p:nvPr/>
        </p:nvSpPr>
        <p:spPr>
          <a:xfrm>
            <a:off x="5064120" y="3511440"/>
            <a:ext cx="574560" cy="57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556" name="矩形 9"/>
          <p:cNvSpPr/>
          <p:nvPr/>
        </p:nvSpPr>
        <p:spPr>
          <a:xfrm>
            <a:off x="5818320" y="1960560"/>
            <a:ext cx="1782720" cy="1455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58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111111"/>
                </a:solidFill>
                <a:latin typeface="Calibri"/>
              </a:endParaRPr>
            </a:p>
          </p:txBody>
        </p:sp>
        <p:pic>
          <p:nvPicPr>
            <p:cNvPr id="55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11111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7-24T07:56:17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