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72F5-DF5A-46D6-A3BC-950D1C82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28E7-40F3-411E-843F-BEFF0485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8EE8-A1E8-42EE-A819-F837FFD0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5FA8-2CC0-4C4C-ABA1-D55ED1D1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463E-02E8-4685-AD94-6A8D972B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28A5-F4B5-4162-AE50-15835CE9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02F4-5381-44D9-AF17-C5F56440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8AD4-2803-4474-B53E-F80AD9FF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EB59-9ADD-4F5C-B7DE-D8E3609B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C321-D049-408C-B7E0-530FA7C1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0E6B-3874-4BA4-AADB-844BE994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F937-F61B-4171-BC92-E8D2B2B7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3388-2CCC-4905-9495-0911767B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E005-2B8B-42CB-9835-B20106C8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B7B5-2E12-4199-A748-59B35177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AFCA-03BC-4EC0-996A-ACF631DA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5198-D8AD-4AF3-A72E-32C2FA12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DA79-1466-4899-96F9-89821040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2F67-71AB-4B8F-A5F9-4B0C05F3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B42F-D4AA-4BFF-AD92-F3E5928C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6829-98C0-41EF-BED6-2AE799C2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607D-A8BC-4F23-8306-1FBB34FC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E635-7005-4D93-8307-651BF8C8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1CBB-061E-48F2-83C6-EC987782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"/>
          <p:cNvPicPr/>
          <p:nvPr/>
        </p:nvPicPr>
        <p:blipFill>
          <a:blip r:embed="rId3"/>
          <a:srcRect l="6873" t="0" r="0" b="0"/>
          <a:stretch/>
        </p:blipFill>
        <p:spPr>
          <a:xfrm>
            <a:off x="0" y="3351240"/>
            <a:ext cx="3419640" cy="3506760"/>
          </a:xfrm>
          <a:prstGeom prst="rect">
            <a:avLst/>
          </a:prstGeom>
          <a:ln w="0">
            <a:noFill/>
          </a:ln>
        </p:spPr>
      </p:pic>
      <p:sp>
        <p:nvSpPr>
          <p:cNvPr id="2" name="椭圆 14"/>
          <p:cNvSpPr/>
          <p:nvPr/>
        </p:nvSpPr>
        <p:spPr>
          <a:xfrm>
            <a:off x="3060720" y="5518080"/>
            <a:ext cx="28728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直接连接符 16"/>
          <p:cNvSpPr/>
          <p:nvPr/>
        </p:nvSpPr>
        <p:spPr>
          <a:xfrm>
            <a:off x="3060720" y="6453360"/>
            <a:ext cx="6083280" cy="1440"/>
          </a:xfrm>
          <a:prstGeom prst="line">
            <a:avLst/>
          </a:prstGeom>
          <a:ln w="381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1097-0AFD-4119-882C-DEF9ED6BCAE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B17A-64B6-4921-9A55-71727DEDB69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直接连接符 19"/>
          <p:cNvSpPr/>
          <p:nvPr/>
        </p:nvSpPr>
        <p:spPr>
          <a:xfrm>
            <a:off x="0" y="3718080"/>
            <a:ext cx="9144000" cy="71892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直接连接符 25"/>
          <p:cNvSpPr/>
          <p:nvPr/>
        </p:nvSpPr>
        <p:spPr>
          <a:xfrm>
            <a:off x="0" y="3870360"/>
            <a:ext cx="9144000" cy="71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F842-6195-407F-A164-2166F0EB00A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3925-5B7C-48A3-BED6-622EF4553D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rcRect l="0" t="6576" r="0" b="0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rcRect l="0" t="93172" r="0" b="0"/>
          <a:stretch/>
        </p:blipFill>
        <p:spPr>
          <a:xfrm>
            <a:off x="0" y="5597640"/>
            <a:ext cx="9144000" cy="1260360"/>
          </a:xfrm>
          <a:prstGeom prst="rect">
            <a:avLst/>
          </a:prstGeom>
          <a:ln w="0">
            <a:noFill/>
          </a:ln>
        </p:spPr>
      </p:pic>
      <p:sp>
        <p:nvSpPr>
          <p:cNvPr id="90" name="矩形 22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gradFill rotWithShape="0">
            <a:gsLst>
              <a:gs pos="0">
                <a:srgbClr val="c4bd97"/>
              </a:gs>
              <a:gs pos="100000">
                <a:srgbClr val="c4bd9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15"/>
          <p:cNvSpPr/>
          <p:nvPr/>
        </p:nvSpPr>
        <p:spPr>
          <a:xfrm>
            <a:off x="0" y="4724280"/>
            <a:ext cx="1763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7"/>
          <p:cNvSpPr/>
          <p:nvPr/>
        </p:nvSpPr>
        <p:spPr>
          <a:xfrm>
            <a:off x="7667640" y="4724280"/>
            <a:ext cx="1476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15772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广州系列模板之孖辫电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6227640"/>
            <a:ext cx="640080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9T21:02:00Z</dcterms:created>
  <dc:creator>果因PPT工作室</dc:creator>
  <dc:description>广州</dc:description>
  <cp:keywords>XS-普屏 4：3;SC-淡绿色;BG-浅色;DH-静态</cp:keywords>
  <dc:language>en-US</dc:language>
  <cp:lastModifiedBy>a</cp:lastModifiedBy>
  <dcterms:modified xsi:type="dcterms:W3CDTF">2014-08-08T04:44:56Z</dcterms:modified>
  <cp:revision>5</cp:revision>
  <dc:subject>TP-地理空间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