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4CC-AD16-4C49-BB38-E868C069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812-0C22-4C9D-BB31-F2EE0BEC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7BEE7-0A7D-4376-9501-8949C74B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6FB77-67FA-42B6-8F91-562F87E2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CEFEB-921D-480A-997E-12BE808F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1885C-F137-4EDD-B975-A46130B1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DFDE2-8932-4FFE-AA19-C9B2AD2A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B6A8C-1B4A-43BA-B9A7-D6AFB5B1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55747-622C-4ACD-B39B-20AF1A52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E1525-1072-409D-A7FA-71DAE20F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0200F-A130-4C8B-AA8B-2BD650F0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7BDC8-5108-4254-B900-52424BB2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7CF-20B8-4AF6-BE23-36ACBA7B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A0F23-2C09-444F-B794-C4A4E282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700E2-79E5-4C64-B04C-9D034FAF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D5323-D1AD-4EC0-8C36-75070C6E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CFE17-FF4F-42A8-8DE4-0F24A12E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E2B32-C1D3-41B6-8635-BFB6B168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1FA2D-BF50-4CE5-82DB-D9AB62B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3AD15-30CD-49AE-9636-2D70EC9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21084-7DBF-4B22-B114-13FD3A8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343A0-7F85-40F6-ADAF-BD32586C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C650E-C91C-4737-B792-ABAA5173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5BE-B419-4D2A-87C3-95192812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5FD46-6F92-4A9B-B8B0-C2BC6D95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83BC9-64F8-4E54-A90E-61740154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4BD9E-BBC3-4B28-8205-8FEAA6CA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D02A3-D1C5-4439-A196-A8740EA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F6594-F652-4188-9328-58E891B8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3A948-C25B-455D-B48B-C263CD1F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47B84-CB62-4614-8A38-5DC729D6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E847D-FAD3-4604-A764-0EB78D4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6C531-5C11-41C2-8048-6E0FA994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84BA6-C5E7-4C42-BEA0-4BF69629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4234-DA9A-4463-A52D-C1E6BE2F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07BEB-855F-467E-A485-0013BC41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976B8-CCAE-4CCA-AB6B-96B2D292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B4A4D-80EE-48CD-B4DC-4FF29603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AE735-9F02-4BD3-88B8-950D13A9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8F58A-760B-40C9-B25A-DE3FFFBB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FD165-BE2D-473B-9560-1D0DC1D1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8D460-6C57-4C8A-A7E7-B29EF6AD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DC7C1-002E-4687-B369-6D795EC1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E8838-1AF9-4F7E-B36C-5905EF83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3972D-251E-4A26-9101-3636B60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C996-23A3-4AB7-A8C9-4F1D4B54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E1FAB-3A07-4809-8B7A-CF1A4EEA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0D88A-A877-425F-834A-034A2202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40D1E-9303-4659-A653-5D247AB3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DB015-7946-4896-82AB-BC33ABEF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5517F-64D6-4824-80BE-5726C178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56A2E-4A67-4A94-86A1-A65B27E3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CE42A-1055-4B57-8939-D028E142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906EE-B169-41FF-BAEF-6EBDBF6D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B8482-8154-4F0B-BB19-FC83E8C8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7D94E-F165-4D84-BBC4-5011BDE7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55DC-26DB-4AE4-AD76-C87183CE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906AF-C32F-43A8-90BF-31B2801F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34FF2-DD4E-475E-BA5E-E758CF8A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C239A-69E8-45A7-AE48-D510DCF7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58625-124E-4559-A919-DF6AA7C0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E160B-9BFC-4689-9845-69D21845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3CF7D-BBCB-471D-B580-66484B69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82B5A-691A-4527-BA93-507083C7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9CA84-AB1A-4680-BCB6-05F9B89B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EA36C-0C44-4D99-8FC1-A3F01AE8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06AC5-FF97-46A6-9B7E-CBC8B6EE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B820-7DED-4D0A-BBAA-2250EDCC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F0667-86FE-4F66-9212-528679C9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9DED1-1E4D-46BF-858D-70D56000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9EB33-D290-45BC-AE84-0721AF02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FB667-837A-46D9-A68D-12FE807D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A54D2-D82D-4A19-B412-F687AFFC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B48AD-3924-471B-A1E6-D878DE90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84253-08A6-4799-A408-240AFD63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0FB65-1D35-4BC4-ADB9-B86E0A55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03B62-DB31-419F-9C67-5F100004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3633-A13D-48E7-BBF0-24C1B7AC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B154-D270-4994-AD78-260B8F2E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9E54-112C-47E3-A770-6406382B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A29-7AC8-42EF-B348-3DB1BC5E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3FEB-D9CF-4516-9024-7A23AF50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EC4A-DF08-4DE1-B8AD-EE286D29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CA3B-B012-475F-823A-E961FF9A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78FB-78BD-4072-A538-6AB5C890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5CBF-F166-43F6-9584-DD9406D4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7CEF-FBAE-4406-8007-3A339D15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99E4A-69A8-4790-8E0F-16088DCD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0433-48CC-4AA5-9134-F8C1125E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1C04-7A83-4793-B02D-D0D00119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443D-215E-4E7F-ABD2-739132D9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AD7-287A-47D8-B846-96849044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E534-6856-45A1-B5ED-5AE5FEAB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0046-4151-4B78-9DDC-584BCEA6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5CA1-CE48-48DA-A748-4C89C166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ED9C-B345-4C00-B4E5-72D5BB41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42C6-5B32-4543-9485-92E12938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45D9-61AC-4B53-A78D-37518A9E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0C14-2A9A-414E-A99D-64E90272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81C04-06CF-4383-8172-05B4DA72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FA440-2790-42DA-BF46-86C9D8AA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4CF2-7E0F-477B-8758-65E96804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535-0BD2-4786-B45B-5C537C2D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24AF-1D32-4DD9-8B0B-84209480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F5DBC-D150-4792-96C2-C4A978EB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9C0B2-EDF4-4D0F-BF03-D23DA0BD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4C0A-3446-4757-ABE1-5BFA4B5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3C54-5561-4FDF-B6C9-0F52E03E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2E01-8B17-4335-BD8A-4C7CFF6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57C4C-0D8F-474A-A225-B7BF7918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63935-2F7C-4E1B-B262-A6CDD3FD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5DEEC-DB03-4F69-89E2-12BE013A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6D5A8-AEB4-4A7C-9F68-1125AEF0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887-01AD-4AD3-A57F-344ACB1F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4162B-F69C-4FAF-8845-EF3E5614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1BD8-022C-4AAD-BC2D-192E4EF2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8A3F-2389-4CB2-96E6-5A2FDD38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DCD7A-486B-4371-998A-4ED49F06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5F615-5EE8-4575-A97B-ABA7B396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6166C-2FF3-43CE-914B-3ACB8D2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3D016-6981-475C-A0D2-EBE6C125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B512B-5E88-4D68-A7CB-7D0D14CE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6C70E-2326-4BD9-81C0-38E9B5CF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E3CAC-6622-468F-8542-1DE5D28A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D95-E6E6-418F-826F-E96B67F0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F1F0B-E5DB-4992-9711-96E59C7D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CEA20-B4CF-4B65-8BF5-CB652251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9BF73-19BE-4D75-B43B-51150AB4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5455D-FDC5-4A30-B88F-87EC58B5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E6025-166C-414F-992A-8DF69505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1A778-7E44-4737-86AF-0299922C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C9E92-57BB-4A66-94FE-E92D609B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89204-7152-4577-801B-16BFB142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6F24E-BF58-41DE-9B40-7B29E626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2D21D-49BB-4A04-86C1-8774988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1A7-B428-4B12-94A0-643E6754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7856F-0D67-486F-8277-20824882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804BC-1581-44ED-A265-351433B2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2824F-FF3C-47B4-84D5-167FC1DE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4B585-9E9E-4C89-ABDE-7C67DCC3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FEB7-DA24-4726-90E2-1B612680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AE2BF-9C8C-47C7-9806-BE4E0C19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4BF57-8158-4EAD-8824-158E003D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0CBEC-DC6E-4266-B76E-8100AE37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A29C5-36C5-4CE1-A74B-4487CC7A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03FD0-D510-4202-AB6A-21BE433B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185-330A-4EF3-A16E-B49C804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62057-2C56-4CF5-A65B-296986E2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EDBB6-67F2-4116-8F4F-5298DD41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F9AB2-D334-4C1C-97AB-D8CEE101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DA454-08AC-46C6-AEB2-B70F268D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B6847-33B5-40B5-97DE-F72912F3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6570D-B57C-488C-AB6A-BB7A2BD8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61EA5-8B2A-4C88-83C7-916B5291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19D3D-C2A9-40E4-8E21-FD560126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9B766-22C0-48BD-A82E-D0E6DC64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E2639-06D7-4396-B6E1-55EAB949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1C4-4FF3-4F96-8575-77698056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68B8C-7BFE-4C8A-B7AF-1BE46B64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8D93-416E-4E0E-8BE6-69E6B4B1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CEA7A-4009-4C67-9F54-7FEEE4A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0BFAF-C154-49DD-AC83-73A90A42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76FFB-0AC2-40C0-9028-1D4828F7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BF9A8-CC02-4DF7-B713-8ABD14C5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6E8DE-AB1A-43AD-A775-60F8725F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730D3-81C1-43A4-81D1-FA027D8F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2194E-5FE6-4324-83C1-DC69D4FA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AAD68-71C8-4EB3-BAC6-ED5D8662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9310-6863-4E8A-BA51-F26356F8B093}" type="slidenum"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FAAA-DFB4-4E7C-90BB-2AB1B1DAF90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F73D-D781-4E1F-972D-FCCE74CFE3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C3AF-ED1D-47A8-AFF8-F585EAF1F0F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14B6-57B3-4CD9-9CC2-C17C5734BC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DDD7-118D-4DD6-9D1A-F8F83BDDD94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5526-49C1-412D-A798-F2A12FFBBB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7DC2-EC29-41E7-9363-9B5173522F2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34FD-0CAE-4B77-B66D-B33E5822D1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882E-F2DD-4D75-90CB-BC2BF00ECE6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6ED0-2480-4F80-82EA-12BD24BD9A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2E72-9A0D-40DE-86F8-34FC3B81DBF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CA74-32E9-48A9-AE9F-78EE2B893A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D2D7-E580-4FE2-8726-6494C68F4AD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8A28-905B-44B6-BD83-7EC24B53D1C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A674-91DB-4D1F-86C5-A5396C0A6D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1782-ED8E-4979-9AD5-37492C89676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3BAD-AB27-4726-93D3-3949130852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A4E4-B20E-43D1-BEE0-CCF11E66212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7B5E-7602-45CB-A942-0A82B9CF0D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3826-1F05-420E-8735-8D8FAA81F15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DA21-ACA5-4FBA-8C3C-CAE55D3CF7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1CC2-CC9A-42D9-AEC3-5BB1E5C7AFE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D3F8-F0E6-49E5-BEB6-3226D8CE1B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36B8-6CEE-4241-B51B-F53804B66EB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4BFA-BEB5-4D9F-9D29-505794CD8A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and came the rain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0" y="4723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0" y="4693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免费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51Z</dcterms:created>
  <dc:creator>WPS Office</dc:creator>
  <dc:description>WPS Office</dc:description>
  <cp:keywords>WPS Office</cp:keywords>
  <dc:language>en-US</dc:language>
  <cp:lastModifiedBy>a</cp:lastModifiedBy>
  <dcterms:modified xsi:type="dcterms:W3CDTF">2015-01-14T13:43:26Z</dcterms:modified>
  <cp:revision>5</cp:revision>
  <dc:subject/>
  <dc:title>and came the rai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