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3.png" ContentType="image/png"/>
  <Override PartName="/ppt/media/breeze.wav" ContentType="audio/x-wav"/>
  <Override PartName="/ppt/media/applause.wav" ContentType="audio/x-wav"/>
  <Override PartName="/ppt/media/drumroll.wav" ContentType="audio/x-wav"/>
  <Override PartName="/ppt/media/arrow.wav" ContentType="audio/x-wav"/>
  <Override PartName="/ppt/media/image19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type.wav" ContentType="audio/x-wav"/>
  <Override PartName="/ppt/media/image17.png" ContentType="image/png"/>
  <Override PartName="/ppt/media/laser.wav" ContentType="audio/x-wav"/>
  <Override PartName="/ppt/media/image13.png" ContentType="image/png"/>
  <Override PartName="/ppt/media/image11.jpeg" ContentType="image/jpeg"/>
  <Override PartName="/ppt/media/image2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073-0E6A-4BDE-9224-6E22658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F57-0A99-44C2-82AD-500AA562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7676D-45EF-4EC1-99C3-5147A81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FC8A6-D1B4-4C6F-B991-C4CD758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946C-3054-4FA1-8899-D69DDE2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3D39-8CFE-41DB-8477-40E101D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D8932-60E7-42BF-AEFF-8E7F6BC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742E4-06B4-4280-B82B-E6D2A1F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AEEF-6872-4AAB-8D23-919A159B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ECCC2-D990-4779-8569-0BE90B95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CAD89-F4C6-496E-857E-E98EA55B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30946-CE11-414F-A567-4AE37DAD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8FE-3F48-4BD9-93EE-618682FA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F5013-B7A8-4226-AC70-FA2C399E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6ACE3-0257-46DF-9A86-CC204ED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834D-E164-4B61-9598-F856B7C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E38A6-A486-4D55-BE6C-185D052C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3FC4-A025-4EA1-801C-0493680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56EC6-5CC6-41C9-8E82-498EAB6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F5730-9CFD-4962-8D94-1FC544A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B732-E547-484B-88DF-B2CF9A0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7F792-4888-4452-B7CA-17103DC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28934-6DDF-454B-96B1-565874F8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713-5A98-4A6D-B100-C0569181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F6D09-7FDD-427A-AD29-FB725A34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FF17-0766-4CFF-A67A-A10FED95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F8595-57F7-478D-8E47-BC3FE855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710E-923B-48E0-922D-CD72AB1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B04E-C0B5-41D8-BFAF-0BE05B2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00C11-B7E5-4B9B-954D-526AC7EE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80F02-1037-4940-8A34-FE292D8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00D9-84C4-4D14-84C5-38520E0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1BF90-5A02-4460-BD2A-9E9EDAA2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05FF3-0CBE-4245-8436-82BE540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24D9-748B-4AB6-B777-1CB69FC5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C2DF-A593-4BC1-B052-F3890F8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AB10A-42B1-4143-AAC8-CF224F6D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CAF4F-E1D9-46F0-88CC-08589EC3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34AC2-1D29-4FE8-ACC3-E0EBAEB3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D928D-BC3E-48DA-B5D6-F3822A6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0A023-24C5-4BA0-B041-C30384E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AB754-4AE7-4F8C-834A-1F1A90F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51EB4-4867-4B5B-BA24-414E236F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394E0-CB50-496F-A296-6BBE4D82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04416-DAB3-4A60-85B4-061168A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0E18-21C3-41B1-BFA6-739A358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967AE-8BF1-4D79-9977-6BB26C5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93544-75A9-41D8-A205-7A5736D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C0539-D89A-4800-A881-EC713E1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A73AC-B883-402D-935B-94558617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3158E-E659-4220-8E36-EC6E723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51EA9-B068-44EB-AA02-B11087B3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D8EAE-A2EE-4D5F-9AF3-414FC43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5D74-F35D-471F-A99C-CAD1CAE6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84BDA-FEDA-49AD-89D2-6B05EB9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21D23-9329-41F2-9F27-E6C0E00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6D26-EE4D-455C-B774-984302B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26F4D-5D59-40C5-814C-2F3C18CE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62530-D71C-48C3-B2C5-43222E5B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5C9C7-2388-4157-B711-A19B3D4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31442-5362-4A09-A777-8CBB19A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FB406-0BC6-477D-83EB-F4D9FA4D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66835-6492-4282-9E06-FC27876A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EB9F4-FBED-4139-9246-B73CCA00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943-AAC2-4CFB-AB1C-BE8BDCD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E81-0016-4160-8386-9153BAA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164-7261-46A4-9891-51B6FD0F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1B6F-171C-4D2E-97FE-082A987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7FC-68A9-43C3-BE17-7F36AC4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078-6B2C-4F67-9175-8CB7807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4150-A520-404F-8A67-94342DF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A0A-26C9-4B6C-A36C-AD14107A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6B8C-1A5C-41D5-905F-07086FA4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D072-797D-4CE9-80D1-7145AAA5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C249-4515-439B-8564-F9CC9EE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59FA-8039-4159-A7AE-0C7EF7D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1143-F410-488D-947B-0B90D8A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4FA8-80D8-4BA0-8241-2434F2B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8858-92C6-4C11-A608-A3BECDB6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6D2-D8B2-45FB-AF34-C800FC0B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173C-6141-4599-8E2D-2B5FA759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DA5E-17B0-4BA5-BDAC-71E817D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91DC-7ED2-4402-9C8F-44E49AF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4D4E-726F-4764-8880-7902E01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690A-9761-4E4D-AB8E-A9E53A1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AF08-4A59-42EB-81DF-9D7752E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969A-078D-475A-BB91-F32376CB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4A41-CCF9-4A7C-9DBF-1FFCF17D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8E79-618D-4BBB-9FEF-7458D88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89A5-8A11-4B1F-9CC2-D8E0FA2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411-026E-49AA-94D0-7A5210F8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FC4A-0307-437B-B761-947C0C5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063E-4CBF-4C0C-813D-F05D0D27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0F78-6715-4D75-8B57-1526FE5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DCF1-E1E3-48A5-9324-4F3E6C9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44EC-1664-4794-8CD8-3561434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1C6F-1C09-4C4D-815C-DADACA9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29C9-E46C-4CB7-9B6C-D7C995BE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8D46-7788-4562-9345-D151B00E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0C36-E133-4041-9ACD-5975F21C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F418-1F45-4492-880C-BF6BCE99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E7B-4FA2-4168-9A6E-EA072DA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85E7-0CE1-427D-B5FA-9767615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86273-33DF-49B8-92EA-12B2DCD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1935-1FE2-41A5-A438-E96243E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498FE-87FD-400F-937D-2E00E8A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193B-6DAD-435E-875C-B954DDE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3349-841D-4E70-A698-D7A7828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3716-91AD-49DD-A53A-5B4E685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7CA8-4E01-4E25-BA00-2C09FEE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36AF-4A75-446A-B475-07A784BC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37C4-ECAA-4B1B-AF94-CB3BCF9A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84-0618-4C1F-80F1-F34EE22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EF44-5F44-4A62-B9B9-0184BDA7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857F3-EC49-45A6-843C-3A36DC26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1F6A-D7B1-464A-9B05-09DC862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D5348-A40A-4E10-BBBC-EB54D4B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662B-EBD9-4F00-8862-B4FA3B0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A0FE-5A33-436C-A70F-4D94BA8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2918-C8EA-4553-AAD2-5D54B87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70850-0FEA-42DE-A368-CF0A425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2D38-6078-4134-8F42-1C72CC1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5FE1-A985-43EA-ACA3-C4829C2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4E5-A8AD-414C-AE3A-4200D17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4895B-5D08-4C17-A3B7-7B78476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16B6-FF27-4128-82AC-ABCF1308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7406-6BE4-4E69-A7CD-A958533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3B1D-2451-47B1-B167-11E3A49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A6E59-D9EC-4C3D-938E-A0E07EEE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DC0A-CFC2-4D59-8B9C-4F1AA6A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C884-45DF-4EC9-9BEA-2753D56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139D-FAF1-4225-9663-7BCD6AD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DEA98-2B70-40A1-8EAA-EC8AEEE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DE1D-206D-49DC-B68C-FD64651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675-6A06-40EA-978F-9E5EE4C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0FD0-325B-4EB9-B247-D58423D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7E62C-3CB5-45B8-B7A2-870B9C1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27008-0ADE-467A-A1A2-9077724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CD89-7CBC-4CAA-902B-ABE74F73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AF9F-E470-4C8A-B9AE-8AB7E9A4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86135-2AD6-4F8D-ADE8-F9FA366C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65885-0589-40FC-8133-0D65C70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CA54-67C9-49D8-B983-6F921997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768AC-A03C-493E-A6DC-CF5C507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7A7FD-08FB-4980-AF44-26F96B2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AAB-D28B-4C3C-A6C7-6A579D27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4864-844C-4398-B505-87A08944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AEFD-3E3C-4B8D-9B1E-BC423ED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EBF19-5FC1-46E5-81EE-E5BE0C4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DA73-CF26-413E-A63D-EF38E22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91E0-8C21-4662-85A8-3BA8516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436A-99EF-481A-99DE-168272A1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D66D6-3443-4AD8-8909-83364D90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9ECB5-A23E-43AF-AEB6-7D2C70DD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813B-C784-43AE-8063-4E80454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A0C9D-536B-41F0-911B-B7E9D718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4783-DA76-4B94-9D48-3447D6F268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7E9-19FC-47BB-998C-C61366428F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70C-3600-4851-9C8F-7FCA7E11158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2B96-9160-4A2C-8BD4-6BDC4AEF58E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A5C2-8328-4408-98A1-9C1EF4AE1D8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13B-D394-4E3F-8F90-EB7F29CEED9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645-3333-4FBA-838D-CE2324E9C4B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CEE-AF28-4F19-B41F-1CF3763BE3F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5C4-1BE7-475D-B792-E771E6737DF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136-1049-4C3E-BEFF-2095E72D82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2F2-DAD1-405F-B834-CFBD509DD0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CF7-CA05-4305-B3F7-7F516824CB4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A16-8250-45E9-A40A-E9911DC69B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A099-75CC-4BCE-AF29-93525DFA050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EAF-1896-4E44-9DC1-7BCCB105D56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2D4-4968-459D-9914-F8ABFBE977E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9346-8B22-460B-AEBB-572285FD99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EF8C-4F81-47DE-B09C-79DCB0F1D6B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BC0-7904-4FE4-B24C-DE6971A22A2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CC0-6DBE-4E5B-AC7F-8F279CB2859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1CDE-DA5D-4703-A30A-9D327162AA7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BAE3-D025-4C53-B669-888FA2412BB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668-B985-4864-BDA1-8B33F5D92C5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7290-B180-463E-99AF-727D3608B78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D65-7000-4B8C-B078-9BD32EBB8B2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breez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wind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9.png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1"/>
          <p:cNvPicPr/>
          <p:nvPr/>
        </p:nvPicPr>
        <p:blipFill>
          <a:blip r:embed="rId1"/>
          <a:stretch/>
        </p:blipFill>
        <p:spPr>
          <a:xfrm>
            <a:off x="-712800" y="-30240"/>
            <a:ext cx="13561920" cy="7807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944960" y="414036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【我创意</a:t>
            </a: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我作主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9"/>
          <p:cNvPicPr/>
          <p:nvPr/>
        </p:nvPicPr>
        <p:blipFill>
          <a:blip r:embed="rId2"/>
          <a:stretch/>
        </p:blipFill>
        <p:spPr>
          <a:xfrm>
            <a:off x="5308560" y="2222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9副本"/>
          <p:cNvPicPr/>
          <p:nvPr/>
        </p:nvPicPr>
        <p:blipFill>
          <a:blip r:embed="rId3"/>
          <a:stretch/>
        </p:blipFill>
        <p:spPr>
          <a:xfrm>
            <a:off x="5423040" y="3656160"/>
            <a:ext cx="136836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4"/>
          <p:cNvPicPr/>
          <p:nvPr/>
        </p:nvPicPr>
        <p:blipFill>
          <a:blip r:embed="rId1"/>
          <a:stretch/>
        </p:blipFill>
        <p:spPr>
          <a:xfrm>
            <a:off x="-23760" y="-22320"/>
            <a:ext cx="12247560" cy="6912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7"/>
          <p:cNvPicPr/>
          <p:nvPr/>
        </p:nvPicPr>
        <p:blipFill>
          <a:blip r:embed="rId2"/>
          <a:stretch/>
        </p:blipFill>
        <p:spPr>
          <a:xfrm>
            <a:off x="4826160" y="2139840"/>
            <a:ext cx="7613640" cy="3807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6"/>
          <p:cNvPicPr/>
          <p:nvPr/>
        </p:nvPicPr>
        <p:blipFill>
          <a:blip r:embed="rId3"/>
          <a:stretch/>
        </p:blipFill>
        <p:spPr>
          <a:xfrm>
            <a:off x="7643880" y="1189080"/>
            <a:ext cx="4070160" cy="45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11"/>
          <p:cNvPicPr/>
          <p:nvPr/>
        </p:nvPicPr>
        <p:blipFill>
          <a:blip r:embed="rId4"/>
          <a:stretch/>
        </p:blipFill>
        <p:spPr>
          <a:xfrm>
            <a:off x="9244080" y="1620720"/>
            <a:ext cx="253800" cy="24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11"/>
          <p:cNvPicPr/>
          <p:nvPr/>
        </p:nvPicPr>
        <p:blipFill>
          <a:blip r:embed="rId5"/>
          <a:stretch/>
        </p:blipFill>
        <p:spPr>
          <a:xfrm>
            <a:off x="11385720" y="4940280"/>
            <a:ext cx="339480" cy="3351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1244520" y="313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中倩简体"/>
              </a:rPr>
              <a:t>目录</a:t>
            </a: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细倩简体"/>
              </a:rPr>
              <a:t> </a:t>
            </a:r>
            <a:r>
              <a:rPr b="0" lang="zh-CN" sz="4000" spc="-1" strike="noStrike" baseline="18000">
                <a:solidFill>
                  <a:srgbClr val="00ccff"/>
                </a:solidFill>
                <a:latin typeface="Boring Boron"/>
                <a:ea typeface="Dotum"/>
              </a:rPr>
              <a:t>Catal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992920" y="35067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团队合作的重要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6729480" y="22050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的计划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424560" y="2852640"/>
            <a:ext cx="234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计划的前瞻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5319720" y="49482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认真做好工作总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599080" y="4237200"/>
            <a:ext cx="41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中的创新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3" descr="3"/>
          <p:cNvPicPr/>
          <p:nvPr/>
        </p:nvPicPr>
        <p:blipFill>
          <a:blip r:embed="rId6"/>
          <a:stretch/>
        </p:blipFill>
        <p:spPr>
          <a:xfrm>
            <a:off x="339840" y="289080"/>
            <a:ext cx="1628640" cy="6681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4"/>
          <p:cNvSpPr/>
          <p:nvPr/>
        </p:nvSpPr>
        <p:spPr>
          <a:xfrm>
            <a:off x="9221760" y="6242040"/>
            <a:ext cx="294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方正中倩简体"/>
                <a:ea typeface="方正中倩简体"/>
              </a:rPr>
              <a:t>WPS</a:t>
            </a:r>
            <a:r>
              <a:rPr b="0" lang="en-US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 office </a:t>
            </a:r>
            <a:r>
              <a:rPr b="0" lang="zh-CN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 </a:t>
            </a:r>
            <a:r>
              <a:rPr b="0" lang="zh-CN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给您不一样的工作体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副本"/>
          <p:cNvPicPr/>
          <p:nvPr/>
        </p:nvPicPr>
        <p:blipFill>
          <a:blip r:embed="rId1"/>
          <a:stretch/>
        </p:blipFill>
        <p:spPr>
          <a:xfrm>
            <a:off x="-25560" y="-39600"/>
            <a:ext cx="12249360" cy="6881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1"/>
          <p:cNvPicPr/>
          <p:nvPr/>
        </p:nvPicPr>
        <p:blipFill>
          <a:blip r:embed="rId2"/>
          <a:stretch/>
        </p:blipFill>
        <p:spPr>
          <a:xfrm>
            <a:off x="-23760" y="3294000"/>
            <a:ext cx="12245760" cy="359892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4"/>
          <p:cNvSpPr/>
          <p:nvPr/>
        </p:nvSpPr>
        <p:spPr>
          <a:xfrm>
            <a:off x="7013520" y="3073320"/>
            <a:ext cx="4753080" cy="443160"/>
          </a:xfrm>
          <a:prstGeom prst="flowChartTerminator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5" descr="1"/>
          <p:cNvPicPr/>
          <p:nvPr/>
        </p:nvPicPr>
        <p:blipFill>
          <a:blip r:embed="rId3"/>
          <a:stretch/>
        </p:blipFill>
        <p:spPr>
          <a:xfrm>
            <a:off x="-25560" y="-39600"/>
            <a:ext cx="6423120" cy="6554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3"/>
          <p:cNvPicPr/>
          <p:nvPr/>
        </p:nvPicPr>
        <p:blipFill>
          <a:blip r:embed="rId4"/>
          <a:stretch/>
        </p:blipFill>
        <p:spPr>
          <a:xfrm rot="20040000">
            <a:off x="1146240" y="795240"/>
            <a:ext cx="2873160" cy="11779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8112240" y="3111480"/>
            <a:ext cx="28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【我创意</a:t>
            </a: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我做主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3403440" y="3813120"/>
            <a:ext cx="6936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    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遵循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Windows 7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主流设计风格的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2012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新界面，赋予你焕然一新的视觉享受。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WPS 2012</a:t>
            </a:r>
            <a:r>
              <a:rPr b="0" lang="zh-CN" sz="2400" spc="-1" strike="noStrike">
                <a:solidFill>
                  <a:srgbClr val="e7e6e6"/>
                </a:solidFill>
                <a:latin typeface="方正中倩简体"/>
                <a:ea typeface="方正中倩简体"/>
              </a:rPr>
              <a:t>充分尊重用户的选择与喜好，提供双界面切换，用户可以无障碍的在新界面与经典界面之间转换，选择符合自己使用习惯、提高工作效率的界面风格与交互模式。让老用户得以保留长期积累的习惯和认知，同时能以最小学习成本去适应和接受新的界面与体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6662880" y="1409760"/>
            <a:ext cx="554652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PS 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是金山软件公司的一种办公软件。在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系统出现以前，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系统盛行的年代，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曾是中国最流行的文字处理软件，现在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最新正式版为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PS2012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，另外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WPS 2009</a:t>
            </a:r>
            <a:r>
              <a:rPr b="0" lang="zh-CN" sz="20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专业版也已面世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9221760" y="6242040"/>
            <a:ext cx="294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方正中倩简体"/>
                <a:ea typeface="方正中倩简体"/>
              </a:rPr>
              <a:t>WPS</a:t>
            </a:r>
            <a:r>
              <a:rPr b="0" lang="en-US" sz="20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 office </a:t>
            </a:r>
            <a:r>
              <a:rPr b="0" lang="zh-CN" sz="20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给您不一样的工作体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4"/>
          <p:cNvPicPr/>
          <p:nvPr/>
        </p:nvPicPr>
        <p:blipFill>
          <a:blip r:embed="rId1"/>
          <a:stretch/>
        </p:blipFill>
        <p:spPr>
          <a:xfrm>
            <a:off x="-23760" y="-22320"/>
            <a:ext cx="12247560" cy="6912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13"/>
          <p:cNvPicPr/>
          <p:nvPr/>
        </p:nvPicPr>
        <p:blipFill>
          <a:blip r:embed="rId2"/>
          <a:stretch/>
        </p:blipFill>
        <p:spPr>
          <a:xfrm>
            <a:off x="2627280" y="1746360"/>
            <a:ext cx="4862520" cy="3806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1"/>
          <p:cNvPicPr/>
          <p:nvPr/>
        </p:nvPicPr>
        <p:blipFill>
          <a:blip r:embed="rId3"/>
          <a:stretch/>
        </p:blipFill>
        <p:spPr>
          <a:xfrm>
            <a:off x="6432480" y="1733400"/>
            <a:ext cx="6308640" cy="33418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16"/>
          <p:cNvPicPr/>
          <p:nvPr/>
        </p:nvPicPr>
        <p:blipFill>
          <a:blip r:embed="rId4"/>
          <a:stretch/>
        </p:blipFill>
        <p:spPr>
          <a:xfrm>
            <a:off x="7534440" y="3983040"/>
            <a:ext cx="3477960" cy="927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15"/>
          <p:cNvPicPr/>
          <p:nvPr/>
        </p:nvPicPr>
        <p:blipFill>
          <a:blip r:embed="rId5"/>
          <a:stretch/>
        </p:blipFill>
        <p:spPr>
          <a:xfrm>
            <a:off x="6988320" y="1857240"/>
            <a:ext cx="5622840" cy="1989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14"/>
          <p:cNvPicPr/>
          <p:nvPr/>
        </p:nvPicPr>
        <p:blipFill>
          <a:blip r:embed="rId6"/>
          <a:stretch/>
        </p:blipFill>
        <p:spPr>
          <a:xfrm>
            <a:off x="5707080" y="1262160"/>
            <a:ext cx="2170080" cy="4808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3659040" y="31035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团队合作的重要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4305240" y="18162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的计划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938760" y="2463840"/>
            <a:ext cx="234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计划的前瞻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3048120" y="45594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认真做好工作总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3235320" y="383364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工作中的创新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7035840" y="1268280"/>
            <a:ext cx="48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Calibri"/>
                <a:ea typeface="方正中倩简体"/>
              </a:rPr>
              <a:t>「好的工作计划，是保证工作顺利实施的开端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4"/>
          <p:cNvSpPr/>
          <p:nvPr/>
        </p:nvSpPr>
        <p:spPr>
          <a:xfrm>
            <a:off x="8589960" y="5245200"/>
            <a:ext cx="141120" cy="141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15"/>
          <p:cNvSpPr/>
          <p:nvPr/>
        </p:nvSpPr>
        <p:spPr>
          <a:xfrm>
            <a:off x="8956800" y="5235480"/>
            <a:ext cx="141120" cy="1396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6"/>
          <p:cNvSpPr/>
          <p:nvPr/>
        </p:nvSpPr>
        <p:spPr>
          <a:xfrm>
            <a:off x="9331200" y="5240160"/>
            <a:ext cx="141480" cy="141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7" descr="3"/>
          <p:cNvPicPr/>
          <p:nvPr/>
        </p:nvPicPr>
        <p:blipFill>
          <a:blip r:embed="rId7"/>
          <a:stretch/>
        </p:blipFill>
        <p:spPr>
          <a:xfrm>
            <a:off x="339840" y="289080"/>
            <a:ext cx="1628640" cy="6681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8"/>
          <p:cNvSpPr/>
          <p:nvPr/>
        </p:nvSpPr>
        <p:spPr>
          <a:xfrm>
            <a:off x="9221760" y="6242040"/>
            <a:ext cx="294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方正中倩简体"/>
                <a:ea typeface="方正中倩简体"/>
              </a:rPr>
              <a:t>WPS</a:t>
            </a:r>
            <a:r>
              <a:rPr b="0" lang="en-US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 office </a:t>
            </a:r>
            <a:r>
              <a:rPr b="0" lang="zh-CN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 </a:t>
            </a:r>
            <a:r>
              <a:rPr b="0" lang="zh-CN" sz="2000" spc="-1" strike="noStrike">
                <a:solidFill>
                  <a:srgbClr val="777777"/>
                </a:solidFill>
                <a:latin typeface="方正中倩简体"/>
                <a:ea typeface="方正中倩简体"/>
              </a:rPr>
              <a:t>给您不一样的工作体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4"/>
          <p:cNvPicPr/>
          <p:nvPr/>
        </p:nvPicPr>
        <p:blipFill>
          <a:blip r:embed="rId1"/>
          <a:stretch/>
        </p:blipFill>
        <p:spPr>
          <a:xfrm>
            <a:off x="-23760" y="-22320"/>
            <a:ext cx="12245760" cy="6912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18"/>
          <p:cNvPicPr/>
          <p:nvPr/>
        </p:nvPicPr>
        <p:blipFill>
          <a:blip r:embed="rId2"/>
          <a:stretch/>
        </p:blipFill>
        <p:spPr>
          <a:xfrm>
            <a:off x="5324400" y="2550960"/>
            <a:ext cx="1236600" cy="6890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5029200" y="3133800"/>
            <a:ext cx="28144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b9bd5"/>
                </a:solidFill>
                <a:latin typeface="Boring Boron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56:53Z</dcterms:modified>
  <cp:revision>1</cp:revision>
  <dc:subject/>
  <dc:title>PowerPoint 演示文稿</dc:title>
</cp:coreProperties>
</file>