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B8D-B160-409C-B4AB-9106F213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3F9-A9DC-4DA1-929B-3AA9817E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999-8CD4-455E-8E0F-228A99C8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6E2-3EC8-429F-96F0-E1C61521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8E29-B40F-4749-B866-7E0FB34A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57DB-0E4A-4708-AA4B-0EF8B571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68B8-851D-4218-B207-507284E1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DED2-C596-449E-BDEB-972378EF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76C4-2DF5-4227-9BFC-C2D57EAE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0BB0-D0FD-4D99-8979-433899E5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F86E-3F1A-4499-8486-2DD18224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B86-452F-4D46-A3C8-848DA6B6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4F0B-CCF2-43BE-87D0-C67695CB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B313-B34B-4B39-A000-59696FD1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8F6A-4607-46C7-960D-289AD536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8735-41A9-4BBA-B1B5-BC16FD07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A939-BA9D-42E8-B464-5E086F0A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B90-999A-4DCF-9FFA-2BA37B36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B36-C795-456A-9559-BAC2D843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27C-B399-445F-A0E9-AE7E539D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1B8-B3F1-44AD-BA10-8D13661F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B9E-C66C-4016-908D-90A0FB04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F58-E889-4795-B133-9E2BA9E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906-D697-4D01-9B18-CF80A3D3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CDE6-58AD-445B-93B5-E14DCB6383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0879-E1F3-4C0A-BE87-E613935B27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FB29-7090-4577-B1A1-55494247BA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4905" t="0" r="0" b="6708"/>
          <a:stretch/>
        </p:blipFill>
        <p:spPr>
          <a:xfrm>
            <a:off x="0" y="1469880"/>
            <a:ext cx="7684920" cy="5388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19380000">
            <a:off x="2368080" y="2482560"/>
            <a:ext cx="647712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9272c"/>
                </a:solidFill>
                <a:latin typeface="Arial Black"/>
              </a:rPr>
              <a:t>Insert the title of your presentatio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 rot="19380000">
            <a:off x="5382720" y="3492360"/>
            <a:ext cx="383220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sert the subtitle of your presentation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F21C-58CB-40A4-8904-2B13ECB4F6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0d26"/>
                </a:solidFill>
                <a:latin typeface="Arial Black"/>
              </a:rPr>
              <a:t>Example with a hist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222880" y="2565360"/>
            <a:ext cx="359712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b0d26"/>
                </a:solidFill>
                <a:latin typeface="Verdana"/>
              </a:rPr>
              <a:t>Lorem ipsum dolor sit amet, risus dolor nulla faucibus, elit amet duis blandit, tellus non mollis pu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b0d26"/>
                </a:solidFill>
                <a:latin typeface="Verdana"/>
              </a:rPr>
              <a:t>Iaculis libero et elit nec, morbi nulla velit a, arcu dictum commodo a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b0d26"/>
                </a:solidFill>
                <a:latin typeface="Verdana"/>
              </a:rPr>
              <a:t>Lacus sed nulla id cillum, nulla cras vulputate ut phasellus, elit fermentum turpis vivamus pulvin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568520" y="1413000"/>
            <a:ext cx="60069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0d26"/>
                </a:solidFill>
                <a:latin typeface="Verdana"/>
              </a:rPr>
              <a:t>Lorem ipsum dolor sit amet, in nec erat ac et, integer diam ultrices ut n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0d26"/>
                </a:solidFill>
                <a:latin typeface="Verdana"/>
              </a:rPr>
              <a:t>Consectetuer pede orci a, accumsan at ante sed e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9440" y="2276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d26"/>
                </a:solidFill>
                <a:latin typeface="Verdana"/>
                <a:ea typeface="Verdana"/>
              </a:rPr>
              <a:t>Title of the His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hart 11"/>
          <p:cNvSpPr/>
          <p:nvPr/>
        </p:nvSpPr>
        <p:spPr>
          <a:xfrm>
            <a:off x="1285920" y="2643120"/>
            <a:ext cx="3857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4521-AAAF-46D2-82A0-BCEF758836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Arial Black"/>
              </a:rPr>
              <a:t>Example with a pie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82560" y="2565360"/>
            <a:ext cx="345456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9272c"/>
                </a:solidFill>
                <a:latin typeface="Verdana"/>
              </a:rPr>
              <a:t>Lorem ipsum dolor sit amet, risus dolor nulla faucibus, elit amet duis blandit, tellus non mollis pu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9272c"/>
                </a:solidFill>
                <a:latin typeface="Verdana"/>
              </a:rPr>
              <a:t>Iaculis libero et elit nec, morbi nulla velit a, arcu dictum commodo a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9272c"/>
                </a:solidFill>
                <a:latin typeface="Verdana"/>
              </a:rPr>
              <a:t>Lacus sed nulla id cillum, nulla cras vulputate ut phasellus, elit fermentum turpis vivamus pulvin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1714680" y="1628640"/>
            <a:ext cx="571644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9272c"/>
                </a:solidFill>
                <a:latin typeface="Verdana"/>
              </a:rPr>
              <a:t>Lorem ipsum dolor sit amet, in nec erat ac et, integer diam ultrices ut n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9272c"/>
                </a:solidFill>
                <a:latin typeface="Verdana"/>
              </a:rPr>
              <a:t>Consectetuer pede orci a, accumsan at ante sed e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hart 13"/>
          <p:cNvSpPr/>
          <p:nvPr/>
        </p:nvSpPr>
        <p:spPr>
          <a:xfrm>
            <a:off x="4000680" y="2143080"/>
            <a:ext cx="4976640" cy="37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F2EF-0807-4063-8D4F-70658B40D8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6e0b"/>
                </a:solidFill>
                <a:latin typeface="Arial Black"/>
              </a:rPr>
              <a:t>Example with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 rot="2700000">
            <a:off x="7097760" y="3704760"/>
            <a:ext cx="898560" cy="898560"/>
          </a:xfrm>
          <a:prstGeom prst="rect">
            <a:avLst/>
          </a:prstGeom>
          <a:solidFill>
            <a:srgbClr val="a9272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 rot="2700000">
            <a:off x="6359400" y="4425480"/>
            <a:ext cx="898560" cy="898560"/>
          </a:xfrm>
          <a:prstGeom prst="rect">
            <a:avLst/>
          </a:prstGeom>
          <a:solidFill>
            <a:srgbClr val="2b0d2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 rot="2700000">
            <a:off x="5010120" y="3704760"/>
            <a:ext cx="898560" cy="898560"/>
          </a:xfrm>
          <a:prstGeom prst="rect">
            <a:avLst/>
          </a:prstGeom>
          <a:solidFill>
            <a:srgbClr val="78967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 rot="2700000">
            <a:off x="6359400" y="2950920"/>
            <a:ext cx="898560" cy="898560"/>
          </a:xfrm>
          <a:prstGeom prst="rect">
            <a:avLst/>
          </a:prstGeom>
          <a:solidFill>
            <a:srgbClr val="f2921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958680" y="2565360"/>
            <a:ext cx="359748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6e0b"/>
                </a:solidFill>
                <a:latin typeface="Verdana"/>
              </a:rPr>
              <a:t>Lorem ipsum dolor sit amet, risus dolor nulla faucibus, elit amet duis blandit, tellus non mollis pur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6e0b"/>
                </a:solidFill>
                <a:latin typeface="Verdana"/>
              </a:rPr>
              <a:t>Iaculis libero et elit nec, morbi nulla velit a, arcu dictum commodo am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6e0b"/>
                </a:solidFill>
                <a:latin typeface="Verdana"/>
              </a:rPr>
              <a:t>Lacus sed nulla id cillum, nulla cras vulputate ut phasellus, elit fermentum turpis vivamus pulvin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589040" y="1557360"/>
            <a:ext cx="59324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6e0b"/>
                </a:solidFill>
                <a:latin typeface="Verdana"/>
              </a:rPr>
              <a:t>Lorem ipsum dolor sit amet, in nec erat ac et, integer diam ultrices ut n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6e0b"/>
                </a:solidFill>
                <a:latin typeface="Verdana"/>
              </a:rPr>
              <a:t>Consectetuer pede orci a, accumsan at ante sed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H="1">
            <a:off x="5230440" y="4152960"/>
            <a:ext cx="863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01A8-3106-49C0-A5A1-7DC4EC4AB6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rcRect l="4905" t="0" r="0" b="6708"/>
          <a:stretch/>
        </p:blipFill>
        <p:spPr>
          <a:xfrm>
            <a:off x="0" y="1469880"/>
            <a:ext cx="7684920" cy="53881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 rot="19380000">
            <a:off x="2368080" y="2482560"/>
            <a:ext cx="647712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9272c"/>
                </a:solidFill>
                <a:latin typeface="Arial Black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3EDD-01B0-4CA6-B2EC-E8CCE78CBC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89675"/>
                </a:solidFill>
                <a:latin typeface="Arial Black"/>
              </a:rPr>
              <a:t>Template color sc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161640" y="2270160"/>
            <a:ext cx="3115080" cy="2184480"/>
            <a:chOff x="161640" y="2270160"/>
            <a:chExt cx="3115080" cy="2184480"/>
          </a:xfrm>
        </p:grpSpPr>
        <p:sp>
          <p:nvSpPr>
            <p:cNvPr id="211" name="Rectangle 10"/>
            <p:cNvSpPr/>
            <p:nvPr/>
          </p:nvSpPr>
          <p:spPr>
            <a:xfrm>
              <a:off x="2844000" y="2270160"/>
              <a:ext cx="432720" cy="43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"/>
            <p:cNvSpPr/>
            <p:nvPr/>
          </p:nvSpPr>
          <p:spPr>
            <a:xfrm>
              <a:off x="161640" y="2332440"/>
              <a:ext cx="22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Text/background – Dark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323080" y="2270160"/>
              <a:ext cx="432720" cy="43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"/>
            <p:cNvSpPr/>
            <p:nvPr/>
          </p:nvSpPr>
          <p:spPr>
            <a:xfrm>
              <a:off x="163440" y="2916360"/>
              <a:ext cx="224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Text/background – Ligh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"/>
            <p:cNvSpPr/>
            <p:nvPr/>
          </p:nvSpPr>
          <p:spPr>
            <a:xfrm>
              <a:off x="161640" y="3500280"/>
              <a:ext cx="22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Text/background – Dark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163440" y="4084200"/>
              <a:ext cx="224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Text/background – Ligh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323080" y="2854080"/>
              <a:ext cx="432720" cy="43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2308680" y="3438000"/>
              <a:ext cx="432720" cy="432720"/>
            </a:xfrm>
            <a:prstGeom prst="rect">
              <a:avLst/>
            </a:prstGeom>
            <a:solidFill>
              <a:srgbClr val="eeece1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2308680" y="4021920"/>
              <a:ext cx="432720" cy="432720"/>
            </a:xfrm>
            <a:prstGeom prst="rect">
              <a:avLst/>
            </a:prstGeom>
            <a:solidFill>
              <a:srgbClr val="2b0d26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2844000" y="2854080"/>
              <a:ext cx="432720" cy="43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2844000" y="3438000"/>
              <a:ext cx="432720" cy="43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3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3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844000" y="4021920"/>
              <a:ext cx="432720" cy="43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3623040" y="2270160"/>
            <a:ext cx="1866600" cy="3349440"/>
            <a:chOff x="3623040" y="2270160"/>
            <a:chExt cx="1866600" cy="3349440"/>
          </a:xfrm>
        </p:grpSpPr>
        <p:sp>
          <p:nvSpPr>
            <p:cNvPr id="224" name="Text Box 2"/>
            <p:cNvSpPr/>
            <p:nvPr/>
          </p:nvSpPr>
          <p:spPr>
            <a:xfrm>
              <a:off x="3623040" y="233244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"/>
            <p:cNvSpPr/>
            <p:nvPr/>
          </p:nvSpPr>
          <p:spPr>
            <a:xfrm>
              <a:off x="3623040" y="291600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"/>
            <p:cNvSpPr/>
            <p:nvPr/>
          </p:nvSpPr>
          <p:spPr>
            <a:xfrm>
              <a:off x="3623040" y="349920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"/>
            <p:cNvSpPr/>
            <p:nvPr/>
          </p:nvSpPr>
          <p:spPr>
            <a:xfrm>
              <a:off x="3623040" y="40827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"/>
            <p:cNvSpPr/>
            <p:nvPr/>
          </p:nvSpPr>
          <p:spPr>
            <a:xfrm>
              <a:off x="3623040" y="466632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"/>
            <p:cNvSpPr/>
            <p:nvPr/>
          </p:nvSpPr>
          <p:spPr>
            <a:xfrm>
              <a:off x="3623040" y="524952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4559760" y="2270160"/>
              <a:ext cx="432720" cy="432360"/>
            </a:xfrm>
            <a:prstGeom prst="rect">
              <a:avLst/>
            </a:prstGeom>
            <a:solidFill>
              <a:srgbClr val="2b0d26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0"/>
            <p:cNvSpPr/>
            <p:nvPr/>
          </p:nvSpPr>
          <p:spPr>
            <a:xfrm>
              <a:off x="4559760" y="2853360"/>
              <a:ext cx="432720" cy="432360"/>
            </a:xfrm>
            <a:prstGeom prst="rect">
              <a:avLst/>
            </a:prstGeom>
            <a:solidFill>
              <a:srgbClr val="a9272c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4559760" y="3472920"/>
              <a:ext cx="432720" cy="432360"/>
            </a:xfrm>
            <a:prstGeom prst="rect">
              <a:avLst/>
            </a:prstGeom>
            <a:solidFill>
              <a:srgbClr val="f2921d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559760" y="4020480"/>
              <a:ext cx="432720" cy="432360"/>
            </a:xfrm>
            <a:prstGeom prst="rect">
              <a:avLst/>
            </a:prstGeom>
            <a:solidFill>
              <a:srgbClr val="f6e3a7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0"/>
            <p:cNvSpPr/>
            <p:nvPr/>
          </p:nvSpPr>
          <p:spPr>
            <a:xfrm>
              <a:off x="4559760" y="4603680"/>
              <a:ext cx="432720" cy="432360"/>
            </a:xfrm>
            <a:prstGeom prst="rect">
              <a:avLst/>
            </a:prstGeom>
            <a:solidFill>
              <a:srgbClr val="789675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4559760" y="5187240"/>
              <a:ext cx="432720" cy="43236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5056920" y="227016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5056920" y="285336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6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5056920" y="347292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4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4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5056920" y="402048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4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6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5056920" y="460368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5056920" y="518724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36"/>
          <p:cNvGrpSpPr/>
          <p:nvPr/>
        </p:nvGrpSpPr>
        <p:grpSpPr>
          <a:xfrm>
            <a:off x="6037920" y="2270160"/>
            <a:ext cx="2542680" cy="1015920"/>
            <a:chOff x="6037920" y="2270160"/>
            <a:chExt cx="2542680" cy="1015920"/>
          </a:xfrm>
        </p:grpSpPr>
        <p:sp>
          <p:nvSpPr>
            <p:cNvPr id="243" name="Text Box 2"/>
            <p:cNvSpPr/>
            <p:nvPr/>
          </p:nvSpPr>
          <p:spPr>
            <a:xfrm>
              <a:off x="6063840" y="2332440"/>
              <a:ext cx="9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Hyper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"/>
            <p:cNvSpPr/>
            <p:nvPr/>
          </p:nvSpPr>
          <p:spPr>
            <a:xfrm>
              <a:off x="6037920" y="2916000"/>
              <a:ext cx="16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Followed hyper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7650000" y="2270160"/>
              <a:ext cx="432720" cy="432360"/>
            </a:xfrm>
            <a:prstGeom prst="rect">
              <a:avLst/>
            </a:prstGeom>
            <a:solidFill>
              <a:srgbClr val="00007f"/>
            </a:solidFill>
            <a:ln w="9360">
              <a:solidFill>
                <a:srgbClr val="00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0"/>
            <p:cNvSpPr/>
            <p:nvPr/>
          </p:nvSpPr>
          <p:spPr>
            <a:xfrm>
              <a:off x="7650000" y="2853720"/>
              <a:ext cx="432720" cy="432360"/>
            </a:xfrm>
            <a:prstGeom prst="rect">
              <a:avLst/>
            </a:prstGeom>
            <a:solidFill>
              <a:srgbClr val="0000bf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>
              <a:off x="8147880" y="227016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>
              <a:off x="8147880" y="285372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0394-62F4-4272-9685-740D2D0D3F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cteur droit 60"/>
          <p:cNvSpPr/>
          <p:nvPr/>
        </p:nvSpPr>
        <p:spPr>
          <a:xfrm flipV="1">
            <a:off x="250920" y="1557360"/>
            <a:ext cx="7057800" cy="524016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solidFill>
            <a:srgbClr val="2b0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necteur droit 31"/>
          <p:cNvSpPr/>
          <p:nvPr/>
        </p:nvSpPr>
        <p:spPr>
          <a:xfrm flipV="1">
            <a:off x="3317760" y="3679920"/>
            <a:ext cx="4278600" cy="317808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necteur droit 62"/>
          <p:cNvSpPr/>
          <p:nvPr/>
        </p:nvSpPr>
        <p:spPr>
          <a:xfrm flipV="1">
            <a:off x="3706920" y="5850000"/>
            <a:ext cx="1357200" cy="100800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rcRect l="8214" t="0" r="0" b="4975"/>
          <a:stretch/>
        </p:blipFill>
        <p:spPr>
          <a:xfrm>
            <a:off x="0" y="2208240"/>
            <a:ext cx="3629160" cy="464976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7"/>
          <p:cNvGrpSpPr/>
          <p:nvPr/>
        </p:nvGrpSpPr>
        <p:grpSpPr>
          <a:xfrm>
            <a:off x="2565360" y="3504960"/>
            <a:ext cx="1461240" cy="1260360"/>
            <a:chOff x="2565360" y="3504960"/>
            <a:chExt cx="1461240" cy="1260360"/>
          </a:xfrm>
        </p:grpSpPr>
        <p:grpSp>
          <p:nvGrpSpPr>
            <p:cNvPr id="92" name="Group 8"/>
            <p:cNvGrpSpPr/>
            <p:nvPr/>
          </p:nvGrpSpPr>
          <p:grpSpPr>
            <a:xfrm>
              <a:off x="3053520" y="3504960"/>
              <a:ext cx="973080" cy="335520"/>
              <a:chOff x="3053520" y="3504960"/>
              <a:chExt cx="973080" cy="335520"/>
            </a:xfrm>
          </p:grpSpPr>
          <p:sp>
            <p:nvSpPr>
              <p:cNvPr id="93" name="Rectangle 117"/>
              <p:cNvSpPr/>
              <p:nvPr/>
            </p:nvSpPr>
            <p:spPr>
              <a:xfrm rot="16730400">
                <a:off x="3491280" y="3249720"/>
                <a:ext cx="191160" cy="860040"/>
              </a:xfrm>
              <a:prstGeom prst="rect">
                <a:avLst/>
              </a:prstGeom>
              <a:solidFill>
                <a:srgbClr val="2b0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Ellipse 118"/>
              <p:cNvSpPr/>
              <p:nvPr/>
            </p:nvSpPr>
            <p:spPr>
              <a:xfrm rot="16730400">
                <a:off x="3066840" y="3518640"/>
                <a:ext cx="191160" cy="190800"/>
              </a:xfrm>
              <a:prstGeom prst="ellipse">
                <a:avLst/>
              </a:prstGeom>
              <a:solidFill>
                <a:srgbClr val="2b0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1"/>
            <p:cNvGrpSpPr/>
            <p:nvPr/>
          </p:nvGrpSpPr>
          <p:grpSpPr>
            <a:xfrm>
              <a:off x="3691440" y="3622320"/>
              <a:ext cx="335160" cy="973800"/>
              <a:chOff x="3691440" y="3622320"/>
              <a:chExt cx="335160" cy="973800"/>
            </a:xfrm>
          </p:grpSpPr>
          <p:sp>
            <p:nvSpPr>
              <p:cNvPr id="96" name="Rectangle 115"/>
              <p:cNvSpPr/>
              <p:nvPr/>
            </p:nvSpPr>
            <p:spPr>
              <a:xfrm rot="11330400">
                <a:off x="3770640" y="3631680"/>
                <a:ext cx="190800" cy="860400"/>
              </a:xfrm>
              <a:prstGeom prst="rect">
                <a:avLst/>
              </a:prstGeom>
              <a:solidFill>
                <a:srgbClr val="2b0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Ellipse 116"/>
              <p:cNvSpPr/>
              <p:nvPr/>
            </p:nvSpPr>
            <p:spPr>
              <a:xfrm rot="11330400">
                <a:off x="3704760" y="4391280"/>
                <a:ext cx="190800" cy="191160"/>
              </a:xfrm>
              <a:prstGeom prst="ellipse">
                <a:avLst/>
              </a:prstGeom>
              <a:solidFill>
                <a:srgbClr val="2b0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Rectangle 114"/>
            <p:cNvSpPr/>
            <p:nvPr/>
          </p:nvSpPr>
          <p:spPr>
            <a:xfrm rot="19431000">
              <a:off x="2481120" y="4076640"/>
              <a:ext cx="1603440" cy="238680"/>
            </a:xfrm>
            <a:prstGeom prst="rect">
              <a:avLst/>
            </a:prstGeom>
            <a:solidFill>
              <a:srgbClr val="2b0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 rot="19380000">
            <a:off x="4311720" y="4279680"/>
            <a:ext cx="408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4dbb"/>
                </a:solidFill>
                <a:latin typeface="Arial"/>
              </a:rPr>
              <a:t>Insert sub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 rot="19380000">
            <a:off x="3633840" y="1717200"/>
            <a:ext cx="562464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d26"/>
                </a:solidFill>
                <a:latin typeface="Arial Black"/>
              </a:rPr>
              <a:t>Insert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8B31-D364-4ECC-8C06-2B95DC3AB0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0d26"/>
                </a:solidFill>
                <a:latin typeface="Arial Black"/>
              </a:rPr>
              <a:t>Customize your headlin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0d26"/>
                </a:solidFill>
                <a:latin typeface="Arial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b0d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0d26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b0d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d26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2b0d2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d26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b0d2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0d26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E43E-5809-4358-A0AF-03B360BD6E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necteur droit 60"/>
          <p:cNvSpPr/>
          <p:nvPr/>
        </p:nvSpPr>
        <p:spPr>
          <a:xfrm flipV="1">
            <a:off x="179280" y="1557360"/>
            <a:ext cx="7129440" cy="529272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solidFill>
            <a:srgbClr val="a92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8214" t="0" r="0" b="4975"/>
          <a:stretch/>
        </p:blipFill>
        <p:spPr>
          <a:xfrm>
            <a:off x="0" y="2208240"/>
            <a:ext cx="3629160" cy="464976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5"/>
          <p:cNvGrpSpPr/>
          <p:nvPr/>
        </p:nvGrpSpPr>
        <p:grpSpPr>
          <a:xfrm>
            <a:off x="2565360" y="3504960"/>
            <a:ext cx="1461240" cy="1260360"/>
            <a:chOff x="2565360" y="3504960"/>
            <a:chExt cx="1461240" cy="1260360"/>
          </a:xfrm>
        </p:grpSpPr>
        <p:grpSp>
          <p:nvGrpSpPr>
            <p:cNvPr id="112" name="Group 6"/>
            <p:cNvGrpSpPr/>
            <p:nvPr/>
          </p:nvGrpSpPr>
          <p:grpSpPr>
            <a:xfrm>
              <a:off x="3053520" y="3504960"/>
              <a:ext cx="973080" cy="335520"/>
              <a:chOff x="3053520" y="3504960"/>
              <a:chExt cx="973080" cy="335520"/>
            </a:xfrm>
          </p:grpSpPr>
          <p:sp>
            <p:nvSpPr>
              <p:cNvPr id="113" name="Rectangle 27"/>
              <p:cNvSpPr/>
              <p:nvPr/>
            </p:nvSpPr>
            <p:spPr>
              <a:xfrm rot="16730400">
                <a:off x="3491280" y="3249720"/>
                <a:ext cx="191160" cy="860040"/>
              </a:xfrm>
              <a:prstGeom prst="rect">
                <a:avLst/>
              </a:prstGeom>
              <a:solidFill>
                <a:srgbClr val="a92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Ellipse 28"/>
              <p:cNvSpPr/>
              <p:nvPr/>
            </p:nvSpPr>
            <p:spPr>
              <a:xfrm rot="16730400">
                <a:off x="3066840" y="3518640"/>
                <a:ext cx="191160" cy="190800"/>
              </a:xfrm>
              <a:prstGeom prst="ellipse">
                <a:avLst/>
              </a:prstGeom>
              <a:solidFill>
                <a:srgbClr val="a92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"/>
            <p:cNvGrpSpPr/>
            <p:nvPr/>
          </p:nvGrpSpPr>
          <p:grpSpPr>
            <a:xfrm>
              <a:off x="3691440" y="3622320"/>
              <a:ext cx="335160" cy="973800"/>
              <a:chOff x="3691440" y="3622320"/>
              <a:chExt cx="335160" cy="973800"/>
            </a:xfrm>
          </p:grpSpPr>
          <p:sp>
            <p:nvSpPr>
              <p:cNvPr id="116" name="Rectangle 25"/>
              <p:cNvSpPr/>
              <p:nvPr/>
            </p:nvSpPr>
            <p:spPr>
              <a:xfrm rot="11330400">
                <a:off x="3770640" y="3631680"/>
                <a:ext cx="190800" cy="860400"/>
              </a:xfrm>
              <a:prstGeom prst="rect">
                <a:avLst/>
              </a:prstGeom>
              <a:solidFill>
                <a:srgbClr val="a92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Ellipse 26"/>
              <p:cNvSpPr/>
              <p:nvPr/>
            </p:nvSpPr>
            <p:spPr>
              <a:xfrm rot="11330400">
                <a:off x="3704760" y="4391280"/>
                <a:ext cx="190800" cy="191160"/>
              </a:xfrm>
              <a:prstGeom prst="ellipse">
                <a:avLst/>
              </a:prstGeom>
              <a:solidFill>
                <a:srgbClr val="a92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Rectangle 24"/>
            <p:cNvSpPr/>
            <p:nvPr/>
          </p:nvSpPr>
          <p:spPr>
            <a:xfrm rot="19431000">
              <a:off x="2481120" y="4076640"/>
              <a:ext cx="1603440" cy="238680"/>
            </a:xfrm>
            <a:prstGeom prst="rect">
              <a:avLst/>
            </a:prstGeom>
            <a:solidFill>
              <a:srgbClr val="a92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Connecteur droit 17"/>
          <p:cNvSpPr/>
          <p:nvPr/>
        </p:nvSpPr>
        <p:spPr>
          <a:xfrm flipV="1">
            <a:off x="3317760" y="3679920"/>
            <a:ext cx="4278600" cy="317808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necteur droit 18"/>
          <p:cNvSpPr/>
          <p:nvPr/>
        </p:nvSpPr>
        <p:spPr>
          <a:xfrm flipV="1">
            <a:off x="3706920" y="5850000"/>
            <a:ext cx="1357200" cy="100800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19380000">
            <a:off x="4311720" y="4279680"/>
            <a:ext cx="408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d6a6f"/>
                </a:solidFill>
                <a:latin typeface="Arial"/>
              </a:rPr>
              <a:t>Insert sub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 rot="19380000">
            <a:off x="3633840" y="1717200"/>
            <a:ext cx="562464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9272c"/>
                </a:solidFill>
                <a:latin typeface="Arial Black"/>
              </a:rPr>
              <a:t>Insert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3E2E-D98A-4925-9567-AEB045A44E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Arial Black"/>
              </a:rPr>
              <a:t>Customize your headlin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272c"/>
                </a:solidFill>
                <a:latin typeface="Arial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a9272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9272c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a9272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272c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a9272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9272c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F4FE-709D-4F99-BA9D-B1A1524D72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necteur droit 60"/>
          <p:cNvSpPr/>
          <p:nvPr/>
        </p:nvSpPr>
        <p:spPr>
          <a:xfrm flipV="1">
            <a:off x="250920" y="1557360"/>
            <a:ext cx="7057800" cy="524016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solidFill>
            <a:srgbClr val="f29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rcRect l="8214" t="0" r="0" b="4975"/>
          <a:stretch/>
        </p:blipFill>
        <p:spPr>
          <a:xfrm>
            <a:off x="0" y="2208240"/>
            <a:ext cx="3629160" cy="464976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2565360" y="3504960"/>
            <a:ext cx="1461240" cy="1260360"/>
            <a:chOff x="2565360" y="3504960"/>
            <a:chExt cx="1461240" cy="1260360"/>
          </a:xfrm>
        </p:grpSpPr>
        <p:grpSp>
          <p:nvGrpSpPr>
            <p:cNvPr id="134" name="Group 6"/>
            <p:cNvGrpSpPr/>
            <p:nvPr/>
          </p:nvGrpSpPr>
          <p:grpSpPr>
            <a:xfrm>
              <a:off x="3053520" y="3504960"/>
              <a:ext cx="973080" cy="335520"/>
              <a:chOff x="3053520" y="3504960"/>
              <a:chExt cx="973080" cy="335520"/>
            </a:xfrm>
          </p:grpSpPr>
          <p:sp>
            <p:nvSpPr>
              <p:cNvPr id="135" name="Rectangle 26"/>
              <p:cNvSpPr/>
              <p:nvPr/>
            </p:nvSpPr>
            <p:spPr>
              <a:xfrm rot="16730400">
                <a:off x="3491280" y="3249720"/>
                <a:ext cx="191160" cy="860040"/>
              </a:xfrm>
              <a:prstGeom prst="rect">
                <a:avLst/>
              </a:prstGeom>
              <a:solidFill>
                <a:srgbClr val="f2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Ellipse 27"/>
              <p:cNvSpPr/>
              <p:nvPr/>
            </p:nvSpPr>
            <p:spPr>
              <a:xfrm rot="16730400">
                <a:off x="3066840" y="3518640"/>
                <a:ext cx="191160" cy="190800"/>
              </a:xfrm>
              <a:prstGeom prst="ellipse">
                <a:avLst/>
              </a:prstGeom>
              <a:solidFill>
                <a:srgbClr val="f2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9"/>
            <p:cNvGrpSpPr/>
            <p:nvPr/>
          </p:nvGrpSpPr>
          <p:grpSpPr>
            <a:xfrm>
              <a:off x="3691440" y="3622320"/>
              <a:ext cx="335160" cy="973800"/>
              <a:chOff x="3691440" y="3622320"/>
              <a:chExt cx="335160" cy="973800"/>
            </a:xfrm>
          </p:grpSpPr>
          <p:sp>
            <p:nvSpPr>
              <p:cNvPr id="138" name="Rectangle 24"/>
              <p:cNvSpPr/>
              <p:nvPr/>
            </p:nvSpPr>
            <p:spPr>
              <a:xfrm rot="11330400">
                <a:off x="3770640" y="3631680"/>
                <a:ext cx="190800" cy="860400"/>
              </a:xfrm>
              <a:prstGeom prst="rect">
                <a:avLst/>
              </a:prstGeom>
              <a:solidFill>
                <a:srgbClr val="f2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Ellipse 25"/>
              <p:cNvSpPr/>
              <p:nvPr/>
            </p:nvSpPr>
            <p:spPr>
              <a:xfrm rot="11330400">
                <a:off x="3704760" y="4391280"/>
                <a:ext cx="190800" cy="191160"/>
              </a:xfrm>
              <a:prstGeom prst="ellipse">
                <a:avLst/>
              </a:prstGeom>
              <a:solidFill>
                <a:srgbClr val="f2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Rectangle 23"/>
            <p:cNvSpPr/>
            <p:nvPr/>
          </p:nvSpPr>
          <p:spPr>
            <a:xfrm rot="19431000">
              <a:off x="2481120" y="4076640"/>
              <a:ext cx="1603440" cy="238680"/>
            </a:xfrm>
            <a:prstGeom prst="rect">
              <a:avLst/>
            </a:prstGeom>
            <a:solidFill>
              <a:srgbClr val="f29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Connecteur droit 17"/>
          <p:cNvSpPr/>
          <p:nvPr/>
        </p:nvSpPr>
        <p:spPr>
          <a:xfrm flipV="1">
            <a:off x="3317760" y="3679920"/>
            <a:ext cx="4278600" cy="317808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necteur droit 18"/>
          <p:cNvSpPr/>
          <p:nvPr/>
        </p:nvSpPr>
        <p:spPr>
          <a:xfrm flipV="1">
            <a:off x="3706920" y="5850000"/>
            <a:ext cx="1357200" cy="100800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 rot="19380000">
            <a:off x="4311720" y="4279680"/>
            <a:ext cx="408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6e0b"/>
                </a:solidFill>
                <a:latin typeface="Arial"/>
              </a:rPr>
              <a:t>Insert sub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 rot="19380000">
            <a:off x="3633840" y="1717200"/>
            <a:ext cx="562464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6e0b"/>
                </a:solidFill>
                <a:latin typeface="Arial Black"/>
              </a:rPr>
              <a:t>Insert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837D-AABC-46ED-9FDB-ABD95AB377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6e0b"/>
                </a:solidFill>
                <a:latin typeface="Arial Black"/>
              </a:rPr>
              <a:t>Customize your headlin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6e0b"/>
                </a:solidFill>
                <a:latin typeface="Arial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6e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6e0b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06e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6e0b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06e0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6e0b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06e0b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6e0b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B7C9-7286-45D8-8663-19A58D3D31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60"/>
          <p:cNvSpPr/>
          <p:nvPr/>
        </p:nvSpPr>
        <p:spPr>
          <a:xfrm flipV="1">
            <a:off x="324000" y="1557000"/>
            <a:ext cx="6984720" cy="518652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solidFill>
            <a:srgbClr val="7896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8214" t="0" r="0" b="4975"/>
          <a:stretch/>
        </p:blipFill>
        <p:spPr>
          <a:xfrm>
            <a:off x="0" y="2208240"/>
            <a:ext cx="3629160" cy="464976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2565360" y="3504960"/>
            <a:ext cx="1461240" cy="1260360"/>
            <a:chOff x="2565360" y="3504960"/>
            <a:chExt cx="1461240" cy="1260360"/>
          </a:xfrm>
        </p:grpSpPr>
        <p:grpSp>
          <p:nvGrpSpPr>
            <p:cNvPr id="156" name="Group 6"/>
            <p:cNvGrpSpPr/>
            <p:nvPr/>
          </p:nvGrpSpPr>
          <p:grpSpPr>
            <a:xfrm>
              <a:off x="3053520" y="3504960"/>
              <a:ext cx="973080" cy="335520"/>
              <a:chOff x="3053520" y="3504960"/>
              <a:chExt cx="973080" cy="335520"/>
            </a:xfrm>
          </p:grpSpPr>
          <p:sp>
            <p:nvSpPr>
              <p:cNvPr id="157" name="Rectangle 17"/>
              <p:cNvSpPr/>
              <p:nvPr/>
            </p:nvSpPr>
            <p:spPr>
              <a:xfrm rot="16730400">
                <a:off x="3491280" y="3249720"/>
                <a:ext cx="191160" cy="860040"/>
              </a:xfrm>
              <a:prstGeom prst="rect">
                <a:avLst/>
              </a:prstGeom>
              <a:solidFill>
                <a:srgbClr val="789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Ellipse 18"/>
              <p:cNvSpPr/>
              <p:nvPr/>
            </p:nvSpPr>
            <p:spPr>
              <a:xfrm rot="16730400">
                <a:off x="3066840" y="3518640"/>
                <a:ext cx="191160" cy="190800"/>
              </a:xfrm>
              <a:prstGeom prst="ellipse">
                <a:avLst/>
              </a:prstGeom>
              <a:solidFill>
                <a:srgbClr val="789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9"/>
            <p:cNvGrpSpPr/>
            <p:nvPr/>
          </p:nvGrpSpPr>
          <p:grpSpPr>
            <a:xfrm>
              <a:off x="3691440" y="3622320"/>
              <a:ext cx="335160" cy="973800"/>
              <a:chOff x="3691440" y="3622320"/>
              <a:chExt cx="335160" cy="973800"/>
            </a:xfrm>
          </p:grpSpPr>
          <p:sp>
            <p:nvSpPr>
              <p:cNvPr id="160" name="Rectangle 15"/>
              <p:cNvSpPr/>
              <p:nvPr/>
            </p:nvSpPr>
            <p:spPr>
              <a:xfrm rot="11330400">
                <a:off x="3770640" y="3631680"/>
                <a:ext cx="190800" cy="860400"/>
              </a:xfrm>
              <a:prstGeom prst="rect">
                <a:avLst/>
              </a:prstGeom>
              <a:solidFill>
                <a:srgbClr val="789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Ellipse 16"/>
              <p:cNvSpPr/>
              <p:nvPr/>
            </p:nvSpPr>
            <p:spPr>
              <a:xfrm rot="11330400">
                <a:off x="3704760" y="4391280"/>
                <a:ext cx="190800" cy="191160"/>
              </a:xfrm>
              <a:prstGeom prst="ellipse">
                <a:avLst/>
              </a:prstGeom>
              <a:solidFill>
                <a:srgbClr val="789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4"/>
            <p:cNvSpPr/>
            <p:nvPr/>
          </p:nvSpPr>
          <p:spPr>
            <a:xfrm rot="19431000">
              <a:off x="2481120" y="4076640"/>
              <a:ext cx="1603440" cy="238680"/>
            </a:xfrm>
            <a:prstGeom prst="rect">
              <a:avLst/>
            </a:prstGeom>
            <a:solidFill>
              <a:srgbClr val="789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Connecteur droit 19"/>
          <p:cNvSpPr/>
          <p:nvPr/>
        </p:nvSpPr>
        <p:spPr>
          <a:xfrm flipV="1">
            <a:off x="3317760" y="3679920"/>
            <a:ext cx="4278600" cy="317808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necteur droit 20"/>
          <p:cNvSpPr/>
          <p:nvPr/>
        </p:nvSpPr>
        <p:spPr>
          <a:xfrm flipV="1">
            <a:off x="3706920" y="5850000"/>
            <a:ext cx="1357200" cy="100800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 rot="19380000">
            <a:off x="4311720" y="4279680"/>
            <a:ext cx="408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dbfab"/>
                </a:solidFill>
                <a:latin typeface="Arial"/>
              </a:rPr>
              <a:t>Insert sub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 rot="19380000">
            <a:off x="3633840" y="1717200"/>
            <a:ext cx="562464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9675"/>
                </a:solidFill>
                <a:latin typeface="Arial Black"/>
              </a:rPr>
              <a:t>Insert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E478-96A4-4D41-AB50-2785815501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89675"/>
                </a:solidFill>
                <a:latin typeface="Arial Black"/>
              </a:rPr>
              <a:t>Customize your headlin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896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9675"/>
                </a:solidFill>
                <a:latin typeface="Arial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896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9675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78967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9675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78967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9675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89675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89675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896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1:03:00Z</dcterms:created>
  <dc:creator>WPS Office</dc:creator>
  <dc:description>WPS</dc:description>
  <cp:keywords>WPS</cp:keywords>
  <dc:language>en-US</dc:language>
  <cp:lastModifiedBy>a</cp:lastModifiedBy>
  <dcterms:modified xsi:type="dcterms:W3CDTF">2014-07-21T06:46:54Z</dcterms:modified>
  <cp:revision>1</cp:revision>
  <dc:subject/>
  <dc:title>Insert the title of your presentation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