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154-9F2A-47FE-8E57-737A9DB6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B7F-EAC6-4B40-9C11-0F075D73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4DE-F77A-454B-8559-FD006FE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E15-B515-4552-874F-17B9A09B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2C2-DB5E-43CC-AF6C-7600DA1C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7BF-44AB-4EDC-A3F7-9B1CF453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D48-4E59-4D53-B81E-B708B133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B77-2E0D-4966-8506-508D5453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C6B-D790-497C-B5D0-835F6BD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2E0-2E13-4C83-A16A-66E2EF23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BCB-6544-47CF-BFCD-B012F6AB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DA6-9F0A-465A-8353-7F8CFBD1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4.png"/><Relationship Id="rId16" Type="http://schemas.openxmlformats.org/officeDocument/2006/relationships/image" Target="../media/image11.png"/><Relationship Id="rId17" Type="http://schemas.openxmlformats.org/officeDocument/2006/relationships/image" Target="../media/image15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0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2.png"/><Relationship Id="rId27" Type="http://schemas.openxmlformats.org/officeDocument/2006/relationships/slideLayout" Target="../slideLayouts/slideLayout13.xml"/><Relationship Id="rId28" Type="http://schemas.openxmlformats.org/officeDocument/2006/relationships/slideLayout" Target="../slideLayouts/slideLayout14.xml"/><Relationship Id="rId29" Type="http://schemas.openxmlformats.org/officeDocument/2006/relationships/slideLayout" Target="../slideLayouts/slideLayout15.xml"/><Relationship Id="rId30" Type="http://schemas.openxmlformats.org/officeDocument/2006/relationships/slideLayout" Target="../slideLayouts/slideLayout16.xml"/><Relationship Id="rId31" Type="http://schemas.openxmlformats.org/officeDocument/2006/relationships/slideLayout" Target="../slideLayouts/slideLayout17.xml"/><Relationship Id="rId32" Type="http://schemas.openxmlformats.org/officeDocument/2006/relationships/slideLayout" Target="../slideLayouts/slideLayout18.xml"/><Relationship Id="rId33" Type="http://schemas.openxmlformats.org/officeDocument/2006/relationships/slideLayout" Target="../slideLayouts/slideLayout19.xml"/><Relationship Id="rId34" Type="http://schemas.openxmlformats.org/officeDocument/2006/relationships/slideLayout" Target="../slideLayouts/slideLayout20.xml"/><Relationship Id="rId35" Type="http://schemas.openxmlformats.org/officeDocument/2006/relationships/slideLayout" Target="../slideLayouts/slideLayout21.xml"/><Relationship Id="rId36" Type="http://schemas.openxmlformats.org/officeDocument/2006/relationships/slideLayout" Target="../slideLayouts/slideLayout22.xml"/><Relationship Id="rId37" Type="http://schemas.openxmlformats.org/officeDocument/2006/relationships/slideLayout" Target="../slideLayouts/slideLayout23.xml"/><Relationship Id="rId3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枫叶1"/>
          <p:cNvPicPr/>
          <p:nvPr/>
        </p:nvPicPr>
        <p:blipFill>
          <a:blip r:embed="rId2"/>
          <a:stretch/>
        </p:blipFill>
        <p:spPr>
          <a:xfrm>
            <a:off x="6227640" y="836640"/>
            <a:ext cx="1749600" cy="202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pic>
        <p:nvPicPr>
          <p:cNvPr id="1" name="Picture 12" descr="枫叶2"/>
          <p:cNvPicPr/>
          <p:nvPr/>
        </p:nvPicPr>
        <p:blipFill>
          <a:blip r:embed="rId3"/>
          <a:stretch/>
        </p:blipFill>
        <p:spPr>
          <a:xfrm rot="7493400">
            <a:off x="4726800" y="3417840"/>
            <a:ext cx="183204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pic>
        <p:nvPicPr>
          <p:cNvPr id="2" name="Picture 7" descr="QQ截图未命名"/>
          <p:cNvPicPr/>
          <p:nvPr/>
        </p:nvPicPr>
        <p:blipFill>
          <a:blip r:embed="rId4"/>
          <a:stretch/>
        </p:blipFill>
        <p:spPr>
          <a:xfrm>
            <a:off x="0" y="2205000"/>
            <a:ext cx="9144000" cy="2160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1" descr="枫叶3"/>
          <p:cNvPicPr/>
          <p:nvPr/>
        </p:nvPicPr>
        <p:blipFill>
          <a:blip r:embed="rId5"/>
          <a:stretch/>
        </p:blipFill>
        <p:spPr>
          <a:xfrm>
            <a:off x="1332000" y="4653000"/>
            <a:ext cx="2162160" cy="185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pic>
        <p:nvPicPr>
          <p:cNvPr id="4" name="Picture 14" descr="qyjz[1]"/>
          <p:cNvPicPr/>
          <p:nvPr/>
        </p:nvPicPr>
        <p:blipFill>
          <a:blip r:embed="rId6"/>
          <a:stretch/>
        </p:blipFill>
        <p:spPr>
          <a:xfrm>
            <a:off x="6786720" y="428760"/>
            <a:ext cx="202248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1" descr="qyjz[1].GIF"/>
          <p:cNvPicPr/>
          <p:nvPr/>
        </p:nvPicPr>
        <p:blipFill>
          <a:blip r:embed="rId2"/>
          <a:stretch/>
        </p:blipFill>
        <p:spPr>
          <a:xfrm>
            <a:off x="6643800" y="6167520"/>
            <a:ext cx="2309760" cy="690480"/>
          </a:xfrm>
          <a:prstGeom prst="rect">
            <a:avLst/>
          </a:prstGeom>
          <a:ln w="0">
            <a:noFill/>
          </a:ln>
        </p:spPr>
      </p:pic>
      <p:pic>
        <p:nvPicPr>
          <p:cNvPr id="42" name="Line 8" descr=""/>
          <p:cNvPicPr/>
          <p:nvPr/>
        </p:nvPicPr>
        <p:blipFill>
          <a:blip r:embed="rId3"/>
          <a:stretch/>
        </p:blipFill>
        <p:spPr>
          <a:xfrm>
            <a:off x="2316240" y="542880"/>
            <a:ext cx="6242040" cy="19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枫叶1"/>
          <p:cNvPicPr/>
          <p:nvPr/>
        </p:nvPicPr>
        <p:blipFill>
          <a:blip r:embed="rId4"/>
          <a:stretch/>
        </p:blipFill>
        <p:spPr>
          <a:xfrm>
            <a:off x="7358040" y="6184800"/>
            <a:ext cx="582480" cy="67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枫叶3"/>
          <p:cNvPicPr/>
          <p:nvPr/>
        </p:nvPicPr>
        <p:blipFill>
          <a:blip r:embed="rId5"/>
          <a:stretch/>
        </p:blipFill>
        <p:spPr>
          <a:xfrm>
            <a:off x="1000080" y="2214720"/>
            <a:ext cx="248436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"/>
          <p:cNvGrpSpPr/>
          <p:nvPr/>
        </p:nvGrpSpPr>
        <p:grpSpPr>
          <a:xfrm>
            <a:off x="7472160" y="-471600"/>
            <a:ext cx="2060280" cy="2315160"/>
            <a:chOff x="7472160" y="-471600"/>
            <a:chExt cx="2060280" cy="2315160"/>
          </a:xfrm>
        </p:grpSpPr>
        <p:pic>
          <p:nvPicPr>
            <p:cNvPr id="46" name="Picture 12" descr="枫叶3"/>
            <p:cNvPicPr/>
            <p:nvPr/>
          </p:nvPicPr>
          <p:blipFill>
            <a:blip r:embed="rId6"/>
            <a:stretch/>
          </p:blipFill>
          <p:spPr>
            <a:xfrm rot="9255000">
              <a:off x="8004240" y="456480"/>
              <a:ext cx="13446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3" descr="枫叶3"/>
            <p:cNvPicPr/>
            <p:nvPr/>
          </p:nvPicPr>
          <p:blipFill>
            <a:blip r:embed="rId7"/>
            <a:stretch/>
          </p:blipFill>
          <p:spPr>
            <a:xfrm rot="10907400">
              <a:off x="7782840" y="168840"/>
              <a:ext cx="13446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4" descr="枫叶3"/>
            <p:cNvPicPr/>
            <p:nvPr/>
          </p:nvPicPr>
          <p:blipFill>
            <a:blip r:embed="rId8"/>
            <a:stretch/>
          </p:blipFill>
          <p:spPr>
            <a:xfrm rot="12671400">
              <a:off x="7674480" y="-208080"/>
              <a:ext cx="1340280" cy="115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9" descr="枫叶1"/>
          <p:cNvPicPr/>
          <p:nvPr/>
        </p:nvPicPr>
        <p:blipFill>
          <a:blip r:embed="rId9"/>
          <a:stretch/>
        </p:blipFill>
        <p:spPr>
          <a:xfrm rot="15565200">
            <a:off x="722196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枫叶3"/>
          <p:cNvPicPr/>
          <p:nvPr/>
        </p:nvPicPr>
        <p:blipFill>
          <a:blip r:embed="rId10"/>
          <a:stretch/>
        </p:blipFill>
        <p:spPr>
          <a:xfrm>
            <a:off x="0" y="635796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枫叶1"/>
          <p:cNvPicPr/>
          <p:nvPr/>
        </p:nvPicPr>
        <p:blipFill>
          <a:blip r:embed="rId11"/>
          <a:stretch/>
        </p:blipFill>
        <p:spPr>
          <a:xfrm rot="15565200">
            <a:off x="138492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枫叶1"/>
          <p:cNvPicPr/>
          <p:nvPr/>
        </p:nvPicPr>
        <p:blipFill>
          <a:blip r:embed="rId12"/>
          <a:stretch/>
        </p:blipFill>
        <p:spPr>
          <a:xfrm>
            <a:off x="1714680" y="6256440"/>
            <a:ext cx="520560" cy="601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枫叶3"/>
          <p:cNvPicPr/>
          <p:nvPr/>
        </p:nvPicPr>
        <p:blipFill>
          <a:blip r:embed="rId13"/>
          <a:stretch/>
        </p:blipFill>
        <p:spPr>
          <a:xfrm rot="13239000">
            <a:off x="1855800" y="64540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枫叶3"/>
          <p:cNvPicPr/>
          <p:nvPr/>
        </p:nvPicPr>
        <p:blipFill>
          <a:blip r:embed="rId14"/>
          <a:stretch/>
        </p:blipFill>
        <p:spPr>
          <a:xfrm rot="6168600">
            <a:off x="2430000" y="625320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枫叶1"/>
          <p:cNvPicPr/>
          <p:nvPr/>
        </p:nvPicPr>
        <p:blipFill>
          <a:blip r:embed="rId15"/>
          <a:stretch/>
        </p:blipFill>
        <p:spPr>
          <a:xfrm rot="21028800">
            <a:off x="3133800" y="6195600"/>
            <a:ext cx="708120" cy="81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枫叶3"/>
          <p:cNvPicPr/>
          <p:nvPr/>
        </p:nvPicPr>
        <p:blipFill>
          <a:blip r:embed="rId16"/>
          <a:stretch/>
        </p:blipFill>
        <p:spPr>
          <a:xfrm rot="9819000">
            <a:off x="3543120" y="639540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枫叶3"/>
          <p:cNvPicPr/>
          <p:nvPr/>
        </p:nvPicPr>
        <p:blipFill>
          <a:blip r:embed="rId17"/>
          <a:stretch/>
        </p:blipFill>
        <p:spPr>
          <a:xfrm rot="18564600">
            <a:off x="4162320" y="617652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枫叶1"/>
          <p:cNvPicPr/>
          <p:nvPr/>
        </p:nvPicPr>
        <p:blipFill>
          <a:blip r:embed="rId18"/>
          <a:stretch/>
        </p:blipFill>
        <p:spPr>
          <a:xfrm rot="15565200">
            <a:off x="4956840" y="613260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枫叶1"/>
          <p:cNvPicPr/>
          <p:nvPr/>
        </p:nvPicPr>
        <p:blipFill>
          <a:blip r:embed="rId19"/>
          <a:stretch/>
        </p:blipFill>
        <p:spPr>
          <a:xfrm rot="17981400">
            <a:off x="5372640" y="6199560"/>
            <a:ext cx="615960" cy="71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枫叶3"/>
          <p:cNvPicPr/>
          <p:nvPr/>
        </p:nvPicPr>
        <p:blipFill>
          <a:blip r:embed="rId20"/>
          <a:stretch/>
        </p:blipFill>
        <p:spPr>
          <a:xfrm>
            <a:off x="5429160" y="6357960"/>
            <a:ext cx="1357560" cy="50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枫叶3"/>
          <p:cNvPicPr/>
          <p:nvPr/>
        </p:nvPicPr>
        <p:blipFill>
          <a:blip r:embed="rId21"/>
          <a:stretch/>
        </p:blipFill>
        <p:spPr>
          <a:xfrm rot="6168600">
            <a:off x="5930280" y="632448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枫叶3"/>
          <p:cNvPicPr/>
          <p:nvPr/>
        </p:nvPicPr>
        <p:blipFill>
          <a:blip r:embed="rId22"/>
          <a:stretch/>
        </p:blipFill>
        <p:spPr>
          <a:xfrm rot="14343600">
            <a:off x="6456240" y="6460920"/>
            <a:ext cx="135720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枫叶1"/>
          <p:cNvPicPr/>
          <p:nvPr/>
        </p:nvPicPr>
        <p:blipFill>
          <a:blip r:embed="rId23"/>
          <a:stretch/>
        </p:blipFill>
        <p:spPr>
          <a:xfrm rot="15565200">
            <a:off x="78120" y="6280200"/>
            <a:ext cx="490680" cy="56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枫叶3"/>
          <p:cNvPicPr/>
          <p:nvPr/>
        </p:nvPicPr>
        <p:blipFill>
          <a:blip r:embed="rId24"/>
          <a:stretch/>
        </p:blipFill>
        <p:spPr>
          <a:xfrm rot="18564600">
            <a:off x="7614360" y="6316920"/>
            <a:ext cx="757080" cy="65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枫叶3"/>
          <p:cNvPicPr/>
          <p:nvPr/>
        </p:nvPicPr>
        <p:blipFill>
          <a:blip r:embed="rId25"/>
          <a:stretch/>
        </p:blipFill>
        <p:spPr>
          <a:xfrm rot="15750000">
            <a:off x="8042760" y="6246000"/>
            <a:ext cx="757440" cy="65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枫叶1"/>
          <p:cNvPicPr/>
          <p:nvPr/>
        </p:nvPicPr>
        <p:blipFill>
          <a:blip r:embed="rId26"/>
          <a:stretch/>
        </p:blipFill>
        <p:spPr>
          <a:xfrm rot="17981400">
            <a:off x="8655480" y="6231600"/>
            <a:ext cx="615960" cy="71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7"/>
    <p:sldLayoutId id="2147483663" r:id="rId28"/>
    <p:sldLayoutId id="2147483664" r:id="rId29"/>
    <p:sldLayoutId id="2147483665" r:id="rId30"/>
    <p:sldLayoutId id="2147483666" r:id="rId31"/>
    <p:sldLayoutId id="2147483667" r:id="rId32"/>
    <p:sldLayoutId id="2147483668" r:id="rId33"/>
    <p:sldLayoutId id="2147483669" r:id="rId34"/>
    <p:sldLayoutId id="2147483670" r:id="rId35"/>
    <p:sldLayoutId id="2147483671" r:id="rId36"/>
    <p:sldLayoutId id="2147483672" r:id="rId37"/>
    <p:sldLayoutId id="2147483673" r:id="rId3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6AA6-85DC-4469-BF3C-2F41BCE5A0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4ACD-EDA6-4509-9CD3-933DB5ACF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3000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党群工会工作情况汇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6643800" y="528624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201</a:t>
            </a:r>
            <a:r>
              <a:rPr b="1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.09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6"/>
          <p:cNvSpPr/>
          <p:nvPr/>
        </p:nvSpPr>
        <p:spPr>
          <a:xfrm>
            <a:off x="785880" y="1928880"/>
            <a:ext cx="7643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下发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关于报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年度思想政治研究论文的通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公文，对政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论文征集工作进行安排，督促各单位于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之前上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按照党建评价体系考核标准，下发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关于党建评价体系资料整理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的通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，协调机关各党支部完善本支部的基础建设资料，并确保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前将相关资料整理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-1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制作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坚定信心 用心工作 迎难而上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期宣传展板，同时将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期制作的有关三种精神、治庸治懒治散活动相关展板共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块予以整理，对电梯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板内容进行更新，供广大干部员工学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" descr="11.gif"/>
          <p:cNvPicPr/>
          <p:nvPr/>
        </p:nvPicPr>
        <p:blipFill>
          <a:blip r:embed="rId2"/>
          <a:stretch/>
        </p:blipFill>
        <p:spPr>
          <a:xfrm>
            <a:off x="571680" y="1285920"/>
            <a:ext cx="2685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826920" y="2046240"/>
            <a:ext cx="7490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完成各单位“爱移动 展风采”摄影、书画作品的征集、汇总，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收到员工自主创作的工作场景、人物、风景等各类摄影作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余幅（组）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及书画作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-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，组织营业员岗位技能比武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名选手，参加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沙场点兵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岗位技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比武全省决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928960" y="285840"/>
            <a:ext cx="335772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11280" y="2046240"/>
            <a:ext cx="748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制定了南阳分公司《基层班组安全管理制度》梳理方案，结合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层班组工作实际，做好班组安全管理制度整理汇总工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，根据各单位班组博客近期工作开展情况，完成班组建设电子期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《关注的力量》第五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785880" y="1928880"/>
            <a:ext cx="7643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党建评价体系相关资料进行完善，查漏补缺，并于月底进行装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责任人：孙静、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做好先进典型的挖掘和宣传工作，对在近期的校园迎新、技能比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等活动中涌现的先进典型进行宣传，并结合当前开展的“大会战”系列活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制定宣传方案，对先进典型进行跟踪、报道。（责任人：孙静、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各单位报送的政研论文进行汇总整理，并择优推荐报送省公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责任人：苗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5" descr="11.gif"/>
          <p:cNvPicPr/>
          <p:nvPr/>
        </p:nvPicPr>
        <p:blipFill>
          <a:blip r:embed="rId2"/>
          <a:stretch/>
        </p:blipFill>
        <p:spPr>
          <a:xfrm>
            <a:off x="571680" y="1285920"/>
            <a:ext cx="2685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5" descr="11.gif"/>
          <p:cNvPicPr/>
          <p:nvPr/>
        </p:nvPicPr>
        <p:blipFill>
          <a:blip r:embed="rId2"/>
          <a:stretch/>
        </p:blipFill>
        <p:spPr>
          <a:xfrm>
            <a:off x="500040" y="1260360"/>
            <a:ext cx="1714680" cy="454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539640" y="1844640"/>
            <a:ext cx="8064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根据前期下发文件，针对省通信管理局网络信息安全竞赛以及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沙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点兵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营业员岗位技能比武成绩，下发南阳分公司表彰、奖励文件。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责任人：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邀请专家对“爱移动 展风采”摄影、书画作品进行筛选、评比；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对获奖作品进行表彰奖励，并择优制作成展板进行展示。（责任人：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起，在部门分会中开展为期四周的会员民主评议职工小家活动，深入基层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贯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深入实地检查验收，落实小家建设目标。（责任人：李艳清、鲁雪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3214800" y="285840"/>
            <a:ext cx="2571480" cy="500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11.gif"/>
          <p:cNvPicPr/>
          <p:nvPr/>
        </p:nvPicPr>
        <p:blipFill>
          <a:blip r:embed="rId2"/>
          <a:stretch/>
        </p:blipFill>
        <p:spPr>
          <a:xfrm>
            <a:off x="500040" y="1428840"/>
            <a:ext cx="1714680" cy="453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9640" y="1989000"/>
            <a:ext cx="806472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日前，根据西峡分公司、镇平分公司创新培训需求，围绕两个单位创新工作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展情况，制定针对性培训方案，完成培训指导。（责任人：徐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，选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优秀科技进步与业务服务创新成果和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优秀科技创新推广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上报省公司。截止目前，仅有市场部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）、网络部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个）等五个单位进行了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果申报，未完成成果申报的单位在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日前申报，请业务技术组的各位领导加强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注。（责任人：徐伟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"/>
          <p:cNvSpPr/>
          <p:nvPr/>
        </p:nvSpPr>
        <p:spPr>
          <a:xfrm>
            <a:off x="0" y="3000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汇报完毕，谢谢聆听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8:06:06Z</dcterms:created>
  <dc:creator>sg</dc:creator>
  <dc:description/>
  <dc:language>en-US</dc:language>
  <cp:lastModifiedBy>a</cp:lastModifiedBy>
  <dcterms:modified xsi:type="dcterms:W3CDTF">2015-01-13T18:06:2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