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884-F582-4CDB-9F84-884D49E4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C92-B8D3-4DED-B0B4-56F9C7C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04D-F408-4B1F-ACD8-BCF36E71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DEC-9E5F-4C39-BD2F-E95302CE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59BD-5EEF-4121-A74E-E6BD3186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873B-1826-417D-BA15-FD59829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1E6E-EE1B-4D1E-8B7B-CDE2608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A6D2-C177-4044-A020-9E24EE43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0B68-81AD-4F80-9C3D-7695ECB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0A3-BAB0-4BD2-8070-1409D2E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E4A0-D733-424A-A16E-FE7A207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A73-B192-458F-97EA-2551B51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7F28-5C95-4B89-87A4-85153D1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0F9B-AEB9-454E-8ECA-00D2EB7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BE32-FA6D-4262-8DF1-A7EBC8F2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DC6-362C-4798-916A-EFB91BE6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A59-7ECB-459B-8EA1-6B724F3F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BCB0-453B-4A74-A52E-34038D9B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AB4D-3BB2-4E4F-9E8E-08A51DA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64C6-251E-423B-B6EE-2B79A85D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4BC2-37EC-4961-9DC7-791C056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57B2-98C3-40FB-B9BD-9222CF88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464-B8F7-46DE-9687-0561B534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661D-15BE-4B92-B4C2-EDD52C9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532B-AF11-4AE2-8064-00ACA60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69A4-2882-4F15-B0A8-60FD1FA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5E0B-A8EE-436A-AFE6-3708C45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852D-0AC2-464B-93A7-A77C353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90C6-E08E-4C2D-B26D-05C0A84D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BD91-9C16-44B6-B80C-8C893581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823-50B2-4D73-AC4C-0F5E303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754-A0FF-4C90-836D-ED8FC521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325-BFFB-4744-A206-BB4698F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6ED-81B6-4404-8E0C-008C2F9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DE0-4249-4477-9461-3513162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045-E5B2-460F-8850-E00F51D0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D94-990E-4CA4-A684-67AD4C4B192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47B-4639-4F52-A233-7F60DDAC0F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204B-6D81-490E-BEBD-673B0818A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3593-FD61-46B0-98B0-1DF6AF1D26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过度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内容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结束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4:57:32Z</dcterms:modified>
  <cp:revision>1</cp:revision>
  <dc:subject/>
  <dc:title>PowerPoint 演示文稿</dc:title>
</cp:coreProperties>
</file>