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86F25-36BA-45BC-89B1-ED2D958C7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A7972-E84D-40F8-B7F2-8E148A520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02AFD-7EE4-49F7-862A-1BC9BAF32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FBFC4-752F-4FFD-A58E-68612C5C5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04DFC-6D56-4787-BAE5-FFA98464C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D9C23-448B-442C-88B9-0FF2928E9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AF5D3-EE91-4831-BB4A-E52801053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F0D84-7AEC-443E-B208-2EBF4CCF9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63A7D-F820-4593-A95E-2E66BF89E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80394-A53A-427F-9250-D37A2DD9C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590A2-67B3-46C3-AF54-D5905B37C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9E349-C813-4FEC-821E-9A777EF7F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2A885-4729-49F0-BE0D-361592778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A01AD-7FC1-4F79-9FF7-22AF8055E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40782-5A0E-484F-9F57-3E1F5CFE3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ECD5F-7879-4D8F-A4AC-8BFA20537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F410C-400D-4BD2-8D0C-481E93128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63B3E-7BB3-4FC0-A854-2C214EF82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888D4-CBA6-4C69-B6C4-7EB0880DB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1FB71-741A-4431-BFC6-CF6AD784E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F351A-D9CF-499D-BEDE-B3166F3C8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49EC9-DA16-4A33-BDF6-EBD91D72B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B0948-F0DB-41F3-8E74-9399D46BB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0CC8E-CCA8-4762-B78F-3E50E6612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B3B12-7263-4FB2-B310-E5E64F1B8C06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743D7-E2E6-48A2-AC2D-2FEA89A51B9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96FF9-A9D9-472E-B4DC-A80E9FB564BA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9DFC2-42C7-470C-A041-23E5774E58B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8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XN_001001"/>
          <p:cNvPicPr/>
          <p:nvPr/>
        </p:nvPicPr>
        <p:blipFill>
          <a:blip r:embed="rId1"/>
          <a:stretch/>
        </p:blipFill>
        <p:spPr>
          <a:xfrm>
            <a:off x="0" y="57168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3" descr="XN_001003"/>
          <p:cNvPicPr/>
          <p:nvPr/>
        </p:nvPicPr>
        <p:blipFill>
          <a:blip r:embed="rId1"/>
          <a:stretch/>
        </p:blipFill>
        <p:spPr>
          <a:xfrm>
            <a:off x="0" y="476280"/>
            <a:ext cx="9144000" cy="571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3" descr="XN_001004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71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3" descr="XN_001005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71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XN_001006"/>
          <p:cNvPicPr/>
          <p:nvPr/>
        </p:nvPicPr>
        <p:blipFill>
          <a:blip r:embed="rId1"/>
          <a:stretch/>
        </p:blipFill>
        <p:spPr>
          <a:xfrm>
            <a:off x="12600" y="549360"/>
            <a:ext cx="9140760" cy="57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3" descr="XN_001007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7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3" descr="XN_001008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71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98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9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yellownancy</dc:creator>
  <dc:description/>
  <dc:language>en-US</dc:language>
  <cp:lastModifiedBy>a</cp:lastModifiedBy>
  <dcterms:modified xsi:type="dcterms:W3CDTF">2015-01-13T17:53:45Z</dcterms:modified>
  <cp:revision>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