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85B3-4418-4C16-8F67-E0247D63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675D-2C38-43B2-B10B-4CB41F67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A3B2-159C-4EE9-875C-A0FD8AEE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89A9-FE9B-4E12-9D77-8637968D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E420-B17A-4CA0-9763-5A6E91B5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733F-390D-4617-8B37-07DA6EEE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C0B3-5557-4489-AB88-0E4FC5A7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18B4-38AC-4CED-896F-7DEC59AC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11121-1E04-4A11-87B7-100A3E9E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B350-902C-4CA4-8EE2-80551117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7383-5A26-43FE-A25F-3FA261B0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34D-5989-4B2C-8D8B-268A3070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B874-FE07-47A0-9AC7-56F52E22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E591-E531-4F5C-B437-0FB1C6EA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5C0A-953F-4757-A532-03DCFA69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303E-128D-45D0-AFC1-18E44A7F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B418-8B1B-490D-B25C-CE4C666D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6F3-8722-40C7-9C3C-85BBBB92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0710-0FA8-4E82-A849-05AA8264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D3B-29F7-46D1-9C18-EF5654180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EE8-4FC7-42BA-8E09-0D057BD8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D7D-8937-4425-BE90-D6AB3653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16A-19DF-47CB-8EE2-F5276EE9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593F-081D-4B5C-80ED-B469F4B4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4FD6-3589-4B65-BFEC-ED7DE90B45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97BB-C328-4111-B8A9-80EB64A8D6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FF67-EED1-4FDF-9C5B-66DFE4D612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58f8c5494eef01ff772eac9e1fe9925bc3171d5c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b58f8c5494eef01ff772eac9e1fe9925bc3171d5c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0" y="2276640"/>
            <a:ext cx="9144000" cy="23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0" y="2637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9999"/>
                </a:solidFill>
                <a:latin typeface="Pump Demi Bold LET"/>
                <a:ea typeface="PMingLiU-ExtB"/>
              </a:rPr>
              <a:t>T </a:t>
            </a:r>
            <a:r>
              <a:rPr b="1" lang="zh-CN" sz="9600" spc="-1" strike="noStrike">
                <a:solidFill>
                  <a:srgbClr val="99cc00"/>
                </a:solidFill>
                <a:latin typeface="Pump Demi Bold LET"/>
                <a:ea typeface="PMingLiU-ExtB"/>
              </a:rPr>
              <a:t>h </a:t>
            </a:r>
            <a:r>
              <a:rPr b="1" lang="zh-CN" sz="9600" spc="-1" strike="noStrike">
                <a:solidFill>
                  <a:srgbClr val="ff3300"/>
                </a:solidFill>
                <a:latin typeface="Pump Demi Bold LET"/>
                <a:ea typeface="PMingLiU-ExtB"/>
              </a:rPr>
              <a:t>a </a:t>
            </a:r>
            <a:r>
              <a:rPr b="1" lang="zh-CN" sz="9600" spc="-1" strike="noStrike">
                <a:solidFill>
                  <a:srgbClr val="ffcc00"/>
                </a:solidFill>
                <a:latin typeface="Pump Demi Bold LET"/>
                <a:ea typeface="PMingLiU-ExtB"/>
              </a:rPr>
              <a:t>n </a:t>
            </a:r>
            <a:r>
              <a:rPr b="1" lang="zh-CN" sz="9600" spc="-1" strike="noStrike">
                <a:solidFill>
                  <a:srgbClr val="996633"/>
                </a:solidFill>
                <a:latin typeface="Pump Demi Bold LET"/>
                <a:ea typeface="PMingLiU-ExtB"/>
              </a:rPr>
              <a:t>k</a:t>
            </a:r>
            <a:r>
              <a:rPr b="1" lang="zh-CN" sz="9600" spc="-1" strike="noStrike">
                <a:solidFill>
                  <a:srgbClr val="000000"/>
                </a:solidFill>
                <a:latin typeface="Pump Demi Bold LET"/>
                <a:ea typeface="PMingLiU-ExtB"/>
              </a:rPr>
              <a:t>   </a:t>
            </a:r>
            <a:r>
              <a:rPr b="1" lang="zh-CN" sz="9600" spc="-1" strike="noStrike">
                <a:solidFill>
                  <a:srgbClr val="9966ff"/>
                </a:solidFill>
                <a:latin typeface="Pump Demi Bold LET"/>
                <a:ea typeface="PMingLiU-ExtB"/>
              </a:rPr>
              <a:t>y </a:t>
            </a:r>
            <a:r>
              <a:rPr b="1" lang="zh-CN" sz="9600" spc="-1" strike="noStrike">
                <a:solidFill>
                  <a:srgbClr val="00ffff"/>
                </a:solidFill>
                <a:latin typeface="Pump Demi Bold LET"/>
                <a:ea typeface="PMingLiU-ExtB"/>
              </a:rPr>
              <a:t>o </a:t>
            </a:r>
            <a:r>
              <a:rPr b="1" lang="zh-CN" sz="9600" spc="-1" strike="noStrike">
                <a:solidFill>
                  <a:srgbClr val="cc00ff"/>
                </a:solidFill>
                <a:latin typeface="Pump Demi Bold LET"/>
                <a:ea typeface="PMingLiU-ExtB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1197000"/>
            <a:ext cx="9144000" cy="43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>
            <a:off x="250920" y="981000"/>
            <a:ext cx="8642160" cy="935280"/>
          </a:xfrm>
          <a:prstGeom prst="roundRect">
            <a:avLst>
              <a:gd name="adj" fmla="val 16667"/>
            </a:avLst>
          </a:prstGeom>
          <a:solidFill>
            <a:srgbClr val="ffffff">
              <a:alpha val="3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250920" y="2276640"/>
            <a:ext cx="8713800" cy="4032000"/>
          </a:xfrm>
          <a:prstGeom prst="roundRect">
            <a:avLst>
              <a:gd name="adj" fmla="val 16667"/>
            </a:avLst>
          </a:prstGeom>
          <a:solidFill>
            <a:srgbClr val="ffffff">
              <a:alpha val="3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116000" y="0"/>
            <a:ext cx="705636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124000" y="0"/>
            <a:ext cx="7020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1T09:56:13Z</dcterms:created>
  <dc:creator>lucky</dc:creator>
  <dc:description/>
  <cp:keywords/>
  <dc:language>en-US</dc:language>
  <cp:lastModifiedBy>a</cp:lastModifiedBy>
  <dcterms:modified xsi:type="dcterms:W3CDTF">2014-07-29T06:51:0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