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502-20EF-4525-9E49-69E13C44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FD9-C338-456C-ACD8-C66E1C3F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450-3CA0-4D3B-B47A-846680FB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598-4525-4305-BA17-880C78E4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38D0-C2E7-41F6-8CD7-202504DF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4169-222B-4960-AB26-87D4F33F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39A6-38B1-48B7-AC30-4759F170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B871-3AC4-46C8-82EA-BC6CECA7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0DE4-FABA-4F8A-8C13-F5C0084A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CC08-7EEC-47AA-B550-6A60B25F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6F6B-820F-4309-9123-25015AB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5F9-A692-420D-8119-7EFA17D2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DB31-D39D-4CF9-871F-777D9251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8CAF-A5CC-4049-9FC2-79F1638D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5565-3CBB-4A65-8BC3-16D44D64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17DD-5F50-4857-A6EB-1724B1F8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00B3-A70A-4479-8CA5-A697ECD8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F5B1-20D9-454E-8700-8EA7DFD1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23EA7-C46A-4047-B209-3D20539B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EDB3-7FBE-4F64-B35D-D3BF8619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0E2C-26B9-4681-B680-37D263E0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4F9F-38D7-420B-BD01-329CBC4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512-5221-450B-BA38-702F79FF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ECEE-6C9B-4485-8289-117EC08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BB41-4AC1-4BEA-9043-3096D9B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BE77-5114-4AA6-BCD8-68D9E501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51A5-A7FC-4487-9831-20580D7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EC97-45A4-4F7F-890E-3435F975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69A6-42F3-4607-8C37-B2471A83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6F54-58EB-4D99-BBBB-D3F7AB12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CC68-39FC-494D-96D9-9BAA0069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4A10-1952-4FF2-B07D-6DA6625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5731-FE7D-451E-91A9-367E6F74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B5A-25DE-4677-A2E8-0A35762D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CFCC-78CD-4F0F-BC61-B0C1D5E7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5F24-04A7-4D28-B298-CADFDF2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7DB7-8968-45EE-A370-A69D953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B1608-0C59-47D2-BE02-179CC37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F2B3-EBAB-4454-B107-9F2A7C5D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B09C2-3DBD-4511-9BE3-3777D20F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CCFF-5505-424C-A919-1C73333F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ED48C-CDFC-4FAA-91F7-D9A8CB66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B074-B0B6-4AEA-91EF-8721DDE6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750-E6F4-4910-A4B1-4FB8ECAA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7D3-56F1-4859-ACD3-1A63946D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C81-C0CF-447E-8AAB-3DA21DE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2DA-9FC7-49A6-8B21-CAE82F84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3CF-9D00-43E4-919A-0EE11CC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4680" y="-4680"/>
            <a:ext cx="9155160" cy="83880"/>
            <a:chOff x="-4680" y="-4680"/>
            <a:chExt cx="9155160" cy="838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9155160" cy="8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5"/>
            <p:cNvSpPr/>
            <p:nvPr/>
          </p:nvSpPr>
          <p:spPr>
            <a:xfrm>
              <a:off x="1440" y="1440"/>
              <a:ext cx="914256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4680" y="36360"/>
            <a:ext cx="4583160" cy="79200"/>
            <a:chOff x="-4680" y="36360"/>
            <a:chExt cx="4583160" cy="7920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4680" y="36360"/>
              <a:ext cx="458316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1440" y="41040"/>
              <a:ext cx="4570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F4E1-027F-4488-B4FC-1991894A02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2393-BCDE-460E-81E4-068ED8FAAB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8F90-22A9-498F-B3E4-9E369B5A95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F10A-F779-49E5-AE9C-9ABA280DD0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C4BF-AB9E-4A71-8B69-BDC02D748E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714240" y="1000080"/>
            <a:ext cx="84297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0721c"/>
                </a:solidFill>
                <a:latin typeface="Arial"/>
                <a:ea typeface="宋体"/>
              </a:rPr>
              <a:t>非谓语动词</a:t>
            </a:r>
            <a:r>
              <a:rPr b="1" lang="en-US" sz="8800" spc="-1" strike="noStrike">
                <a:solidFill>
                  <a:srgbClr val="d0721c"/>
                </a:solidFill>
                <a:latin typeface="Arial"/>
                <a:ea typeface="宋体"/>
              </a:rPr>
              <a:t>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0721c"/>
                </a:solidFill>
                <a:latin typeface="Arial"/>
                <a:ea typeface="宋体"/>
              </a:rPr>
              <a:t>动词不定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721c"/>
                </a:solidFill>
                <a:latin typeface="Arial"/>
                <a:ea typeface="宋体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0" y="0"/>
            <a:ext cx="2133720" cy="1523880"/>
          </a:xfrm>
          <a:prstGeom prst="flowChartMultidocument">
            <a:avLst/>
          </a:prstGeom>
          <a:solidFill>
            <a:srgbClr val="477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-74520" y="228600"/>
            <a:ext cx="25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作宾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04920" y="2708280"/>
            <a:ext cx="77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he asked m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to stay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76320" y="1828800"/>
            <a:ext cx="64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8.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她叫我呆在这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76320" y="3581280"/>
            <a:ext cx="80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9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请允许我介绍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Mr. White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给你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80880" y="4572000"/>
            <a:ext cx="807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lease allow m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to introduce Mr. White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line-71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0" y="285840"/>
            <a:ext cx="92869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79280" y="40464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四、不定式作宾语补足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1.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常见动词有：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invite, tell, want, encourage, advise, order, require, force, beg, cause, allow, permit, forbid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（禁止）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, warn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（警告）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, remind, teach, call on (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号召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depend on (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指望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would like / love (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想要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prefer, expect, wish, (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但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hope 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不带复合宾语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　注：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help sb (to) do sth.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Eg: I wish you to enter a key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428760" y="357120"/>
            <a:ext cx="8286480" cy="69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使役动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have, let, mak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，其后跟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不带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to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的不定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宾语补足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：当这些词用于被动结构时，则要加上不定式符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was often heard </a:t>
            </a:r>
            <a:r>
              <a:rPr b="1" lang="en-US" sz="2400" spc="-1" strike="noStrike">
                <a:solidFill>
                  <a:srgbClr val="0080ff"/>
                </a:solidFill>
                <a:latin typeface="Arial"/>
                <a:ea typeface="宋体"/>
              </a:rPr>
              <a:t>to s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foreign s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们常听他唱外国歌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吾看）</a:t>
            </a:r>
            <a:r>
              <a:rPr b="0" lang="zh-CN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五个看：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see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watch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notice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observe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look at</a:t>
            </a:r>
            <a:r>
              <a:rPr b="0" lang="en-US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；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厅）</a:t>
            </a:r>
            <a:r>
              <a:rPr b="0" lang="zh-CN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二听：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listen to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感觉</a:t>
            </a:r>
            <a:r>
              <a:rPr b="0" lang="zh-CN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feel </a:t>
            </a:r>
            <a:br>
              <a:rPr sz="2400"/>
            </a:b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注意：感官动词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sb + do / doing / done  (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别表示全过程、正在发生、被动完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) 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I heard her </a:t>
            </a:r>
            <a:r>
              <a:rPr b="1" lang="en-US" sz="2400" spc="-1" strike="noStrike">
                <a:solidFill>
                  <a:srgbClr val="0080ff"/>
                </a:solidFill>
                <a:latin typeface="Arial"/>
                <a:ea typeface="宋体"/>
              </a:rPr>
              <a:t>sin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 English song when I passed by her room yester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I often hear her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宋体"/>
              </a:rPr>
              <a:t>s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his s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I can’t make myself </a:t>
            </a:r>
            <a:r>
              <a:rPr b="1" lang="en-US" sz="2400" spc="-1" strike="noStrike">
                <a:solidFill>
                  <a:srgbClr val="0080ff"/>
                </a:solidFill>
                <a:latin typeface="Arial"/>
                <a:ea typeface="宋体"/>
              </a:rPr>
              <a:t>understo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无法让别人理解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2"/>
          <p:cNvSpPr/>
          <p:nvPr/>
        </p:nvSpPr>
        <p:spPr>
          <a:xfrm>
            <a:off x="285840" y="285840"/>
            <a:ext cx="871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).Though he had often made his little sister ____, today he was made ____ by his little sis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. cry, to cry   B. crying, crying   C. cry, cry   D. to cry, c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). They knew her very well. They had seen her ___ up from childhoo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. grow   B. grew   C. was growing   D.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school doesn’t allow the students ______ (use) the mobile phone in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He didn’t keep on asking me the time any longer as he had had his watch ______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A. to repair   B. repaired   C. repairing   D.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059280" y="364500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21512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1979640" y="692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084720" y="24210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357120" y="357120"/>
            <a:ext cx="8286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re are five pairs ____, but 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 at a loss which to choo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. to be chosen   B. to choose from   C. to choose   D. for choosing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re are always people to ____ if you feel like a ch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A. talk to  B. talk   C. speak about   D. speak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3786120" y="357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786200" y="1785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214200" y="264312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五、不定式作定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常用句型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have / there be… / with +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宾语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+ to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定式修饰一些表示方向、原因、时间、机会、权利等抽象名词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ilit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ambi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抱负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ffor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努力，尝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e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ilu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失败，不及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pportunit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ch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力，压力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mi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许诺，希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cour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勇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as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理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decis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决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ho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，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determin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决心，决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tiv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机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rugg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奋斗，努力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is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希望，愿望，祝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 don’t trust his promis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to come for a vis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is looking for a chanc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to go abro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is brother expressed his wish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to become a doc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0" y="0"/>
            <a:ext cx="2133720" cy="1523880"/>
          </a:xfrm>
          <a:prstGeom prst="flowChartMultidocument">
            <a:avLst/>
          </a:prstGeom>
          <a:solidFill>
            <a:srgbClr val="477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-74520" y="228600"/>
            <a:ext cx="25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作定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0880" y="272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o you have anything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to sa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76320" y="1935000"/>
            <a:ext cx="76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有什么要说的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76320" y="3809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3. Bett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是第一个知道这真相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80880" y="48769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etty was the first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to know the tr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line-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142920" y="928800"/>
            <a:ext cx="86104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3.He spoke loudly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(so as / in order) to be hea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4.They jumped with joy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o hear the new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5.I’m too tired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o wal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any further ton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786280" y="17146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目的状语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5143680" y="23572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143680" y="3500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原因状语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4071960" y="3643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34120" y="4929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结果状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4357800" y="52149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line-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14200" y="142920"/>
            <a:ext cx="8929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六、不定式作状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定式作目的、原因、结果状语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.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作目的状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do, in order to do,  so as to do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用于句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.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原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不定式常放在表示情绪反应的形容词后。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ppy, sorry, glad, sad, surprised, disappointe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定式不放在句首。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am sorry to hear that your father is i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c.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结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常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only to do…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来表示末曾预料到或令人不快的情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其动作发生在谓语动作之后。另外　固定结构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o… to do, enough to do, so / such… as to do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，不定式也作结果状语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d.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在形容词后作状语，只用不定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如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book is easy to read. (=It is easy to read the book.)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71424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七、不定式的独立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tell you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 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gin / start with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 hon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sum u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 br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 frank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1828800" y="763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80880" y="3749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. I opened  the doo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o ent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the room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80880" y="46767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 Mr. Smith is going to attend the meeting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o be he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609480" y="1143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㈠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般式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( to do 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5"/>
          <p:cNvSpPr/>
          <p:nvPr/>
        </p:nvSpPr>
        <p:spPr>
          <a:xfrm>
            <a:off x="4419720" y="762120"/>
            <a:ext cx="4724280" cy="2514600"/>
          </a:xfrm>
          <a:prstGeom prst="cloudCallout">
            <a:avLst>
              <a:gd name="adj1" fmla="val -56416"/>
              <a:gd name="adj2" fmla="val 7462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定式的一般式所表示的动作（状态）同时（或几乎同时）发生，或之后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Maiandra GD"/>
              </a:rPr>
              <a:t>不定式在句中充当成分</a:t>
            </a: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50752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1.To see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believe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2.The old woman hope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travel to Yangsha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3.The doctor persuaded the patient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give up smoking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4.Tom has much work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do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He sat down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have a rest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be honest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, I know nothing about it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4714920" y="10717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主语和表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14316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4071960" y="35002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宾语补足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286680" y="41432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定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6357960" y="47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状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3429000" y="6000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独立成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228600" y="882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进行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 to be do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0" y="4149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I am very glad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o be work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with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0" y="547524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. He is said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o be com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3657600" y="1371600"/>
            <a:ext cx="5257800" cy="2514600"/>
          </a:xfrm>
          <a:prstGeom prst="cloudCallout">
            <a:avLst>
              <a:gd name="adj1" fmla="val -45620"/>
              <a:gd name="adj2" fmla="val 7462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如果谓语表示的动作（情况）发生时，不定式所表示的动作正在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1828800" y="763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828800" y="763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52280" y="838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完成式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o have do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52280" y="414972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. I am sorry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to have ke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you waiting so lo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52280" y="51814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. You seemed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to have rea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the novel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writte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by Mr. Smi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4343400" y="1219320"/>
            <a:ext cx="4495680" cy="2286000"/>
          </a:xfrm>
          <a:prstGeom prst="cloudCallout">
            <a:avLst>
              <a:gd name="adj1" fmla="val -71574"/>
              <a:gd name="adj2" fmla="val 87361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如果谓语表示的动作发生在不定式之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语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33520" y="838080"/>
            <a:ext cx="8076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主动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to 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/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o be do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/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宋体"/>
              </a:rPr>
              <a:t>to have done</a:t>
            </a:r>
            <a:r>
              <a:rPr b="1" lang="en-US" sz="3200" spc="-1" strike="noStrike">
                <a:solidFill>
                  <a:srgbClr val="477ab1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52280" y="30160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 We wan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o lea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English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52280" y="3672000"/>
            <a:ext cx="88394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Robert is said____abroad, but I didn’t know what country he studied in.(NMET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have studied        B.to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.  made                        D. to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533520" y="1523880"/>
            <a:ext cx="761976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不定式逻辑上的主语是不定式所表示的动作的执行者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0" y="4952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066680" y="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语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33520" y="838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被动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to be d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/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宋体"/>
              </a:rPr>
              <a:t>to have been done</a:t>
            </a:r>
            <a:r>
              <a:rPr b="1" lang="en-US" sz="3200" spc="-1" strike="noStrike">
                <a:solidFill>
                  <a:srgbClr val="477ab1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428760" y="25718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 He didn’t lik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o be laughed 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571680" y="3214800"/>
            <a:ext cx="8839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He claimed ____in the supper market when he was doing shopping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ing badly treated      B. treating ba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. to be treated badly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. to have been badly t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762120" y="1509840"/>
            <a:ext cx="73152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不定式逻辑上的主语是不定式所表示的动作的承受者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571680" y="5929200"/>
            <a:ext cx="457200" cy="533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-74520" y="0"/>
            <a:ext cx="2131920" cy="1523880"/>
          </a:xfrm>
          <a:prstGeom prst="flowChartMultidocument">
            <a:avLst/>
          </a:prstGeom>
          <a:solidFill>
            <a:srgbClr val="477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-74520" y="304920"/>
            <a:ext cx="24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作主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09480" y="2422440"/>
            <a:ext cx="8915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To master a foreign languag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is really important nowad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28760" y="457200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To give up smok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is r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I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’s right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to give up smok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52280" y="17524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今掌握一门外语真的很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28600" y="39924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弃吸烟是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line-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755640" y="9079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定式短语做主语时，通常放在谓语的后面，用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作形式主语，避免头重脚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00000" y="184464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It’s very important to learn English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our/your duty to keep the classroom cl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042920" y="2924280"/>
            <a:ext cx="7777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+adj/n +to do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+adj+for/of sb to do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It’s necessar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to study hard.(√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ecessary to study hard.(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ki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to help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You are kind to help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324000" y="83664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285840" y="3286080"/>
            <a:ext cx="88581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二、不定式作表语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、不定式作表语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表示主语的内容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、在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seem / appear (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似乎，好像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)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prove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　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/ turn out (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被证明是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)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remain (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仍然是，尚待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)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等连系动词后，可用不定式作表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seemed (to be ) very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723960" y="2224080"/>
            <a:ext cx="7500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357120" y="571680"/>
            <a:ext cx="81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). My job is ________________ (teach) Engl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). Having a trip abroad is good for the old couple, but it remains ___________ (see) whether they will enjoy i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2500200" y="57168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 teach English /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4725000" y="200016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 be 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285840" y="1357200"/>
            <a:ext cx="90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三、不定式作宾语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部分及物动词必须用不定式作宾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决心学会想希望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decide/determine, learn, want, expect/hope/w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拒绝设法愿假装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refuse, manage, care, pre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主动答应选计划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offer, promise, choose,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同意请求帮一帮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gree, ask/beg,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428760" y="428760"/>
            <a:ext cx="8143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宋体"/>
              </a:rPr>
              <a:t>6).She pretended ____________(not see) me when I passed b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079440" y="428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not 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428760" y="478620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7). Fred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没有钱，所以他决定找一份工作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8). 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他答应不告述任何人这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838440" y="5214960"/>
            <a:ext cx="73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Fred didn’t have any money, so he decided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  <a:ea typeface="黑体"/>
              </a:rPr>
              <a:t>to look for a jo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571680" y="58579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He promised not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  <a:ea typeface="黑体"/>
              </a:rPr>
              <a:t>to tell anyone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b36"/>
                </a:solidFill>
                <a:latin typeface="Maiandra GD"/>
              </a:rPr>
              <a:t>B </a:t>
            </a:r>
            <a:r>
              <a:rPr b="0" lang="zh-CN" sz="4000" spc="-1" strike="noStrike">
                <a:solidFill>
                  <a:srgbClr val="001b36"/>
                </a:solidFill>
                <a:latin typeface="Maiandra GD"/>
              </a:rPr>
              <a:t>用</a:t>
            </a:r>
            <a:r>
              <a:rPr b="0" lang="zh-CN" sz="4000" spc="-1" strike="noStrike">
                <a:solidFill>
                  <a:srgbClr val="001b36"/>
                </a:solidFill>
                <a:latin typeface="Maiandra GD"/>
              </a:rPr>
              <a:t>it</a:t>
            </a:r>
            <a:r>
              <a:rPr b="0" lang="zh-CN" sz="4000" spc="-1" strike="noStrike">
                <a:solidFill>
                  <a:srgbClr val="001b36"/>
                </a:solidFill>
                <a:latin typeface="Maiandra GD"/>
              </a:rPr>
              <a:t>作形式宾语（代替不定式）的动词有：</a:t>
            </a: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mbria"/>
              </a:rPr>
              <a:t>Find, make, think, consider, feel, believ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g: She fou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ifficul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to learn physic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e teacher think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necessary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to say it agai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结构为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主语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动词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宾补（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/adj+to do sth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My mother makes it a rule to take a walk every morning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214200" y="2286000"/>
            <a:ext cx="921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、介词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ut / except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（除了）后接不定式：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have no choice but to do sth.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　没有别的选择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只好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…</a:t>
            </a:r>
            <a:br>
              <a:rPr sz="2800"/>
            </a:b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但当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ut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前有行为动词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  <a:ea typeface="宋体"/>
              </a:rPr>
              <a:t>d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时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ut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后的不定式省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285840" y="14292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(9). I had no choice but_________(wait) here pati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(10). Sandy could do nothing but __________(admit) to his teacher that he was 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4214880" y="142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5786280" y="100008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d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142920" y="3714840"/>
            <a:ext cx="90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(11). I’ve work with children before, so I know what ___ in my jo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SzPct val="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expected              B. to expect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C. to be expecting     D. ex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857160" y="392904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g: He doesn’t know when to star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Let’s discuss what to do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ow to do i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n you tell me how to get to the station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5.</a:t>
            </a: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疑问</a:t>
            </a: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+</a:t>
            </a: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不定式在句中做宾语的用法。英语中有一些动词 后可以跟一个疑问词的不定式做宾语，如： </a:t>
            </a: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tell, discuss, know, show, learn, decide, wonder, explain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987640" y="2421000"/>
            <a:ext cx="71640" cy="7189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1:27:42Z</dcterms:created>
  <dc:creator>xzh</dc:creator>
  <dc:description/>
  <cp:keywords/>
  <dc:language>en-US</dc:language>
  <cp:lastModifiedBy>a</cp:lastModifiedBy>
  <dcterms:modified xsi:type="dcterms:W3CDTF">2014-05-31T02:09:59Z</dcterms:modified>
  <cp:revision>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