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E80-1032-4E0E-AC30-B5367A1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562-22B4-4EB6-9CAA-B5171A7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942D4-5B69-40A8-B1FD-FA2C366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C86A-B5E9-4657-A8E0-E16B0B2D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9A22E-DC8D-4449-9793-E5B10C94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49E8-7464-4805-94F1-4C1FE83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62A50-DE18-45FC-A698-E4F26089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3FDD5-DB5F-42F3-8C2A-DAFCFED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3CDA7-0D1C-40DE-973C-5DFC192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0E784-EDEE-4140-A91E-3B3D581D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FA667-CC11-4DC4-8A3A-C2D58927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60B6F-8D57-413F-94BD-4B06A549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998-0AA3-4112-8A28-53EC9657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42179-52F1-4AAD-B77A-E1B1F4B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730D8-3812-4B0C-A1A3-C205EC06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91693-030C-4D95-BEE5-6A6A83F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0365-43FB-4C47-828D-237DC49D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B0BE-3D5F-40D3-8852-40A047B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F7C02-8551-4836-87E4-70F733FA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71196-0BE5-4072-BA21-91B2C8FF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BE5B5-7450-44B9-B49F-2B7ED9F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FB9AE-B5CF-45C5-A7F6-E11B3CD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57AEA-7216-4820-8A86-849AC9F8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393-E6DB-48F8-869A-D6EDB500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9775-5833-459E-B515-6C27D8CC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D787-39C8-4F50-BEAA-36FFD8BE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B31AB-E94B-44CB-95BA-F19EECF3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4A5BF-0D8D-481C-A9E9-2A3F0143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4998-C2C2-4900-B19F-5F8979A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338DA-C6E4-499C-8648-0C777B0B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873FB-9262-436F-B4B6-847B4B6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D7AC6-0F04-4AFC-8D1E-90416BC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C5FB-234A-403E-950C-FBA4888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8952-5B0F-4F54-AD46-AECF25F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138C-7879-4FB3-8D12-F45A8BCD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32A4B-36C7-49B4-93E5-B540512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8701E-7446-48CA-9589-3AB5EBFF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284DF-2D41-4322-876B-295348D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3300-669E-4966-9BE9-45A96194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1EFEC-0A5D-4F9E-A6DD-CCB6A85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7FC15-4ED7-4B34-842D-0896ACAC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7945A-D51F-48B4-9625-0B755EC9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1C2E1-000A-470D-A2D7-110AE8C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5D917-2159-4534-8443-7F59A6C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0B037-0AF8-4533-A6FA-02AED35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2AD-B087-4BBB-801B-E78A655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AD62F-FAFD-40A1-8216-DCDC076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1C329-563C-4F58-9EF3-279D675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FDAAE-13CD-4CD9-8911-61C9A11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07F49-9D2C-4104-82CE-B0436441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5A3D3-CF05-435B-8957-2BC02764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FE3F9-495C-48F6-A0F1-2A91986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7CD9D-11BD-4212-905D-65AF1E00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0327E-777C-4A73-B0A2-B0A66C3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87779-B873-4857-91D0-94AB68AF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92EE1-06D9-4A7E-A82E-EB630842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7B6B-9B83-4D21-A986-A29F4585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A6402-7EC4-40F1-8D88-0230F5D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BEF91-7531-4E7F-8FB0-552FC08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072D5-AA94-4677-AED5-E16217D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45793-1894-4A98-993F-B224609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34F43-DC66-4321-9C0F-51C11CD8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35A68-308C-4B8A-AAEF-E01814A5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67541-B84F-410A-B29A-D99A4AE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002FA-C67D-47AF-89EA-889FB4B3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D9879-629A-4890-BF59-7EF84EC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5CD9E-3A0B-4F9D-901C-72C8E786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9620-3702-4491-A0A9-3B1E0C17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A28AB-65A9-4FD1-8011-3925DE4A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29FF5-CA6B-4878-8A45-C895314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DCFB7-3E7A-4768-94C7-77E2909E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B4D77-61CE-4B27-931C-3C5145B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625F5-8460-4A86-A018-7DCB1A31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39B81-D67C-4347-A041-14A990A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AE29E-20B3-419C-8197-F2BE9D7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26A61-2A9D-4C8E-A80E-85258E7A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0F7E8-E026-449B-984E-544F26B9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8B3-44C2-45F6-9DD4-7EF2A88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3A1-FE06-4570-803E-0E42517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DF6-965D-4553-B95E-1C7BEA9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353-C1B9-4ABC-AC75-CB018A27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B385-026B-45D9-87A1-858B3E9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BB30-DC56-4972-91EA-AAE5AF3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DC20-74DB-486B-AEA0-732DA4D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8BD3-F531-43BC-AC53-BD648428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F843-5606-4FB9-B25F-E9B15F54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8AF2-CB9B-4934-B2E8-9B451093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2777-0E5E-425D-8095-7454E5B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A920-92E9-41C4-936C-5F7D64E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6755-F77A-45FE-8B03-E3AB957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DE6F-F0FF-46E5-83AD-F3C51D5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7B9-4FD6-4E65-94F7-BA8849F0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5AA5-1C91-4D59-818E-ECD058A0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4DA5-528B-43F6-BECC-B3DBF11E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A818D-8DFF-4E92-AFF2-07F16851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0B42-AD62-4DC9-8267-B66A1A6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438B-1D2F-4991-84D7-20416D8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22C2-9C65-49C0-894A-DE5CB1C6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A349-F07A-4BCB-9445-B395A843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0427-E99E-437F-AB2E-B2EAEF7D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11F0A-FDBD-47B0-8ADE-4BDEC86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8951D-AE14-4365-A5DB-6536D6D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6E6-4B9C-43D0-9EA9-0E8C1999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F1A9-2DA7-4F46-88BB-D3E55965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94A3-F366-4A24-9EAB-9063BEC9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D667-7EC1-4B04-8B33-284C782B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D1CE-31D5-4870-A98A-0169BB2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9EF0-EFC4-4E06-8FF9-5F3AAB7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7754-B5E1-43BD-B9C4-DD25AC4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5F9C-4156-4507-B69A-A48B2A25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9193B-9AB8-424C-91FC-3DB8CCD9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3372-1918-4FBA-A090-9E71C116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88F5-4631-4435-A71F-9CC335E9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044-662C-4A80-9B51-28201448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3DC1-BB90-4992-9DBC-5A98B049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630B9-120C-48B2-88CC-EF6523CE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EC92-7292-47E3-992C-8A3F149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6298-6E4D-4AAC-8F26-CEC3EC3D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6031-9060-415F-B19B-C7869BC8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48BC-8E18-4F34-B72E-96EEE44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CAC5-07AF-444C-9CE9-B8F2DF20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6B94-84E0-4C9B-8681-BF7A6C9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2D33-72FE-4247-87D0-70E92186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F955A-08A4-4C3E-BA7E-EB73B190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53C-EA8F-4093-B50E-7BA43B8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D039-BCCF-4B41-88F8-36890B7C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E8F1-1856-4476-AA22-EA4CEE5A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0DAC-2424-42FA-852A-D12B64E3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767C-02E7-493A-844C-66AC688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B4D0-822E-452C-A930-2B498850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A9050-1570-4712-8ED2-7CE83182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908B-3371-4881-A2F1-FF27B09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ED50F-AEF5-4D51-ABF1-3786D21B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17CBF-7186-44C2-ABEB-CBEDF5B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ED50-9394-4DCB-AF8C-F47EC3D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DBC-6393-42B9-970A-A841F7E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4DB5E-291A-45A1-A3B8-DD53428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23E5-7D06-400B-A485-359EF17A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7A47E-2FF3-4590-9E02-1C76031B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F3F3-28A5-480F-BDEF-370B7590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AE29-EAA8-4661-80DA-C614AEA2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3B7A-383F-4163-9954-709B404C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4FD7-F85D-4E05-ADC0-BA99B1BA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94B7-E7A0-4716-8DBE-E979A085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679C-77E3-43BF-9AC9-599B6A9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B69AB-EEE8-43D3-A310-88F1D5B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2CC-333C-4D11-B68D-8B146AC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05B4-3ABC-41D6-9D44-06AF590F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B8E9-6BBD-4811-8670-E3D79250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C4C7-10BF-48C3-82F1-2BC1570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D69D-5912-4709-B73B-8778BFB5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9CFBB-82BF-4A9B-B7A6-AB608F7A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EF1F1-A1B6-4968-8BC0-FE6524B4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17D0-0D35-4A8E-9C42-518DFC5B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FE52-B80C-4637-BF07-2E43DF4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672F4-14E6-4379-A2E8-6EF5A45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C8DF-0E71-4061-86DB-C46D94D9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DFA-6442-4C39-9B7B-D573A1B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20F4-BF53-464F-90CE-CE4E6DE0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FAF4-2C78-4467-8AF2-5BDD0FFE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7FE90-FEA0-45DA-95AE-C647CACB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6D360-37FD-4144-B6E6-6E8A69F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FBBFE-84F6-498A-BF05-8596768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36D6-01E9-4D01-A6D9-C61BC6B7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2F89-AFCF-4BF3-970A-E5DA2FAF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A2A32-4F9C-44FA-AAE5-F69A8798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43DBF-BEE3-4997-8D6B-B441FEA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8C36-8B5D-4F0C-B274-0E5A3250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4DB0-A21D-4581-9765-66A51DF23019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9548-64F4-420D-8F26-4D0FD9154C3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F593-E724-493E-9539-E0878D6B13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0679-C969-4F46-B2B1-B4FCCEDA4F3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E59F-BBAB-4C89-BFC2-977ACBB0E70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4EE-B290-4338-ACDD-902A4E6A5D8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BD80-3497-47BB-8406-00A6BB974A2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99B-BF6F-4C15-A5DF-2AA4F36AF6E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E91-0948-4ED0-9076-70D1854DE6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29B-4070-4B47-B0A4-7F358660786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70AD-556A-4061-81B8-CE4FC1ED6FA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5574-E50C-452E-A7EC-E2BD2EC9D36E}" type="slidenum">
              <a:rPr b="0" lang="fr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7C5-E5E5-4645-BC8E-C3D6883AFB3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B8C-313E-4D9D-BF25-4DAF54DE1C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A0A-A9BF-486E-B09E-B53A6B12A8A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389F-8D2C-49AA-A3C9-EFEE77427A3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77F-244D-4FA9-A32B-83AA06BDDCE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380-88A7-4E0A-9290-C375549338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0B6D-39F8-4659-8C44-0054854ED97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C10-197A-4F6D-8F54-EA7F638FDD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ED0A-D71F-4999-8778-8D3EA299DA4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5B7-561F-4CFB-A79D-54494FCBCE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E26-7AD4-44DF-97E1-53D52424EBA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6A7-892D-492D-9DDC-FD6A8350E9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2D9-8ECF-4665-868C-2FB19A92BB9D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E38A-9CE2-4D1F-B90A-7CC631793A6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4211640" y="915840"/>
            <a:ext cx="44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搞怪万圣节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8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4:12:56Z</dcterms:created>
  <dc:creator>Admin</dc:creator>
  <dc:description/>
  <dc:language>en-US</dc:language>
  <cp:lastModifiedBy>a</cp:lastModifiedBy>
  <dcterms:modified xsi:type="dcterms:W3CDTF">2015-01-14T06:13:59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