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8ED-A4E5-4F83-B273-56EDD2C1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06B-FE6D-404A-B746-96D0E01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96C-EC08-4B40-9E8C-37F8329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C3-0225-443C-9C99-45D8912E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B01-7319-489E-B287-3A8F9201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C6E-84BE-4D58-B541-0EFCA908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D9A1-75CC-4E3B-B70B-C418FEC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36DF-953E-472A-BAC5-0E2A258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D115-77A9-483D-83B9-DCFB84CB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46D-8289-478C-859B-8B08CD9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A8E7-9050-43FC-8744-905D89B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548-7309-472B-9A04-75D3F4F7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B19F-60F9-4E5A-B8BD-B0A2A17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81E3-15B5-4C5F-B423-4C9FFAA5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6A48-3A22-431F-A96A-B60E7F21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606-0097-4D13-AC15-014DB986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7F3-0F19-4838-AF8C-5532CEBB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B3E-0204-49DC-99C7-3784528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44F-D82E-4D2D-A92E-22EDDA3B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86-AA2E-469A-A40E-D920F5E6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688-1983-4199-B8B5-3B41587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360-6277-462B-9FB9-05879A5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E80-BAEB-4C64-A2C1-3549BC6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06A-8341-4E2E-979B-F7A31E5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A58-4568-40E4-AB7B-76DD4C18A6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4DCB-424E-4AE8-8BC5-DB5F9F63A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CB3-6BDC-4B31-BA43-C103A1DC24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CC3-FFB9-40E3-89A4-9153AE62C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0908-1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0908-2"/>
          <p:cNvPicPr/>
          <p:nvPr/>
        </p:nvPicPr>
        <p:blipFill>
          <a:blip r:embed="rId1"/>
          <a:stretch/>
        </p:blipFill>
        <p:spPr>
          <a:xfrm>
            <a:off x="1177920" y="2349360"/>
            <a:ext cx="678816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10908-3"/>
          <p:cNvPicPr/>
          <p:nvPr/>
        </p:nvPicPr>
        <p:blipFill>
          <a:blip r:embed="rId1"/>
          <a:stretch/>
        </p:blipFill>
        <p:spPr>
          <a:xfrm>
            <a:off x="2308320" y="1600200"/>
            <a:ext cx="452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10908-4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10908-5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19T10:09:3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