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121681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7680" y="274320"/>
            <a:ext cx="1095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7680" y="1600200"/>
            <a:ext cx="1095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7680" y="3964320"/>
            <a:ext cx="1095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7680" y="274320"/>
            <a:ext cx="1095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7680" y="1600200"/>
            <a:ext cx="534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19720" y="1600200"/>
            <a:ext cx="534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7680" y="3964320"/>
            <a:ext cx="534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219720" y="3964320"/>
            <a:ext cx="534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7680" y="274320"/>
            <a:ext cx="1095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7680" y="1600200"/>
            <a:ext cx="352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11000" y="1600200"/>
            <a:ext cx="352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014320" y="1600200"/>
            <a:ext cx="352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7680" y="3964320"/>
            <a:ext cx="352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311000" y="3964320"/>
            <a:ext cx="352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014320" y="3964320"/>
            <a:ext cx="352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9C19-93D7-4AFC-A913-68DC1FA01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7680" y="274320"/>
            <a:ext cx="1095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07680" y="1600200"/>
            <a:ext cx="1095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7932-E07D-4BA8-B74A-CAB2FF097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7680" y="274320"/>
            <a:ext cx="1095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7680" y="1600200"/>
            <a:ext cx="1095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2C10-371F-4CC1-AC85-77F9903E1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7680" y="274320"/>
            <a:ext cx="1095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7680" y="1600200"/>
            <a:ext cx="5344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219720" y="1600200"/>
            <a:ext cx="5344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E50F-50AB-4275-8CA8-47929C861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7680" y="274320"/>
            <a:ext cx="1095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BEE4-76E3-4555-812F-5B2ACC77C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07680" y="274320"/>
            <a:ext cx="10952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B3AA-3D87-424E-8D76-A37812A72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7680" y="274320"/>
            <a:ext cx="1095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7680" y="1600200"/>
            <a:ext cx="534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19720" y="1600200"/>
            <a:ext cx="5344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7680" y="3964320"/>
            <a:ext cx="534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2F6D-6240-49C8-A7EE-410FBED6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7680" y="274320"/>
            <a:ext cx="1095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7680" y="1600200"/>
            <a:ext cx="1095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7680" y="274320"/>
            <a:ext cx="1095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7680" y="1600200"/>
            <a:ext cx="5344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19720" y="1600200"/>
            <a:ext cx="534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219720" y="3964320"/>
            <a:ext cx="534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56FB-6699-4497-B2B7-EA770CF7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7680" y="274320"/>
            <a:ext cx="1095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7680" y="1600200"/>
            <a:ext cx="534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19720" y="1600200"/>
            <a:ext cx="534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7680" y="3964320"/>
            <a:ext cx="1095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382A-FB76-4330-B367-CB3036BB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7680" y="274320"/>
            <a:ext cx="1095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7680" y="1600200"/>
            <a:ext cx="1095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07680" y="3964320"/>
            <a:ext cx="1095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0CF2-E077-4AAC-AAA6-F63AE3837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7680" y="274320"/>
            <a:ext cx="1095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7680" y="1600200"/>
            <a:ext cx="534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19720" y="1600200"/>
            <a:ext cx="534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7680" y="3964320"/>
            <a:ext cx="534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219720" y="3964320"/>
            <a:ext cx="534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CC90-D884-46ED-BE1B-72A404A6C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7680" y="274320"/>
            <a:ext cx="1095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7680" y="1600200"/>
            <a:ext cx="352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311000" y="1600200"/>
            <a:ext cx="352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014320" y="1600200"/>
            <a:ext cx="352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07680" y="3964320"/>
            <a:ext cx="352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311000" y="3964320"/>
            <a:ext cx="352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8014320" y="3964320"/>
            <a:ext cx="352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65FB-43FA-4588-93E4-53C4070ED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68A9A-C7DA-4CB7-A0D7-EF5DCA40F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7680" y="274320"/>
            <a:ext cx="1095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07680" y="1600200"/>
            <a:ext cx="10952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F2F15-178C-4DF7-86C7-96DDBDAD9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7680" y="274320"/>
            <a:ext cx="1095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7680" y="1600200"/>
            <a:ext cx="1095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64D95-77B8-40FE-954E-593CD3071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7680" y="274320"/>
            <a:ext cx="1095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7680" y="1600200"/>
            <a:ext cx="5344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219720" y="1600200"/>
            <a:ext cx="5344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17F3B-A5AD-4EC4-87C5-2B2E8E5BA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7680" y="274320"/>
            <a:ext cx="1095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61C90-DD36-4E54-AB2B-6403FC2C5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7680" y="274320"/>
            <a:ext cx="1095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7680" y="1600200"/>
            <a:ext cx="1095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07680" y="274320"/>
            <a:ext cx="10952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6C672-DDCC-494F-B8AF-BC19A6277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7680" y="274320"/>
            <a:ext cx="1095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7680" y="1600200"/>
            <a:ext cx="534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19720" y="1600200"/>
            <a:ext cx="5344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7680" y="3964320"/>
            <a:ext cx="534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71082-2C77-4C26-BCF4-8CFBB9C1D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7680" y="274320"/>
            <a:ext cx="1095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7680" y="1600200"/>
            <a:ext cx="5344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19720" y="1600200"/>
            <a:ext cx="534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219720" y="3964320"/>
            <a:ext cx="534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ED43D-A8AE-4455-8CA5-549F09CE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7680" y="274320"/>
            <a:ext cx="1095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7680" y="1600200"/>
            <a:ext cx="534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19720" y="1600200"/>
            <a:ext cx="534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7680" y="3964320"/>
            <a:ext cx="1095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462BF-87AA-4FB5-85A2-792899E86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7680" y="274320"/>
            <a:ext cx="1095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7680" y="1600200"/>
            <a:ext cx="1095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07680" y="3964320"/>
            <a:ext cx="1095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3133D-B6EA-47A0-92C1-1CF3262AC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7680" y="274320"/>
            <a:ext cx="1095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7680" y="1600200"/>
            <a:ext cx="534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19720" y="1600200"/>
            <a:ext cx="534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7680" y="3964320"/>
            <a:ext cx="534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219720" y="3964320"/>
            <a:ext cx="534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89227-AD9C-449A-807C-2452DFED3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7680" y="274320"/>
            <a:ext cx="1095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7680" y="1600200"/>
            <a:ext cx="352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311000" y="1600200"/>
            <a:ext cx="352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014320" y="1600200"/>
            <a:ext cx="352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07680" y="3964320"/>
            <a:ext cx="352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4311000" y="3964320"/>
            <a:ext cx="352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8014320" y="3964320"/>
            <a:ext cx="352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2F8C9-6707-413E-8420-F1EEDB88B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7680" y="274320"/>
            <a:ext cx="1095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7680" y="1600200"/>
            <a:ext cx="5344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219720" y="1600200"/>
            <a:ext cx="5344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7680" y="274320"/>
            <a:ext cx="1095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07680" y="274320"/>
            <a:ext cx="10952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7680" y="274320"/>
            <a:ext cx="1095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7680" y="1600200"/>
            <a:ext cx="534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19720" y="1600200"/>
            <a:ext cx="5344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7680" y="3964320"/>
            <a:ext cx="534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7680" y="274320"/>
            <a:ext cx="1095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7680" y="1600200"/>
            <a:ext cx="5344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19720" y="1600200"/>
            <a:ext cx="534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19720" y="3964320"/>
            <a:ext cx="534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7680" y="274320"/>
            <a:ext cx="1095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7680" y="1600200"/>
            <a:ext cx="534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19720" y="1600200"/>
            <a:ext cx="5344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7680" y="3964320"/>
            <a:ext cx="10952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"/>
          <p:cNvSpPr/>
          <p:nvPr/>
        </p:nvSpPr>
        <p:spPr>
          <a:xfrm>
            <a:off x="1370160" y="6504120"/>
            <a:ext cx="10823400" cy="384120"/>
          </a:xfrm>
          <a:prstGeom prst="rect">
            <a:avLst/>
          </a:prstGeom>
          <a:solidFill>
            <a:srgbClr val="0e6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矩形 1"/>
          <p:cNvSpPr/>
          <p:nvPr/>
        </p:nvSpPr>
        <p:spPr>
          <a:xfrm>
            <a:off x="411120" y="0"/>
            <a:ext cx="1208160" cy="1041480"/>
          </a:xfrm>
          <a:prstGeom prst="rect">
            <a:avLst/>
          </a:prstGeom>
          <a:solidFill>
            <a:srgbClr val="0e6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矩形 5"/>
          <p:cNvSpPr/>
          <p:nvPr/>
        </p:nvSpPr>
        <p:spPr>
          <a:xfrm>
            <a:off x="11125080" y="6519960"/>
            <a:ext cx="10875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</a:t>
            </a:r>
            <a:fld id="{B802E004-94FC-49FD-96F8-3C2437E3DF85}" type="slidenum"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&lt;number&gt;</a:t>
            </a:fld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7680" y="274320"/>
            <a:ext cx="1095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07680" y="1600200"/>
            <a:ext cx="1095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607680" y="6244920"/>
            <a:ext cx="2840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C0636-97C6-4FE0-A512-145089E71CF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4157640" y="6244920"/>
            <a:ext cx="3852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8719920" y="6244920"/>
            <a:ext cx="2840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4C541-362C-4388-A422-0F57E657807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7680" y="274320"/>
            <a:ext cx="1095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07680" y="1600200"/>
            <a:ext cx="1095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607680" y="6244920"/>
            <a:ext cx="2840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07F11-6AEF-43E7-9677-BD0E3DB2453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4157640" y="6244920"/>
            <a:ext cx="3852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8719920" y="6244920"/>
            <a:ext cx="2840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C1A24-6C4B-45BA-8BDF-EA89387389D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6"/>
          <p:cNvSpPr/>
          <p:nvPr/>
        </p:nvSpPr>
        <p:spPr>
          <a:xfrm>
            <a:off x="0" y="0"/>
            <a:ext cx="12198240" cy="4867200"/>
          </a:xfrm>
          <a:prstGeom prst="rect">
            <a:avLst/>
          </a:prstGeom>
          <a:solidFill>
            <a:srgbClr val="0e6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8748720" y="262080"/>
            <a:ext cx="2808360" cy="151128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企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289080" y="262080"/>
            <a:ext cx="29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谨呈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3"/>
          <p:cNvSpPr/>
          <p:nvPr/>
        </p:nvSpPr>
        <p:spPr>
          <a:xfrm>
            <a:off x="1131840" y="3500280"/>
            <a:ext cx="761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报告</a:t>
            </a:r>
            <a:r>
              <a:rPr b="0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2"/>
          <p:cNvSpPr/>
          <p:nvPr/>
        </p:nvSpPr>
        <p:spPr>
          <a:xfrm>
            <a:off x="252360" y="196920"/>
            <a:ext cx="11665080" cy="6473880"/>
          </a:xfrm>
          <a:prstGeom prst="roundRect">
            <a:avLst>
              <a:gd name="adj" fmla="val 0"/>
            </a:avLst>
          </a:prstGeom>
          <a:solidFill>
            <a:srgbClr val="0e6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754200" y="474840"/>
            <a:ext cx="104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-467280" y="228600"/>
            <a:ext cx="219132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126faa"/>
                </a:solidFill>
                <a:latin typeface="Arial"/>
                <a:ea typeface="微软雅黑"/>
              </a:rPr>
              <a:t>目录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5"/>
          <p:cNvGrpSpPr/>
          <p:nvPr/>
        </p:nvGrpSpPr>
        <p:grpSpPr>
          <a:xfrm>
            <a:off x="4356000" y="1700280"/>
            <a:ext cx="5832720" cy="849240"/>
            <a:chOff x="4356000" y="1700280"/>
            <a:chExt cx="5832720" cy="849240"/>
          </a:xfrm>
        </p:grpSpPr>
        <p:sp>
          <p:nvSpPr>
            <p:cNvPr id="129" name="AutoShape 6"/>
            <p:cNvSpPr/>
            <p:nvPr/>
          </p:nvSpPr>
          <p:spPr>
            <a:xfrm>
              <a:off x="4356000" y="1700280"/>
              <a:ext cx="981000" cy="849240"/>
            </a:xfrm>
            <a:prstGeom prst="roundRect">
              <a:avLst>
                <a:gd name="adj" fmla="val 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一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7"/>
            <p:cNvSpPr/>
            <p:nvPr/>
          </p:nvSpPr>
          <p:spPr>
            <a:xfrm>
              <a:off x="5567760" y="1700280"/>
              <a:ext cx="4620960" cy="849240"/>
            </a:xfrm>
            <a:prstGeom prst="roundRect">
              <a:avLst>
                <a:gd name="adj" fmla="val 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此处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 8"/>
          <p:cNvGrpSpPr/>
          <p:nvPr/>
        </p:nvGrpSpPr>
        <p:grpSpPr>
          <a:xfrm>
            <a:off x="4356000" y="2854440"/>
            <a:ext cx="5832720" cy="847440"/>
            <a:chOff x="4356000" y="2854440"/>
            <a:chExt cx="5832720" cy="847440"/>
          </a:xfrm>
        </p:grpSpPr>
        <p:sp>
          <p:nvSpPr>
            <p:cNvPr id="132" name="AutoShape 9"/>
            <p:cNvSpPr/>
            <p:nvPr/>
          </p:nvSpPr>
          <p:spPr>
            <a:xfrm>
              <a:off x="4356000" y="2854440"/>
              <a:ext cx="981000" cy="847440"/>
            </a:xfrm>
            <a:prstGeom prst="roundRect">
              <a:avLst>
                <a:gd name="adj" fmla="val 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二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10"/>
            <p:cNvSpPr/>
            <p:nvPr/>
          </p:nvSpPr>
          <p:spPr>
            <a:xfrm>
              <a:off x="5567760" y="2854440"/>
              <a:ext cx="4620960" cy="847440"/>
            </a:xfrm>
            <a:prstGeom prst="roundRect">
              <a:avLst>
                <a:gd name="adj" fmla="val 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此处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11"/>
          <p:cNvGrpSpPr/>
          <p:nvPr/>
        </p:nvGrpSpPr>
        <p:grpSpPr>
          <a:xfrm>
            <a:off x="4356000" y="4005360"/>
            <a:ext cx="5832720" cy="849240"/>
            <a:chOff x="4356000" y="4005360"/>
            <a:chExt cx="5832720" cy="849240"/>
          </a:xfrm>
        </p:grpSpPr>
        <p:sp>
          <p:nvSpPr>
            <p:cNvPr id="135" name="AutoShape 12"/>
            <p:cNvSpPr/>
            <p:nvPr/>
          </p:nvSpPr>
          <p:spPr>
            <a:xfrm>
              <a:off x="4356000" y="4005360"/>
              <a:ext cx="981000" cy="849240"/>
            </a:xfrm>
            <a:prstGeom prst="roundRect">
              <a:avLst>
                <a:gd name="adj" fmla="val 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AutoShape 13"/>
            <p:cNvSpPr/>
            <p:nvPr/>
          </p:nvSpPr>
          <p:spPr>
            <a:xfrm>
              <a:off x="5567760" y="4005360"/>
              <a:ext cx="4620960" cy="849240"/>
            </a:xfrm>
            <a:prstGeom prst="roundRect">
              <a:avLst>
                <a:gd name="adj" fmla="val 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7160" bIns="47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此处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AutoShape 14"/>
          <p:cNvSpPr/>
          <p:nvPr/>
        </p:nvSpPr>
        <p:spPr>
          <a:xfrm flipH="1" rot="10800000">
            <a:off x="2160" y="-360"/>
            <a:ext cx="2986200" cy="37018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5"/>
          <p:cNvSpPr/>
          <p:nvPr/>
        </p:nvSpPr>
        <p:spPr>
          <a:xfrm>
            <a:off x="428760" y="236520"/>
            <a:ext cx="928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e6086"/>
                </a:solidFill>
                <a:latin typeface="Arial"/>
                <a:ea typeface="微软雅黑"/>
              </a:rPr>
              <a:t>目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e6086"/>
                </a:solidFill>
                <a:latin typeface="Arial"/>
                <a:ea typeface="微软雅黑"/>
              </a:rPr>
              <a:t>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AutoShape 2"/>
          <p:cNvSpPr/>
          <p:nvPr/>
        </p:nvSpPr>
        <p:spPr>
          <a:xfrm>
            <a:off x="252360" y="203040"/>
            <a:ext cx="11665080" cy="6467760"/>
          </a:xfrm>
          <a:prstGeom prst="roundRect">
            <a:avLst>
              <a:gd name="adj" fmla="val 0"/>
            </a:avLst>
          </a:prstGeom>
          <a:solidFill>
            <a:srgbClr val="0e6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2413080" y="1701720"/>
            <a:ext cx="1309680" cy="100800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e6086"/>
                </a:solidFill>
                <a:latin typeface="Arial"/>
                <a:ea typeface="微软雅黑"/>
              </a:rPr>
              <a:t>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4"/>
          <p:cNvSpPr/>
          <p:nvPr/>
        </p:nvSpPr>
        <p:spPr>
          <a:xfrm>
            <a:off x="4029120" y="1701720"/>
            <a:ext cx="6161040" cy="100800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e6086"/>
                </a:solidFill>
                <a:latin typeface="Arial"/>
                <a:ea typeface="微软雅黑"/>
              </a:rPr>
              <a:t>此处输入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5"/>
          <p:cNvSpPr/>
          <p:nvPr/>
        </p:nvSpPr>
        <p:spPr>
          <a:xfrm>
            <a:off x="6661080" y="2997360"/>
            <a:ext cx="3529080" cy="2304720"/>
          </a:xfrm>
          <a:prstGeom prst="roundRect">
            <a:avLst>
              <a:gd name="adj" fmla="val 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e6086"/>
                </a:solidFill>
                <a:latin typeface="Times New Roman"/>
                <a:ea typeface="微软雅黑"/>
              </a:rPr>
              <a:t>此处输入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08080"/>
                </a:solidFill>
                <a:latin typeface="Times New Roman"/>
                <a:ea typeface="微软雅黑"/>
              </a:rPr>
              <a:t>此处输入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08080"/>
                </a:solidFill>
                <a:latin typeface="Times New Roman"/>
                <a:ea typeface="微软雅黑"/>
              </a:rPr>
              <a:t>此处输入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08080"/>
                </a:solidFill>
                <a:latin typeface="Times New Roman"/>
                <a:ea typeface="微软雅黑"/>
              </a:rPr>
              <a:t>此处输入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324000" y="171360"/>
            <a:ext cx="133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微软雅黑"/>
              </a:rPr>
              <a:t>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1662120" y="117360"/>
            <a:ext cx="424656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e6086"/>
                </a:solidFill>
                <a:latin typeface="微软雅黑"/>
                <a:ea typeface="微软雅黑"/>
              </a:rPr>
              <a:t>一级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08080"/>
                </a:solidFill>
                <a:latin typeface="微软雅黑"/>
                <a:ea typeface="微软雅黑"/>
              </a:rPr>
              <a:t>二级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1512720" y="0"/>
            <a:ext cx="8466480" cy="6858000"/>
            <a:chOff x="1512720" y="0"/>
            <a:chExt cx="8466480" cy="6858000"/>
          </a:xfrm>
        </p:grpSpPr>
        <p:sp>
          <p:nvSpPr>
            <p:cNvPr id="146" name="矩形 4"/>
            <p:cNvSpPr/>
            <p:nvPr/>
          </p:nvSpPr>
          <p:spPr>
            <a:xfrm>
              <a:off x="21297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512720" y="1714320"/>
              <a:ext cx="846648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Box 7"/>
            <p:cNvSpPr/>
            <p:nvPr/>
          </p:nvSpPr>
          <p:spPr>
            <a:xfrm rot="20926800">
              <a:off x="3433680" y="3572280"/>
              <a:ext cx="466740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dministrator</dc:creator>
  <dc:description/>
  <dc:language>en-US</dc:language>
  <cp:lastModifiedBy>a</cp:lastModifiedBy>
  <dcterms:modified xsi:type="dcterms:W3CDTF">2015-01-14T06:50:40Z</dcterms:modified>
  <cp:revision>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