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655-934F-4AA1-A8DF-6A1AD118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010-5EB9-424D-B2C8-E17F9194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47B-CA8A-4300-9BA4-B57E11F7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00E-6903-43F3-A4E6-FB60D8D6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AA6-CC5C-42BE-A23F-16787DAC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3FB-3E3C-4F1D-9F0E-6FB6FA7E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5FD-09D3-4C66-8B0B-0C65E4E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C88-9FD8-43B7-8783-97DB7734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B9D-E5F6-4B2C-AFEF-23850B94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301-B7F7-4CA5-9FF7-713487F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4524-1421-4D38-A48D-E642B415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1CD-2CFB-41E1-AE1C-9B55FD03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CC0-82AB-4A3B-9DA5-FD82F0A33B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39A6-EACE-4A91-A2BC-EF9424FEE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642760" y="5214960"/>
            <a:ext cx="6072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3643200" y="5942160"/>
            <a:ext cx="43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2f2f2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占位符 4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4286160" cy="321444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857160" y="3929040"/>
            <a:ext cx="70725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423"/>
                </a:solidFill>
                <a:latin typeface="Calibri"/>
              </a:rPr>
              <a:t>Get-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is fine The weekend is my birthday , I want to invite everybody to participate in. M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day party is amusing , we can play with game together , being able to know a lot of ne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iend on the party by cake togethe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占位符 7" descr=""/>
          <p:cNvPicPr/>
          <p:nvPr/>
        </p:nvPicPr>
        <p:blipFill>
          <a:blip r:embed="rId3"/>
          <a:stretch/>
        </p:blipFill>
        <p:spPr>
          <a:xfrm>
            <a:off x="5429160" y="571680"/>
            <a:ext cx="2500560" cy="321444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5500440" y="6000480"/>
            <a:ext cx="3429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Get-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占位符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286080" cy="428616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84" name="图片占位符 7" descr=""/>
          <p:cNvPicPr/>
          <p:nvPr/>
        </p:nvPicPr>
        <p:blipFill>
          <a:blip r:embed="rId3"/>
          <a:stretch/>
        </p:blipFill>
        <p:spPr>
          <a:xfrm>
            <a:off x="428760" y="3143160"/>
            <a:ext cx="235728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85" name="图片占位符 6" descr=""/>
          <p:cNvPicPr/>
          <p:nvPr/>
        </p:nvPicPr>
        <p:blipFill>
          <a:blip r:embed="rId4"/>
          <a:stretch/>
        </p:blipFill>
        <p:spPr>
          <a:xfrm>
            <a:off x="2928960" y="3143160"/>
            <a:ext cx="235728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28400" y="571680"/>
            <a:ext cx="485748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423"/>
                </a:solidFill>
                <a:latin typeface="Calibri"/>
              </a:rPr>
              <a:t>Get-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is fine The weekend is my birthday , I want to invi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to participate in. My birthday party is amusing , w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n play with game together , being able to know a lot of ne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iend on the party by cake together. My heart hopes tha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can come to participate in my birthday if coming th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y, I will be very good entertaining your , master of thanks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500800" y="6000840"/>
            <a:ext cx="3357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Get-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5"/>
              </a:rPr>
              <a:t>免费PPT模板</a:t>
            </a:r>
            <a:r>
              <a:rPr b="1" lang="zh-CN" sz="1400" spc="-1" strike="noStrike">
                <a:solidFill>
                  <a:srgbClr val="0000ff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占位符 6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4143600" cy="271476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90" name="图片占位符 7" descr=""/>
          <p:cNvPicPr/>
          <p:nvPr/>
        </p:nvPicPr>
        <p:blipFill>
          <a:blip r:embed="rId3"/>
          <a:stretch/>
        </p:blipFill>
        <p:spPr>
          <a:xfrm>
            <a:off x="2928960" y="3500280"/>
            <a:ext cx="207180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pic>
        <p:nvPicPr>
          <p:cNvPr id="91" name="图片占位符 8" descr=""/>
          <p:cNvPicPr/>
          <p:nvPr/>
        </p:nvPicPr>
        <p:blipFill>
          <a:blip r:embed="rId4"/>
          <a:stretch/>
        </p:blipFill>
        <p:spPr>
          <a:xfrm>
            <a:off x="5143680" y="3500280"/>
            <a:ext cx="3000240" cy="1714680"/>
          </a:xfrm>
          <a:prstGeom prst="rect">
            <a:avLst/>
          </a:prstGeom>
          <a:ln w="19080">
            <a:solidFill>
              <a:srgbClr val="632423"/>
            </a:solidFill>
            <a:miter/>
          </a:ln>
        </p:spPr>
      </p:pic>
      <p:sp>
        <p:nvSpPr>
          <p:cNvPr id="92" name=""/>
          <p:cNvSpPr txBox="1"/>
          <p:nvPr/>
        </p:nvSpPr>
        <p:spPr>
          <a:xfrm>
            <a:off x="5143680" y="642600"/>
            <a:ext cx="30002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423"/>
                </a:solidFill>
                <a:latin typeface="Calibri"/>
              </a:rPr>
              <a:t>Get-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body is fine The weekend is m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day , I want to invite everybody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ticipate in. My birthday party i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musing , we can play with gam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gether , being able to know a lot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w friend on the party by cak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00440" y="600084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Calibri"/>
              </a:rPr>
              <a:t>Get-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928760" y="5214600"/>
            <a:ext cx="3071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00:05:00Z</dcterms:created>
  <dc:creator>User</dc:creator>
  <dc:description/>
  <dc:language>en-US</dc:language>
  <cp:lastModifiedBy>a</cp:lastModifiedBy>
  <dcterms:modified xsi:type="dcterms:W3CDTF">2015-01-14T06:06:07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