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E9F4-8F7A-4FA7-9644-D69244AD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9194-14CD-41C2-A10E-ABA76D6E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14518-9BD1-4CCC-9CE4-06DD5A5B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5674D-CC09-44D6-81A1-02052B33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C5B4E-2ECF-4B75-A251-5739A037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39620-9CAD-4BE5-A1A7-41090435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8BF5D-0E57-4C4E-AE16-3669EB60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5C451-DC6A-44ED-8CD4-6CB5C96B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1E9A3-11E4-4C49-B6B9-38B3D4EC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2D108-3159-409F-9D89-52F50B67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4CD64-2587-42A4-802C-12647C32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63C92-9D4D-42B7-8649-C9E5E35B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B0B5-DCF8-4F1C-B821-001558B75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B39BF-80EF-4951-BF8D-10757A15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643CB-5B6A-4EAE-9DDD-82B5A511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D7406-8BF3-40B8-A33B-DD71F1B4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6B67B-F007-4DCB-8DE5-300308E4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619EA-DE2C-44B2-AAE8-04530734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447E9-30A1-46A2-BB82-4559AE44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036D2-E023-4BEB-9792-BC80EC2A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CD14E-AF6E-4544-948A-A2E2F873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42DBE-2B9E-4657-84B2-2872F4C4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7F06E-C778-473C-8987-703649B4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71DA-0F95-428A-B25B-78E31D1DF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B4F19-44FC-4AFA-A21C-4BA15070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63E8A-726C-40A8-A6E5-C0BC2F5F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2746E-171F-4519-AE88-BB5C83B5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F4D06-6858-4ADA-8B93-8C69482E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B7910-B80D-42FC-9C43-6171E0E6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3B49C-C101-4D32-94BD-DE3922F9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C9774-4F3B-4C89-8892-A3DADBBE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CF086-FEA9-4ADE-9471-4875C5A9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71A57-8955-4C9B-9203-0722A481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BF1D9-BCE5-4D6E-91DC-80D38418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1DCB-1FE8-425A-81C6-451AEF7B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69026-ACCE-48A8-95E6-4AC61A45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0B9CC-3569-46B2-AB6B-E76049A4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3B69C-2978-4292-8A40-3419834D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5DDF5-BD3D-409D-A3AD-D37FC060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430F8-4288-41E7-AEBA-EF215C6D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2EE06-7BAE-48A2-AA1F-630DD08B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A239A-0BB9-405B-8D94-C06E77B6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DD548-95ED-404E-83C2-64FD0004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8FFB8-867F-49D1-8961-8EDC857A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958E6-448C-41C9-962E-EBE04E03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9E5C-2403-4AD3-B717-8E43D6CA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A6571-BDB2-410B-8B4D-B510BD90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874B6-4A1B-41D4-843F-9416BF9F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E23C2-A2BD-4923-8810-FE00093E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49F35D-EC20-4C73-B64A-BB455819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D2384-6D74-424E-A310-76B3F178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C3B1F3-D688-4672-A88D-94BDAF96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5D7448-F4DB-4150-B210-C1E68A1E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541684-ED0D-4C5F-85D7-B020477B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BE134B-E7EC-48A1-B8E1-9AC1ABFC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860A38-FA1D-4D3A-BADA-72406FA1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81D1-17BB-41EE-9242-0BB2D1F3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80F1B-9ED6-4FF4-9907-88380DE4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829FFF-5935-49EB-BEDF-EA09EB0F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ECC9F7-C932-4F9D-A4AB-FF794025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E0004D-6DDC-4FDF-B293-C9C19259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C9DF3B-80CD-4853-9FA7-B47E968C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908A39-93A1-471B-8F9A-D0E8EA4C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F8AA8C-6986-4D47-AC0F-46E75038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36FF-92DD-4F0B-BD65-C8E50278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A217-56E1-418B-95DA-F6862130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E1D9-E7DE-4765-8F28-53839B23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399E-2376-440F-AECD-C0AEEFB7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3898-0990-42E1-A603-799C48D4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2B4A-6530-4CB1-B5AB-AB7D0913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9ABC-AAB2-4CF7-925E-3A70BCF4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B96D-861C-4676-8B2A-6D7E870F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A9F2-2049-4FC1-B486-401895E3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127A-B728-413A-BCE6-875731D9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3D064-4236-45A1-BDBC-55C697D8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1D84C-36BA-45CE-8796-A774669C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67243-1FE6-49AE-AFD0-E99291DF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8B740-92E1-45B6-A578-96E0BD1F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B5966-99B2-4885-A6D4-FC6188FE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94AF-2BF5-4D35-A86F-815DE74E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5F823-8FB9-4FBB-9C82-985153D6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BDEFB-9173-4734-8567-9D84AF6D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08E68-522A-4FF2-956B-C1A7EB64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74841-85E8-49C4-BC4D-64483ABE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9CC06-909A-465B-80D4-9375A1BC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42683-B5FC-46B0-B4F5-49AFD33E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50110-2404-4E3A-A560-1E9C46D5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86724-3082-48B1-9C37-74EAF4D2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FEEB9-B484-4D83-9808-784CB8EA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B4442-6D28-47FA-BD7F-94F20780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98C9-F587-43DC-A08B-7661E91A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505F8-7296-43CD-AD66-FEEEFFBF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4654E-ED26-43E2-9136-B75C5C23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189E1-57E4-4641-A84C-B8719F65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2E8F4-1581-42D8-833B-20D5421C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9A187-CB99-47D5-816F-D01F5335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E9809-4299-4130-BAA5-5E1D779F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85EA8-0C27-4652-BDB2-3FAD21AD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9AD6D-064C-4AB4-9214-600F5BC3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6EDCF-6E4B-4976-836D-36733FD0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8C5B5-5169-4160-B3ED-BDF42D49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7DA9-59EE-421D-8CA2-59A3CA8F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A417A-1F6C-483C-88A4-C2D3F83F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76CDB-402E-4F5F-9157-F9409923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07BF3-E45B-4B17-801E-782424CF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76160-E21F-41E0-9267-0C104055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09BCF-E36F-49CD-A5A5-4F33053C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43A40-169E-4631-9144-B86EA22E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34CB2-7E06-4605-B621-89A34027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53CF6-58FD-409A-9A9B-87DBC9E6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0D700-D2E8-43F1-9834-10A6EDEE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4D110-BA0E-45CE-A0D3-02E0CBE7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9D1A-BCFF-4B3B-94A3-6352BB66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4EDA1-4C66-4577-BA2F-7176B074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6C945-6DF3-47B4-B5E3-24E1DE34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D9CBA-8EA4-44C9-8C75-D7C11879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95B19-E313-492F-A90A-2E2E4325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CC10E-0E8D-4530-B5D8-CECFCA91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AC63D-E2AC-4208-BCBC-82A8D12F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C2125-7D53-4C34-B56C-48D0B055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3F4E5-3BDA-4753-B033-A1DF9A60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84898-EC5C-41D6-80A1-BB0430C9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5690D-D967-422C-B9E4-3FB246D2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97CB-21F6-4C66-A132-981E9FCD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98346-6D7C-495A-A672-B7D6EED6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A042A-60B0-42C3-BEC4-FA46854B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E3ED9-FBD3-4DD6-8DA5-8EAAE20D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105FF-53A4-4825-95B2-1C62436B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3BA0D-14EF-4884-8308-37643F95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B4916-8636-4D42-AA7C-0968BFEF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0387A-5AFB-46DC-9E54-7742AA05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A6E69-178C-4D17-8976-7121E012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89CF9-F61C-49CB-A160-A7C17301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E9924-4622-47EC-AE49-6A86DCDF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5F13-65B3-4385-8BCD-35A1C346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1D1DC-F100-45B4-9600-2BF9A775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9C04C-4A14-46E6-909D-0DDA6D23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9C7F9-3C78-408C-8676-A7069EF3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851FC-C452-4633-A1A6-54843098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73E8B-3646-4015-B9A5-DB710B12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94ED5-951C-49D6-862B-01ED76E9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516BF-3622-45F7-B924-49985FF8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320E9-B512-48E1-BC57-76F28CBD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C952F-AB98-4D1D-9F44-69371A77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AA747-A1AF-4175-B0E9-51631611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B22F-E108-475B-85A1-D4003602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EEFC8-5364-44E1-98BF-1DE68C5D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2347B-0912-4A26-9A20-9A050404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7DF4E-346C-4C38-8A59-A655ED10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BBB4B-6599-40B6-A728-EBF3E214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BC61E-26EB-4B57-9DE5-52AB1E7E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62A58-1327-42CC-8453-304AE1E1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BED85-FB30-4B94-B9E1-484A9189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A7C5D-6B9F-419B-BBE3-5A30B409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CD279-B4B5-40C5-975F-72106C8D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5259E-4573-4752-BA83-52656C12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6D80-21A9-4892-98BB-07BBB7C292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15BC-FEF8-45F4-ADE7-90114B91DD68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A62D-DEC9-4975-845D-AF8D5F384BCB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384A-C718-40E5-B6A9-955862E8467D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9E17-6F10-4872-83AE-B46129216E03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3FB0-5BF9-4B52-A265-E121000EF8A0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2165-A9E7-4140-8B38-A0C9C864C8A1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7F9B-8B51-4F23-AFF6-2F2C745F93EA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CC83-3F53-4937-92AE-3138CD3D3765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9D8E-8D97-4CBE-8069-37DF871EAE2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D2AA-6B8D-468D-A075-CD5F26A941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5AC1-1002-4784-BA98-4BF580C91BE4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003E-9338-4BA6-9F92-2A18726ADB58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11B5-C745-423A-88FA-0FB419753369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B4BB-84D9-4025-9D73-FCE7375FFFA2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FC19-2EDF-41D1-AB7E-933A8A3E35A3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3EC9-9D05-4D05-BF13-E7F559987ED6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6E2B-E86D-4E26-907D-F4D8689C0F2A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831A-3FB1-4077-BAE5-3608D9C00C3C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92B2-2C34-4AC9-B544-1E39F836C62F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5721-EE60-4509-AAD2-827C23FB7369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1F1C-A59C-4BA4-AB19-FD3936EEBB98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BC49-27AD-43F9-ACAD-C6B87B8C49A9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D1BC-65A6-4D23-9B9E-7B3B333F6FF1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A1EF-F087-443A-8708-38E5AAF2F03C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111-07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3"/>
          <p:cNvSpPr/>
          <p:nvPr/>
        </p:nvSpPr>
        <p:spPr>
          <a:xfrm>
            <a:off x="4221000" y="1824120"/>
            <a:ext cx="3603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175680" indent="-17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99ff"/>
                </a:solidFill>
                <a:latin typeface="Aurora BdCn BT"/>
                <a:ea typeface="张海山锐线体简"/>
              </a:rPr>
              <a:t>Simple</a:t>
            </a:r>
            <a:endParaRPr b="1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4157640" y="2984400"/>
            <a:ext cx="38098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196560" indent="-196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200" spc="-1" strike="noStrike">
                <a:solidFill>
                  <a:srgbClr val="ff3399"/>
                </a:solidFill>
                <a:latin typeface="Aurora BdCn BT"/>
                <a:ea typeface="张海山锐线体简"/>
              </a:rPr>
              <a:t>POWERFUL</a:t>
            </a:r>
            <a:endParaRPr b="1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5253120" y="3606840"/>
            <a:ext cx="254304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26080" indent="-226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ff9900"/>
                </a:solidFill>
                <a:latin typeface="Aurora BdCn BT"/>
                <a:ea typeface="张海山锐线体简"/>
              </a:rPr>
              <a:t>FREE</a:t>
            </a:r>
            <a:endParaRPr b="1" lang="en-US" sz="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Rectangle 6"/>
          <p:cNvSpPr/>
          <p:nvPr/>
        </p:nvSpPr>
        <p:spPr>
          <a:xfrm rot="16200000">
            <a:off x="3864600" y="4075560"/>
            <a:ext cx="17064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400" spc="-1" strike="noStrike">
                <a:solidFill>
                  <a:srgbClr val="c0bcbc"/>
                </a:solidFill>
                <a:latin typeface="Aurora BdCn BT"/>
                <a:ea typeface="张海山锐线体简"/>
              </a:rPr>
              <a:t>and</a:t>
            </a:r>
            <a:endParaRPr b="1" lang="en-US" sz="6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1-10"/>
          <p:cNvPicPr/>
          <p:nvPr/>
        </p:nvPicPr>
        <p:blipFill>
          <a:blip r:embed="rId1"/>
          <a:stretch/>
        </p:blipFill>
        <p:spPr>
          <a:xfrm>
            <a:off x="0" y="0"/>
            <a:ext cx="12190320" cy="68580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" descr="方案-10"/>
          <p:cNvPicPr/>
          <p:nvPr/>
        </p:nvPicPr>
        <p:blipFill>
          <a:blip r:embed="rId2"/>
          <a:stretch/>
        </p:blipFill>
        <p:spPr>
          <a:xfrm>
            <a:off x="0" y="0"/>
            <a:ext cx="1219032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4"/>
          <p:cNvSpPr/>
          <p:nvPr/>
        </p:nvSpPr>
        <p:spPr>
          <a:xfrm>
            <a:off x="774720" y="1112760"/>
            <a:ext cx="473544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700" spc="-1" strike="noStrike">
                <a:solidFill>
                  <a:srgbClr val="d8d6d6"/>
                </a:solidFill>
                <a:latin typeface="Aurora BdCn BT"/>
                <a:ea typeface="张海山锐线体简"/>
              </a:rPr>
              <a:t>Contents</a:t>
            </a:r>
            <a:endParaRPr b="1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5475240" y="2103480"/>
            <a:ext cx="18702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157680" indent="-15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8d6d6"/>
                </a:solidFill>
                <a:latin typeface="Aurora BdCn BT"/>
                <a:ea typeface="张海山锐线体简"/>
              </a:rPr>
              <a:t>目录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4141800" y="3200400"/>
            <a:ext cx="8794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urora BdCn BT"/>
                <a:ea typeface="张海山锐线体简"/>
              </a:rPr>
              <a:t>Simple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5834160" y="3200400"/>
            <a:ext cx="10951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urora BdCn BT"/>
                <a:ea typeface="张海山锐线体简"/>
              </a:rPr>
              <a:t>Powerfu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8"/>
          <p:cNvSpPr/>
          <p:nvPr/>
        </p:nvSpPr>
        <p:spPr>
          <a:xfrm>
            <a:off x="7777080" y="3200400"/>
            <a:ext cx="10954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urora BdCn BT"/>
                <a:ea typeface="张海山锐线体简"/>
              </a:rPr>
              <a:t>Free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9"/>
          <p:cNvSpPr/>
          <p:nvPr/>
        </p:nvSpPr>
        <p:spPr>
          <a:xfrm>
            <a:off x="9637560" y="3200400"/>
            <a:ext cx="10954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urora BdCn BT"/>
                <a:ea typeface="张海山锐线体简"/>
              </a:rPr>
              <a:t>Thanks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ectangle 10"/>
          <p:cNvSpPr/>
          <p:nvPr/>
        </p:nvSpPr>
        <p:spPr>
          <a:xfrm>
            <a:off x="3416400" y="5554800"/>
            <a:ext cx="189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11"/>
          <p:cNvSpPr/>
          <p:nvPr/>
        </p:nvSpPr>
        <p:spPr>
          <a:xfrm>
            <a:off x="3416400" y="50846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张海山锐线体简"/>
                <a:ea typeface="张海山锐线体简"/>
              </a:rPr>
              <a:t>01.</a:t>
            </a:r>
            <a:r>
              <a:rPr b="1" lang="zh-CN" sz="1800" spc="-1" strike="noStrike">
                <a:solidFill>
                  <a:srgbClr val="0099ff"/>
                </a:solidFill>
                <a:latin typeface="张海山锐线体简"/>
                <a:ea typeface="张海山锐线体简"/>
              </a:rPr>
              <a:t>简单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12"/>
          <p:cNvSpPr/>
          <p:nvPr/>
        </p:nvSpPr>
        <p:spPr>
          <a:xfrm>
            <a:off x="5375160" y="5554800"/>
            <a:ext cx="189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13"/>
          <p:cNvSpPr/>
          <p:nvPr/>
        </p:nvSpPr>
        <p:spPr>
          <a:xfrm>
            <a:off x="5375160" y="50846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张海山锐线体简"/>
                <a:ea typeface="张海山锐线体简"/>
              </a:rPr>
              <a:t>02.</a:t>
            </a:r>
            <a:r>
              <a:rPr b="1" lang="zh-CN" sz="1800" spc="-1" strike="noStrike">
                <a:solidFill>
                  <a:srgbClr val="ff3399"/>
                </a:solidFill>
                <a:latin typeface="张海山锐线体简"/>
                <a:ea typeface="张海山锐线体简"/>
              </a:rPr>
              <a:t>活力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14"/>
          <p:cNvSpPr/>
          <p:nvPr/>
        </p:nvSpPr>
        <p:spPr>
          <a:xfrm>
            <a:off x="7273800" y="5554800"/>
            <a:ext cx="189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Rectangle 15"/>
          <p:cNvSpPr/>
          <p:nvPr/>
        </p:nvSpPr>
        <p:spPr>
          <a:xfrm>
            <a:off x="7273800" y="508464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张海山锐线体简"/>
                <a:ea typeface="张海山锐线体简"/>
              </a:rPr>
              <a:t>03.</a:t>
            </a:r>
            <a:r>
              <a:rPr b="1" lang="zh-CN" sz="1800" spc="-1" strike="noStrike">
                <a:solidFill>
                  <a:srgbClr val="ff9900"/>
                </a:solidFill>
                <a:latin typeface="张海山锐线体简"/>
                <a:ea typeface="张海山锐线体简"/>
              </a:rPr>
              <a:t>轻松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69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73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方案-08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3"/>
          <p:cNvSpPr/>
          <p:nvPr/>
        </p:nvSpPr>
        <p:spPr>
          <a:xfrm>
            <a:off x="3992400" y="1925640"/>
            <a:ext cx="423864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164520" indent="-16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400" spc="-1" strike="noStrike">
                <a:solidFill>
                  <a:srgbClr val="ffffff"/>
                </a:solidFill>
                <a:latin typeface="Aurora BdCn BT"/>
                <a:ea typeface="张海山锐线体简"/>
              </a:rPr>
              <a:t>Simple</a:t>
            </a:r>
            <a:endParaRPr b="1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3165480" y="5786280"/>
            <a:ext cx="6014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598ff"/>
                </a:solidFill>
                <a:latin typeface="Calibri"/>
                <a:ea typeface="张海山锐线体简"/>
              </a:rPr>
              <a:t>30M</a:t>
            </a:r>
            <a:r>
              <a:rPr b="1" lang="zh-CN" sz="1800" spc="-1" strike="noStrike">
                <a:solidFill>
                  <a:srgbClr val="6598ff"/>
                </a:solidFill>
                <a:latin typeface="Calibri"/>
                <a:ea typeface="张海山锐线体简"/>
              </a:rPr>
              <a:t>的“苗条”身材，不到一分钟即可完成安装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4957920" y="3809880"/>
            <a:ext cx="23619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182880" indent="-18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urora BdCn BT"/>
                <a:ea typeface="张海山锐线体简"/>
              </a:rPr>
              <a:t>简单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6" descr="111-14"/>
          <p:cNvPicPr/>
          <p:nvPr/>
        </p:nvPicPr>
        <p:blipFill>
          <a:blip r:embed="rId2"/>
          <a:stretch/>
        </p:blipFill>
        <p:spPr>
          <a:xfrm>
            <a:off x="5624640" y="4767120"/>
            <a:ext cx="8906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936720" y="2066760"/>
            <a:ext cx="5873760" cy="50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ff"/>
                </a:solidFill>
                <a:latin typeface="微软雅黑"/>
                <a:ea typeface="微软雅黑"/>
              </a:rPr>
              <a:t>请输入文字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3" descr=""/>
          <p:cNvPicPr/>
          <p:nvPr/>
        </p:nvPicPr>
        <p:blipFill>
          <a:blip r:embed="rId1"/>
          <a:stretch/>
        </p:blipFill>
        <p:spPr>
          <a:xfrm>
            <a:off x="7256520" y="2571840"/>
            <a:ext cx="2052720" cy="13698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" descr=""/>
          <p:cNvPicPr/>
          <p:nvPr/>
        </p:nvPicPr>
        <p:blipFill>
          <a:blip r:embed="rId2"/>
          <a:stretch/>
        </p:blipFill>
        <p:spPr>
          <a:xfrm>
            <a:off x="9396360" y="2571840"/>
            <a:ext cx="2052720" cy="13698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5" descr=""/>
          <p:cNvPicPr/>
          <p:nvPr/>
        </p:nvPicPr>
        <p:blipFill>
          <a:blip r:embed="rId3"/>
          <a:stretch/>
        </p:blipFill>
        <p:spPr>
          <a:xfrm>
            <a:off x="7256520" y="4030560"/>
            <a:ext cx="2052720" cy="137016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6" descr=""/>
          <p:cNvPicPr/>
          <p:nvPr/>
        </p:nvPicPr>
        <p:blipFill>
          <a:blip r:embed="rId4"/>
          <a:stretch/>
        </p:blipFill>
        <p:spPr>
          <a:xfrm>
            <a:off x="9396360" y="4030560"/>
            <a:ext cx="2052720" cy="1370160"/>
          </a:xfrm>
          <a:prstGeom prst="rect">
            <a:avLst/>
          </a:prstGeom>
          <a:ln w="0">
            <a:noFill/>
          </a:ln>
        </p:spPr>
      </p:pic>
      <p:sp>
        <p:nvSpPr>
          <p:cNvPr id="562" name="Line 7"/>
          <p:cNvSpPr/>
          <p:nvPr/>
        </p:nvSpPr>
        <p:spPr>
          <a:xfrm>
            <a:off x="7480440" y="800280"/>
            <a:ext cx="4711680" cy="0"/>
          </a:xfrm>
          <a:prstGeom prst="line">
            <a:avLst/>
          </a:prstGeom>
          <a:ln w="9360">
            <a:solidFill>
              <a:srgbClr val="c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AutoShape 8"/>
          <p:cNvSpPr/>
          <p:nvPr/>
        </p:nvSpPr>
        <p:spPr>
          <a:xfrm>
            <a:off x="844560" y="660240"/>
            <a:ext cx="1981080" cy="223920"/>
          </a:xfrm>
          <a:prstGeom prst="parallelogram">
            <a:avLst>
              <a:gd name="adj" fmla="val 159906"/>
            </a:avLst>
          </a:prstGeom>
          <a:solidFill>
            <a:srgbClr val="c0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AutoShape 9"/>
          <p:cNvSpPr/>
          <p:nvPr/>
        </p:nvSpPr>
        <p:spPr>
          <a:xfrm>
            <a:off x="965160" y="660240"/>
            <a:ext cx="1981080" cy="223920"/>
          </a:xfrm>
          <a:prstGeom prst="parallelogram">
            <a:avLst>
              <a:gd name="adj" fmla="val 159906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10"/>
          <p:cNvSpPr/>
          <p:nvPr/>
        </p:nvSpPr>
        <p:spPr>
          <a:xfrm>
            <a:off x="2662200" y="660240"/>
            <a:ext cx="1981080" cy="223920"/>
          </a:xfrm>
          <a:prstGeom prst="parallelogram">
            <a:avLst>
              <a:gd name="adj" fmla="val 159906"/>
            </a:avLst>
          </a:prstGeom>
          <a:solidFill>
            <a:srgbClr val="c0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11"/>
          <p:cNvSpPr/>
          <p:nvPr/>
        </p:nvSpPr>
        <p:spPr>
          <a:xfrm>
            <a:off x="2782800" y="660240"/>
            <a:ext cx="1981440" cy="223920"/>
          </a:xfrm>
          <a:prstGeom prst="parallelogram">
            <a:avLst>
              <a:gd name="adj" fmla="val 159935"/>
            </a:avLst>
          </a:prstGeom>
          <a:solidFill>
            <a:srgbClr val="c0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12"/>
          <p:cNvSpPr/>
          <p:nvPr/>
        </p:nvSpPr>
        <p:spPr>
          <a:xfrm>
            <a:off x="4462560" y="660240"/>
            <a:ext cx="1981080" cy="223920"/>
          </a:xfrm>
          <a:prstGeom prst="parallelogram">
            <a:avLst>
              <a:gd name="adj" fmla="val 159906"/>
            </a:avLst>
          </a:prstGeom>
          <a:solidFill>
            <a:srgbClr val="c0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13"/>
          <p:cNvSpPr/>
          <p:nvPr/>
        </p:nvSpPr>
        <p:spPr>
          <a:xfrm>
            <a:off x="4583160" y="660240"/>
            <a:ext cx="1981080" cy="223920"/>
          </a:xfrm>
          <a:prstGeom prst="parallelogram">
            <a:avLst>
              <a:gd name="adj" fmla="val 159906"/>
            </a:avLst>
          </a:prstGeom>
          <a:solidFill>
            <a:srgbClr val="c0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AutoShape 14"/>
          <p:cNvSpPr/>
          <p:nvPr/>
        </p:nvSpPr>
        <p:spPr>
          <a:xfrm>
            <a:off x="6262560" y="660240"/>
            <a:ext cx="1981440" cy="223920"/>
          </a:xfrm>
          <a:prstGeom prst="parallelogram">
            <a:avLst>
              <a:gd name="adj" fmla="val 159935"/>
            </a:avLst>
          </a:prstGeom>
          <a:solidFill>
            <a:srgbClr val="c0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AutoShape 15"/>
          <p:cNvSpPr/>
          <p:nvPr/>
        </p:nvSpPr>
        <p:spPr>
          <a:xfrm>
            <a:off x="6383160" y="660240"/>
            <a:ext cx="1981440" cy="223920"/>
          </a:xfrm>
          <a:prstGeom prst="parallelogram">
            <a:avLst>
              <a:gd name="adj" fmla="val 159935"/>
            </a:avLst>
          </a:prstGeom>
          <a:solidFill>
            <a:srgbClr val="c0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Rectangle 16"/>
          <p:cNvSpPr/>
          <p:nvPr/>
        </p:nvSpPr>
        <p:spPr>
          <a:xfrm>
            <a:off x="1258920" y="596880"/>
            <a:ext cx="8794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urora BdCn BT"/>
                <a:ea typeface="张海山锐线体简"/>
              </a:rPr>
              <a:t>Simple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Rectangle 17"/>
          <p:cNvSpPr/>
          <p:nvPr/>
        </p:nvSpPr>
        <p:spPr>
          <a:xfrm>
            <a:off x="3129120" y="596880"/>
            <a:ext cx="10951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urora BdCn BT"/>
                <a:ea typeface="张海山锐线体简"/>
              </a:rPr>
              <a:t>Powerfu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Rectangle 18"/>
          <p:cNvSpPr/>
          <p:nvPr/>
        </p:nvSpPr>
        <p:spPr>
          <a:xfrm>
            <a:off x="4881600" y="596880"/>
            <a:ext cx="10954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urora BdCn BT"/>
                <a:ea typeface="张海山锐线体简"/>
              </a:rPr>
              <a:t>Free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9"/>
          <p:cNvSpPr/>
          <p:nvPr/>
        </p:nvSpPr>
        <p:spPr>
          <a:xfrm>
            <a:off x="6716880" y="596880"/>
            <a:ext cx="10951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urora BdCn BT"/>
                <a:ea typeface="张海山锐线体简"/>
              </a:rPr>
              <a:t>Thanks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方案-08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4162320" y="2141640"/>
            <a:ext cx="394992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194040" indent="-194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200" spc="-1" strike="noStrike">
                <a:solidFill>
                  <a:srgbClr val="ffffff"/>
                </a:solidFill>
                <a:latin typeface="Aurora BdCn BT"/>
                <a:ea typeface="张海山锐线体简"/>
              </a:rPr>
              <a:t>Powerful</a:t>
            </a:r>
            <a:endParaRPr b="1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3165480" y="5786280"/>
            <a:ext cx="6014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Calibri"/>
                <a:ea typeface="张海山锐线体简"/>
              </a:rPr>
              <a:t>工作平台实现个性化定制，爱不释手的文字工具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ectangle 5"/>
          <p:cNvSpPr/>
          <p:nvPr/>
        </p:nvSpPr>
        <p:spPr>
          <a:xfrm>
            <a:off x="4957920" y="3809880"/>
            <a:ext cx="23619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182880" indent="-18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urora BdCn BT"/>
                <a:ea typeface="张海山锐线体简"/>
              </a:rPr>
              <a:t>活力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Picture 6" descr="方案-19"/>
          <p:cNvPicPr/>
          <p:nvPr/>
        </p:nvPicPr>
        <p:blipFill>
          <a:blip r:embed="rId2"/>
          <a:stretch/>
        </p:blipFill>
        <p:spPr>
          <a:xfrm>
            <a:off x="5738760" y="4857840"/>
            <a:ext cx="71280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11-11"/>
          <p:cNvPicPr/>
          <p:nvPr/>
        </p:nvPicPr>
        <p:blipFill>
          <a:blip r:embed="rId1"/>
          <a:stretch/>
        </p:blipFill>
        <p:spPr>
          <a:xfrm>
            <a:off x="0" y="0"/>
            <a:ext cx="12190320" cy="6858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3" descr="111-11"/>
          <p:cNvPicPr/>
          <p:nvPr/>
        </p:nvPicPr>
        <p:blipFill>
          <a:blip r:embed="rId2"/>
          <a:stretch/>
        </p:blipFill>
        <p:spPr>
          <a:xfrm>
            <a:off x="0" y="0"/>
            <a:ext cx="121903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2" name="Group 4"/>
          <p:cNvGrpSpPr/>
          <p:nvPr/>
        </p:nvGrpSpPr>
        <p:grpSpPr>
          <a:xfrm>
            <a:off x="2019240" y="3124080"/>
            <a:ext cx="6477120" cy="2657520"/>
            <a:chOff x="2019240" y="3124080"/>
            <a:chExt cx="6477120" cy="2657520"/>
          </a:xfrm>
        </p:grpSpPr>
        <p:sp>
          <p:nvSpPr>
            <p:cNvPr id="583" name="AutoShape 5"/>
            <p:cNvSpPr/>
            <p:nvPr/>
          </p:nvSpPr>
          <p:spPr>
            <a:xfrm rot="10800000">
              <a:off x="2019240" y="3568680"/>
              <a:ext cx="774720" cy="774720"/>
            </a:xfrm>
            <a:prstGeom prst="flowChartMagneticTap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6"/>
            <p:cNvSpPr/>
            <p:nvPr/>
          </p:nvSpPr>
          <p:spPr>
            <a:xfrm rot="10800000">
              <a:off x="3311280" y="5006880"/>
              <a:ext cx="774360" cy="774720"/>
            </a:xfrm>
            <a:prstGeom prst="flowChartMagneticTap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AutoShape 7"/>
            <p:cNvSpPr/>
            <p:nvPr/>
          </p:nvSpPr>
          <p:spPr>
            <a:xfrm rot="10800000">
              <a:off x="7721640" y="3124080"/>
              <a:ext cx="774720" cy="774720"/>
            </a:xfrm>
            <a:prstGeom prst="flowChartMagneticTap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AutoShape 8"/>
            <p:cNvSpPr/>
            <p:nvPr/>
          </p:nvSpPr>
          <p:spPr>
            <a:xfrm rot="10800000">
              <a:off x="6713280" y="4564080"/>
              <a:ext cx="774360" cy="774720"/>
            </a:xfrm>
            <a:prstGeom prst="flowChartMagneticTap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7" name="Line 9"/>
          <p:cNvSpPr/>
          <p:nvPr/>
        </p:nvSpPr>
        <p:spPr>
          <a:xfrm>
            <a:off x="7480440" y="800280"/>
            <a:ext cx="4711680" cy="0"/>
          </a:xfrm>
          <a:prstGeom prst="line">
            <a:avLst/>
          </a:prstGeom>
          <a:ln w="9360">
            <a:solidFill>
              <a:srgbClr val="c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AutoShape 10"/>
          <p:cNvSpPr/>
          <p:nvPr/>
        </p:nvSpPr>
        <p:spPr>
          <a:xfrm>
            <a:off x="844560" y="660240"/>
            <a:ext cx="1981080" cy="223920"/>
          </a:xfrm>
          <a:prstGeom prst="parallelogram">
            <a:avLst>
              <a:gd name="adj" fmla="val 159906"/>
            </a:avLst>
          </a:prstGeom>
          <a:solidFill>
            <a:srgbClr val="c0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AutoShape 11"/>
          <p:cNvSpPr/>
          <p:nvPr/>
        </p:nvSpPr>
        <p:spPr>
          <a:xfrm>
            <a:off x="965160" y="660240"/>
            <a:ext cx="1981080" cy="223920"/>
          </a:xfrm>
          <a:prstGeom prst="parallelogram">
            <a:avLst>
              <a:gd name="adj" fmla="val 159906"/>
            </a:avLst>
          </a:prstGeom>
          <a:solidFill>
            <a:srgbClr val="c0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AutoShape 12"/>
          <p:cNvSpPr/>
          <p:nvPr/>
        </p:nvSpPr>
        <p:spPr>
          <a:xfrm>
            <a:off x="2662200" y="660240"/>
            <a:ext cx="1981080" cy="223920"/>
          </a:xfrm>
          <a:prstGeom prst="parallelogram">
            <a:avLst>
              <a:gd name="adj" fmla="val 159906"/>
            </a:avLst>
          </a:prstGeom>
          <a:solidFill>
            <a:srgbClr val="c0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AutoShape 13"/>
          <p:cNvSpPr/>
          <p:nvPr/>
        </p:nvSpPr>
        <p:spPr>
          <a:xfrm>
            <a:off x="2782800" y="660240"/>
            <a:ext cx="1981440" cy="223920"/>
          </a:xfrm>
          <a:prstGeom prst="parallelogram">
            <a:avLst>
              <a:gd name="adj" fmla="val 159935"/>
            </a:avLst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AutoShape 14"/>
          <p:cNvSpPr/>
          <p:nvPr/>
        </p:nvSpPr>
        <p:spPr>
          <a:xfrm>
            <a:off x="4462560" y="660240"/>
            <a:ext cx="1981080" cy="223920"/>
          </a:xfrm>
          <a:prstGeom prst="parallelogram">
            <a:avLst>
              <a:gd name="adj" fmla="val 159906"/>
            </a:avLst>
          </a:prstGeom>
          <a:solidFill>
            <a:srgbClr val="c0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AutoShape 15"/>
          <p:cNvSpPr/>
          <p:nvPr/>
        </p:nvSpPr>
        <p:spPr>
          <a:xfrm>
            <a:off x="4583160" y="660240"/>
            <a:ext cx="1981080" cy="223920"/>
          </a:xfrm>
          <a:prstGeom prst="parallelogram">
            <a:avLst>
              <a:gd name="adj" fmla="val 159906"/>
            </a:avLst>
          </a:prstGeom>
          <a:solidFill>
            <a:srgbClr val="c0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AutoShape 16"/>
          <p:cNvSpPr/>
          <p:nvPr/>
        </p:nvSpPr>
        <p:spPr>
          <a:xfrm>
            <a:off x="6262560" y="660240"/>
            <a:ext cx="1981440" cy="223920"/>
          </a:xfrm>
          <a:prstGeom prst="parallelogram">
            <a:avLst>
              <a:gd name="adj" fmla="val 159935"/>
            </a:avLst>
          </a:prstGeom>
          <a:solidFill>
            <a:srgbClr val="c0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AutoShape 17"/>
          <p:cNvSpPr/>
          <p:nvPr/>
        </p:nvSpPr>
        <p:spPr>
          <a:xfrm>
            <a:off x="6383160" y="660240"/>
            <a:ext cx="1981440" cy="223920"/>
          </a:xfrm>
          <a:prstGeom prst="parallelogram">
            <a:avLst>
              <a:gd name="adj" fmla="val 159935"/>
            </a:avLst>
          </a:prstGeom>
          <a:solidFill>
            <a:srgbClr val="c0b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Rectangle 18"/>
          <p:cNvSpPr/>
          <p:nvPr/>
        </p:nvSpPr>
        <p:spPr>
          <a:xfrm>
            <a:off x="1258920" y="596880"/>
            <a:ext cx="8794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urora BdCn BT"/>
                <a:ea typeface="张海山锐线体简"/>
              </a:rPr>
              <a:t>Simple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Rectangle 19"/>
          <p:cNvSpPr/>
          <p:nvPr/>
        </p:nvSpPr>
        <p:spPr>
          <a:xfrm>
            <a:off x="3129120" y="596880"/>
            <a:ext cx="10951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urora BdCn BT"/>
                <a:ea typeface="张海山锐线体简"/>
              </a:rPr>
              <a:t>Powerfu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20"/>
          <p:cNvSpPr/>
          <p:nvPr/>
        </p:nvSpPr>
        <p:spPr>
          <a:xfrm>
            <a:off x="4881600" y="596880"/>
            <a:ext cx="10954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urora BdCn BT"/>
                <a:ea typeface="张海山锐线体简"/>
              </a:rPr>
              <a:t>Free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Rectangle 21"/>
          <p:cNvSpPr/>
          <p:nvPr/>
        </p:nvSpPr>
        <p:spPr>
          <a:xfrm>
            <a:off x="6716880" y="596880"/>
            <a:ext cx="10951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urora BdCn BT"/>
                <a:ea typeface="张海山锐线体简"/>
              </a:rPr>
              <a:t>Thanks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22"/>
          <p:cNvSpPr/>
          <p:nvPr/>
        </p:nvSpPr>
        <p:spPr>
          <a:xfrm>
            <a:off x="2049480" y="3657600"/>
            <a:ext cx="8082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166680" indent="-16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urora BdCn BT"/>
                <a:ea typeface="张海山锐线体简"/>
              </a:rPr>
              <a:t>20%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Rectangle 23"/>
          <p:cNvSpPr/>
          <p:nvPr/>
        </p:nvSpPr>
        <p:spPr>
          <a:xfrm>
            <a:off x="3419640" y="5095800"/>
            <a:ext cx="807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03400" indent="-203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urora BdCn BT"/>
                <a:ea typeface="张海山锐线体简"/>
              </a:rPr>
              <a:t>5%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Rectangle 24"/>
          <p:cNvSpPr/>
          <p:nvPr/>
        </p:nvSpPr>
        <p:spPr>
          <a:xfrm>
            <a:off x="7751880" y="3213000"/>
            <a:ext cx="80784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164520" indent="-16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urora BdCn BT"/>
                <a:ea typeface="张海山锐线体简"/>
              </a:rPr>
              <a:t>50%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Rectangle 25"/>
          <p:cNvSpPr/>
          <p:nvPr/>
        </p:nvSpPr>
        <p:spPr>
          <a:xfrm>
            <a:off x="6743880" y="4653000"/>
            <a:ext cx="807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164520" indent="-164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urora BdCn BT"/>
                <a:ea typeface="张海山锐线体简"/>
              </a:rPr>
              <a:t>10%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26"/>
          <p:cNvSpPr/>
          <p:nvPr/>
        </p:nvSpPr>
        <p:spPr>
          <a:xfrm>
            <a:off x="792000" y="3414600"/>
            <a:ext cx="1087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187200" indent="-18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Calibri"/>
              </a:rPr>
              <a:t>NORTH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Calibri"/>
              </a:rPr>
              <a:t>ATLANTIC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Calibri"/>
              </a:rPr>
              <a:t>OCEAC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Rectangle 27"/>
          <p:cNvSpPr/>
          <p:nvPr/>
        </p:nvSpPr>
        <p:spPr>
          <a:xfrm>
            <a:off x="1774800" y="5157720"/>
            <a:ext cx="1087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187200" indent="-18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Calibri"/>
              </a:rPr>
              <a:t>SOUTH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Calibri"/>
              </a:rPr>
              <a:t>ATLANTIC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Calibri"/>
              </a:rPr>
              <a:t>OCEAC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Rectangle 28"/>
          <p:cNvSpPr/>
          <p:nvPr/>
        </p:nvSpPr>
        <p:spPr>
          <a:xfrm>
            <a:off x="4305240" y="3137040"/>
            <a:ext cx="1087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187200" indent="-18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Calibri"/>
              </a:rPr>
              <a:t>NORTH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Calibri"/>
              </a:rPr>
              <a:t>ATLANTIC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Calibri"/>
              </a:rPr>
              <a:t>OCEAC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Rectangle 29"/>
          <p:cNvSpPr/>
          <p:nvPr/>
        </p:nvSpPr>
        <p:spPr>
          <a:xfrm>
            <a:off x="4943520" y="5445000"/>
            <a:ext cx="1087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187200" indent="-18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Calibri"/>
              </a:rPr>
              <a:t>SOUTH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Calibri"/>
              </a:rPr>
              <a:t>ATLANTIC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Calibri"/>
              </a:rPr>
              <a:t>OCEAC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Rectangle 30"/>
          <p:cNvSpPr/>
          <p:nvPr/>
        </p:nvSpPr>
        <p:spPr>
          <a:xfrm>
            <a:off x="10255320" y="5613480"/>
            <a:ext cx="1087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187200" indent="-18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Calibri"/>
              </a:rPr>
              <a:t>SOUTH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Calibri"/>
              </a:rPr>
              <a:t>ATLANTIC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Calibri"/>
              </a:rPr>
              <a:t>OCEAC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Rectangle 31"/>
          <p:cNvSpPr/>
          <p:nvPr/>
        </p:nvSpPr>
        <p:spPr>
          <a:xfrm>
            <a:off x="9802800" y="3218040"/>
            <a:ext cx="1087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187200" indent="-18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Calibri"/>
              </a:rPr>
              <a:t>NORTH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Calibri"/>
              </a:rPr>
              <a:t>ATLANTIC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Calibri"/>
              </a:rPr>
              <a:t>OCEAC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32"/>
          <p:cNvSpPr/>
          <p:nvPr/>
        </p:nvSpPr>
        <p:spPr>
          <a:xfrm>
            <a:off x="7434360" y="4941720"/>
            <a:ext cx="108720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Calibri"/>
              </a:rPr>
              <a:t>INDIAN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Calibri"/>
              </a:rPr>
              <a:t>OCEAC</a:t>
            </a: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111-12"/>
          <p:cNvPicPr/>
          <p:nvPr/>
        </p:nvPicPr>
        <p:blipFill>
          <a:blip r:embed="rId1"/>
          <a:stretch/>
        </p:blipFill>
        <p:spPr>
          <a:xfrm>
            <a:off x="47520" y="-22320"/>
            <a:ext cx="12192120" cy="685332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3"/>
          <p:cNvSpPr/>
          <p:nvPr/>
        </p:nvSpPr>
        <p:spPr>
          <a:xfrm>
            <a:off x="3992400" y="2916360"/>
            <a:ext cx="423864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182880" indent="-18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0bcbc"/>
                </a:solidFill>
                <a:latin typeface="Aurora BdCn BT"/>
                <a:ea typeface="张海山锐线体简"/>
              </a:rPr>
              <a:t>Thanks</a:t>
            </a:r>
            <a:endParaRPr b="1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3992400" y="3924360"/>
            <a:ext cx="4238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189720" indent="-189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bcbc"/>
                </a:solidFill>
                <a:latin typeface="Aurora BdCn BT"/>
                <a:ea typeface="张海山锐线体简"/>
              </a:rPr>
              <a:t>谢 谢 观 看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615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1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17T06:04:29Z</dcterms:modified>
  <cp:revision>1</cp:revision>
  <dc:subject/>
  <dc:title>PowerPoint 演示文稿</dc:title>
</cp:coreProperties>
</file>