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E34-6A48-4577-BF40-068F36EC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1D3-8416-4FE5-8F68-2E59C5E9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26309-3E02-4D17-838B-D4DE7FE7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EED4-A458-4B2C-8363-90EB53B5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B8BF6-0C6A-4C5A-B259-93913F7B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18183-D309-4F45-BCE8-2E52B935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38B9F-62B5-40D2-A8FD-759B72C4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68211-4CF3-4722-83A9-9BBF09F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2CCB-600B-4C32-BE00-69E46AB1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DFBBF-0114-46FA-8C52-F8D5FE8B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844A9-8037-432B-9F17-3C32CCA8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A7A6B-7E45-41A4-B520-80BAC849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2D2-6913-46FD-B08F-35D9E2E2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91A25-008D-490C-B6C6-B7110F7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81DEE-6F0C-44CD-AC56-41FF016C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98402-D26F-4CD6-AA6C-0BE3A010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0B68C-236C-4D7E-8A38-A8E315CA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589A0-5D2C-4DE4-88C7-1960EE67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FDEBA-76CD-41E3-9E6A-146F72D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E3DFD-2689-4188-83EE-868C67C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B8FE-5104-4ECE-AF82-F599F45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DD5FC-7434-446F-B51F-9A1A1C7B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326EC-26CD-4E7C-9DBD-090C8904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8EE-8749-4919-9678-FE69A70E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03B92-4B42-472B-B469-23DEE590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843BC-268D-4B48-987F-925A6B90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0A7C9-3851-4EE1-A8CB-D93082D4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8A49-A2C9-4A08-8B1D-C9F028F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63258-70DA-455E-A5A4-CD16B1C4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A0581-DA6A-4A08-B856-E9E53B71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4A132-0519-4984-9476-3C66B07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9FC84-8651-4CF0-B8AD-C6672D7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6B71E-8924-43C8-84E9-CB819AB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06891-0057-4BD6-8803-7C50E9C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1B59-5870-4DC5-867B-8EB17E73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1B1AD-5E91-4CEF-A5FF-A0E813AB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69155-AE19-4730-AD76-90101B62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0DD8-142E-45E5-A624-73119CC1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B4B9B-B3EF-40DF-BEBC-28EC233F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814DB-A7BF-4F7A-8B73-B049652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99ECC-A208-44BF-8557-4B4C89DD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C8275-BF40-49E4-AAFF-F52CF61A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0C4D4-DA6A-419B-AF03-FB802251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50467-4ADF-4305-9C91-DE2635F7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C622-01CF-4EB1-9C5A-8288CAD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A27C-07F9-45FE-A6DD-5361F7FC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F7803-2E8C-4732-A635-BF499907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5F355-D9DD-4923-9C11-AF365C5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D67EE-8E52-44AA-AB47-A19C9505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E3ED4-CC2D-4D17-8F5F-33B13338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505B-7A31-41C4-B491-37107259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EA232-8254-44AC-B9D7-068871AA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FA9C1-047A-4FFD-BC5C-C18A811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0FAEC-4D08-4F49-85D6-DAEE9596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666B4-2E15-4164-8744-DF2830CF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5213A-C678-4A06-B9FC-D5E16854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2488-798F-4958-88E9-5D7F376B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6D1B3-269E-40B8-9558-105A2C55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4CF79-FFE9-4314-9A99-0449EE1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1CD82-DD2E-4166-9B87-2BE136E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4F74-CBB1-4C0A-853B-7123B2D3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B0AF8-B3DE-4550-B5F3-50105AF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0AD39-F078-4457-9882-4284BB50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AB4A9-A148-4FB5-82E1-C7FA1727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1F4CB-1607-4B6C-AB89-DB0C18B0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2934E-18C6-4C61-A5DF-BE83CF6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92520-EEC8-44E0-895D-3F3DB65D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3537-5C4C-48C9-88C9-B5116BC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2A641-0F1A-4067-99DB-D2A9FE62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FC373-9B1A-46FE-BF60-1A122139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ED73C-2CF9-48BE-8923-F1950FDB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59614-EDAF-4911-94DE-9530172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81105-81C3-40CD-B275-BFB2D86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39B91-B253-4813-B7B1-6B65C51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474FA-306A-47B7-97A5-0B594236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9C340-E269-4804-A708-578E071B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CD15F-E99F-42DE-A6EA-A0E6124C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B9D9-F865-4983-A512-135AD21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2785-28CE-47E7-97A5-E7AA897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D903-E125-4F96-B213-D6121BD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234-E7A6-4DAF-B15D-3E0164D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9EF9-1B17-41D5-AC4D-DDF20867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4CBE-0E51-4B41-8C83-B208CE5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F2C3-A9A7-4017-B484-EA292E34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B564-822B-4AD0-9205-DEFE728A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976-4327-4797-85FA-1302A144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6CF-23CF-4C6C-88AD-CE8839D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0955-12A7-4C54-B528-A2F4DB6F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E2BE-37E8-44EF-A315-39FAB5BE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5533-0A44-4B02-8ABD-3B0F6A2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C86-C971-4C16-A19D-D7DBEE9F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E139-7D9C-442A-A708-199CD95A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B951-A929-4DBD-9848-4782FDEB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FE0D-D89D-40C7-AD03-BD4039BF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393D-B205-43E3-A107-34434BB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DB8C-0468-4771-AE63-25B9DC7F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775F-CC65-47DA-91DC-619C7E0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729A-1544-49D2-8E75-C7205C19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FFB1-A7F1-440F-A290-29780F8B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00BCB-18AB-4911-9D37-96F50246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EF767-4D91-4F05-A2F9-5845C054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E76-812D-4F70-954E-876A9912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0FF9-22E8-4794-BCA6-A19BCE2D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FD00-0160-49D9-B50E-A9D72ED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90BD-6023-46B7-95BD-F154598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0C32-416E-4A3E-992F-719FDDC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82348-1C10-4C49-A624-B875278E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602D-BF98-4F03-8F2E-A899014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DC098-0B8A-47EB-B7CA-795872A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BEA8-C655-45BE-806A-43BF6A52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87D3-FC36-4724-9258-A16FC258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8836D-CA0C-464D-8C31-C55E90A5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2B5-EEDD-4D95-8535-BF8FF44F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AF26-CC3E-473A-96D8-5188C56C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C0ADB-6385-466C-A602-A8080CB0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6242-3836-4BF5-9AE9-8E32E9A2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1873-EE8F-49B5-94A5-66E6AF46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25C3-D8C4-4550-B45C-13D5DB5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DE3D-B3B1-43EC-A478-2D39126D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D4E0-B547-4714-92E5-662620EA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E896-6D16-41B8-BC97-5229751B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7431F-93B0-4D40-B281-8148B26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1C79-A829-4697-AB85-5DA9DBC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192-1620-4C4F-929E-2A1817D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8EF9-F1BA-4CD3-B528-3B6E216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C9CD-B1B4-45B9-9F04-D12FC140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FF72-566B-4522-B291-0ACEA6AE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1883-ED7F-4154-AF81-6C78E4A3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72CF9-2012-49C3-981A-DCB68AF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89BB-5F85-4591-86E5-341ADE6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03F27-44D6-4BFE-82A7-30CE18C9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D88AD-A7C3-4185-9B62-E0305EE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9F725-D935-4A6F-BA3B-9022A4F8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6E97-0F14-442A-AFE7-D677B32B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874-B39C-44FF-96D3-E1D1A50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5CBF8-8075-4651-BF2C-12FFA8B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738BA-45CE-4EAE-A00F-61031A4C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D770-6D3F-4279-91F1-E17D00AA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9AA6C-C257-4309-A44F-FC3A570B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03232-7A93-463F-9D59-313E61A7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15389-80BA-4EFB-A8F7-C91E5B30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F123-CB3E-4BA9-9C27-748B2F7C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68EE-7B97-4D95-BF91-FCAC0C33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FC5BE-5B77-4033-BEE3-57A06FAD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E42D-3868-4DE3-966A-46BA718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733-95EE-4C84-ACF6-9C1A094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E63FE-3F9C-4341-9E2D-9D4A6BD4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C923-CDCD-4690-BBB7-57F6977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63B8-BEAD-41D7-A9AB-70F9167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4C786-0B2A-4C69-AB3B-678BE12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BF07-2FD5-41C0-86ED-1631634F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9B8FF-F5F6-4F24-ABB3-F5EC7EC0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112EA-B640-4D3E-B9D3-B33128BB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9579E-C740-4076-BBCB-E6DD85DF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35E6-8FB7-4F32-9C4E-4AC6714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5C9C1-3E30-432C-B3CE-40946B4E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644652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AA90-62C0-4A6A-A5C0-A409030B3A7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480-D3BB-47F8-821F-A2F2DD4D30D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1A66-83E4-4821-8833-8FFE4B3474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CE2-2F93-4EED-B981-107E54BC61E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F773-2E72-43E4-A4FE-0ABB0F6318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7F5C-1FFE-413A-8B6A-2C6E0AE4E2F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8794-A729-459F-904A-D71DF3F42A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825E-327E-49C7-8433-070103E21C0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06A8-F75F-401C-9BE9-9FD2BDFDD8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399-2D90-4DE9-8023-EB3BC35FB9A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087D-E503-4EF6-AAA9-381A3CD667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044-ACD4-4067-A65B-A9CC088D43B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F5A3-2223-4A20-8802-E9C9E991A8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B97A-D8B8-465F-AC69-4FD6A1AB893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360E-D3E8-4808-99E5-14C0191D91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C7AE-D9EF-4DD1-BE25-9270C423C73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9F2-5FA0-4DD8-9A57-0BE17A7E78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3258-7CA7-4C07-8457-EBF1FC86C56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679D-BC13-4AB7-9800-F4FDF71B92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FE3E-130D-404F-8092-D1FB76D88A4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A031-7562-40D9-8675-7770401748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D52D-1F37-4293-AD7C-3B7774E2C20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9046-068C-40B2-8172-F463F07AAD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92BB-5422-4918-AD8D-E0C16A1E44C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130A-31F8-4DC4-ADB8-5B4EF175C1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2"/>
          <p:cNvSpPr/>
          <p:nvPr/>
        </p:nvSpPr>
        <p:spPr>
          <a:xfrm>
            <a:off x="2124000" y="1916280"/>
            <a:ext cx="4753080" cy="2304720"/>
          </a:xfrm>
          <a:prstGeom prst="roundRect">
            <a:avLst>
              <a:gd name="adj" fmla="val 1917"/>
            </a:avLst>
          </a:prstGeom>
          <a:solidFill>
            <a:srgbClr val="33cccc">
              <a:alpha val="30000"/>
            </a:srgbClr>
          </a:solidFill>
          <a:ln w="0">
            <a:solidFill>
              <a:srgbClr val="49cac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93320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广西大学硕士论文答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80760" y="3623760"/>
            <a:ext cx="7419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机械工程学院  工程测试实验室西大新浪制作</a:t>
            </a:r>
            <a:endParaRPr b="1" lang="en-US" sz="1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日期占位符 3"/>
          <p:cNvSpPr/>
          <p:nvPr/>
        </p:nvSpPr>
        <p:spPr>
          <a:xfrm>
            <a:off x="395280" y="64468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30000" y="1441440"/>
            <a:ext cx="7824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1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、打开原来的幻灯片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ppt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，然后点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设计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2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、点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浏览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找到本模板，就可以套用了。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模板套用方法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295800" cy="466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24908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NordriDesignStudio</dc:creator>
  <dc:description/>
  <dc:language>en-US</dc:language>
  <cp:lastModifiedBy>a</cp:lastModifiedBy>
  <dcterms:modified xsi:type="dcterms:W3CDTF">2015-01-14T06:46:18Z</dcterms:modified>
  <cp:revision>1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