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2C2ED-0A99-40A4-B012-FF2DC2920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9FBF0-B3B8-4626-B7D1-F3049F002CA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52BAB0-020A-4933-88FB-5B22773D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FE01B7-E65E-48E3-B5E8-46D80C0B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E5881F-DAE7-4A28-BECA-434B205D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EECF05-031E-485F-B1AA-24A46CEF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582360-39E8-4811-8D11-D1E9E5BE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F100CD-4FBA-4B5E-ABD8-7CC8255A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A7F29C-682A-4025-816D-4E1DD054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C9ABF0-88E4-4383-95C5-5362B781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807C03-3850-43AF-BAD2-47940F80F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2BCB6D-7F68-4384-AA1E-6683CFA6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CCD46-79CF-41AC-8774-5E55957592A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B07F76-F757-4BBE-A9F3-0B44C354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4BA839-000B-472A-B63A-5C834495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4ECC5B-87BA-40A3-A943-098DC32D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8BD0C2-4EDD-4A74-9251-39073D3A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698247-38FA-4D19-B277-DB6F52FD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FB10FD-D020-4479-95A7-C4AFBA28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80D903-D2B2-4500-A51B-8AE1B582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5A50DC-E8D6-4809-BDA6-CD9F1DD7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1EED3C-ECC2-4AF9-B59F-E33EDAB5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01E710-4E61-45E2-A841-06FB216D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EB0F0-234F-42C1-A5CE-3799FB0CFA6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AD9186-12B6-4392-B0BE-560FD818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4AD776-F3DC-44FD-9AB0-45D7104E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3F0235-D346-415E-B636-AF9C7C9B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6495A5-71A4-4EEE-986A-99DC89BA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E08F28-A110-4987-BC19-B9D952D0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837A41-D71B-481F-A3CB-8A9E3226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D4C5F4-A733-4C84-962A-F8BACE0C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F139C6-C70A-4423-9F6C-19252920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3FB207-E260-4AAD-8264-B9553912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880216-6FBA-4575-AA45-423CDAE7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D4CAD-776E-46AC-AC18-723AA784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BA9A26-7A5C-4575-B56D-F6F18491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C1D459-51A3-4E08-AF43-987AC0E1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6F1CE5-B045-48CE-A2A9-5F5B5C66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5A9BF8-11B7-4E28-91F2-E84A58D60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A7318B-5BAC-41F3-B6E7-C62219E9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E2480F-F491-4B60-956B-B332E870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6AAEAE-4B76-4FD0-93A7-D78004B6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77729B-FD5E-4AA3-9B51-2E4DF401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64D14D-77B5-470B-9A92-750DF14B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11D9D49-382D-446A-8920-5EEFD333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DE845-5778-4FCA-899A-0F8B6204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9670234-0A44-41E1-B666-4D3CF66B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41CCC4-FA64-4785-8C97-75D8138F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C6287F-34A2-487D-B035-45CA5D69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1693A0-D74F-465B-B320-D91E7BA0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C676FB-42B8-4A89-BCD8-22C1511D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45832C-8DEC-4F73-BCCE-556BDC0D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1E1529-4DDD-4084-BCDC-43744CD4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EDD7E7-DE36-40B5-A2D8-C6EE1BFA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22CD55-2B02-4AA5-83E1-92FEA66A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FB2379-D07E-4BED-B437-CB540E33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EF648-CD1A-4055-801F-76A67C55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7BEFBF-513B-4357-91A8-9595455B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03DA44-8890-4AB8-B1F0-3CD61394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B02621-FCCD-49C2-8E58-357BEDB0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9B6DE8-FA75-4E84-8465-D8E475CD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F104A6-F4DA-4590-AAD2-12EFF674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33A8EF-7998-418C-AE4A-6678CD05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3C663C-8F1B-4260-A56F-53E9960E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3E544-5414-4C91-A101-D4FA512D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B9BDA-E0E6-4B10-B83C-74AB0070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58DDA-300A-4634-9957-3D8D1421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7E92B-007D-4E8D-B93C-21594C23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25D91-7F5C-4A6E-8DFE-19B88FC95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A0C24-E6A6-45ED-AB43-5CA40AA3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42146-9083-4444-9D9F-A6692536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4CD3F-DD6A-4317-BCFC-877763AF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880B5-892D-43CE-8278-AD8C39F9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790FC-129C-4D10-A262-AC11D8E9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EA481B-2707-42E8-80CF-702096FE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AFF78C-629C-4E3C-853E-E3A41883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AEDC4E-06D7-488A-A5F0-1561591E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B51E67-F2D6-4216-9292-DF1FEA95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E93031-FE05-4CE2-A348-0FA6EDE0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DC8BE-E2F4-4BFB-98D4-E8407F0CF6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446D2-1C1F-467D-B70F-53957919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F6E468-ECC0-428A-AED3-D5F2CD79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504ED4-2393-4D58-97EB-8CF23BDC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8FFEE-BF1E-490C-BD6E-14A1F74B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EE7022-C7FD-47B9-9F05-87AC35E3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BD87B6-738B-4D6D-9142-8D1640F55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63A9BD-32EF-4F09-B3DD-83177F016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C0BF4D-163C-46E2-AFB5-50B2FB8A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CB9E61-9C60-43A1-A6A9-0CBF9CC9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8065CD-7AF6-44EA-ABB2-D5A14C8D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CB848-36C2-46B0-B432-189CE3555B3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F5CBE7-1D06-4122-9AD4-266F396E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428972-1EC1-409C-9908-88A68C1B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6857DE-4428-4223-92E8-B29BD72C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5A2485-A659-434D-906F-88BB0513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B1FA27-90E0-48FB-B5BC-BAE1309E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8D22BA-32E2-48BC-AA9E-A671B814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B3BED7-E840-460F-A75D-8D81B826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BAA5FA-F66B-4F85-B440-810CFD00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DDBB5B-800E-4826-8B16-FEFAFFCA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54AB98-EE7F-43A7-B282-F717E731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B95CC-9EBC-4749-AA49-CA59CAB0D23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CAE33E-86B7-4EA0-8D5A-DFCD9641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3B9A7E-3ABE-4B78-B492-9FC9530D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DAB00C-8B9F-4411-A8DC-3025B98E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699CD6-622B-4067-80BD-9AE6FF38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DA6A31-9752-4C95-BE1F-E46E1EC8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8BD9F0-82ED-44F1-A2DC-46192C6D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DD6B52-2C9F-4CB8-BAD1-654621B8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093ED8-27B1-4198-9B2A-C057A5E4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814AA0-C32A-47D9-BBA1-D90A09C5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105760-C44A-4852-8A42-72998E31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33BBE-0610-4713-8027-49D23D09E97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9F3DEE-D44E-48B8-B89C-9912E34B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094BA5-141F-44CB-923B-8E3DD8F9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1270C5-5A7C-4692-B427-DC1F0BB8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71A2DB-3E48-4EA0-9B48-5B4602CC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B8289E-9124-4362-8FA2-6D7B79BD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95F3A0-8B77-4BE7-AB6D-9F2E278F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5A406D-75C1-482D-A0A2-5357A718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D079D1-9843-4577-B133-438395CD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82ADC1-920D-4DBF-9C9A-D3C838A9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5E9F4D-4646-4FFA-BDC1-22BA52EB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0C9B6-BE7C-49B5-9D21-686D1F64DDF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8E74F8-4BA4-4579-AA49-5394485D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7B1190-9286-4E74-A1B7-30A6D77E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36EE3C-582C-4E8E-ABF6-EE49F19F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EDDAAA-1EFB-48C1-B403-8E5D8C25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F846C6-DB26-4701-A739-A037E47D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BAF2B5-4CC5-4359-A44F-B9C23196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FDDE90-5242-47B2-A053-738BE89B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BCBADB-C758-4640-803D-E437CC64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67954D-118E-41FD-9847-762564C7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173E84-70C2-4BC2-A914-72CA9185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8BEAB-A404-403E-B64F-B5EA3584FA5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648599-4315-4DE5-BDF3-8E4FD2D5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729954-CA27-4573-811C-5D518853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1C7112-5F30-49A4-9469-A7E69A1F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3D491A-559C-434A-92A7-BCD1760A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275C32-EA8A-4763-8815-66D7DD39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B8278C-418C-4BB9-9A11-2F39A539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C051D0-172D-4FF5-A7B6-5BF4D39E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72C877-D7D4-4681-802C-0B995E07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9821B0-B120-494A-9F9C-38991C07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BBB8F9-FB69-4CEE-840E-E676AEEE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517AA-02E4-4F6E-AD81-FFCDB55DD37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551570-6310-411D-B945-C7A4B576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36FE66-A23D-49A9-AFCE-F8BDF93E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E3F704-9A21-407E-A7E3-F5799A53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1F9AF6-B070-4102-9382-93A40D42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260B10-CF1F-4DD6-ADC9-30F626D2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4D563C-7BCE-4728-9EE0-B8BFF66A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1DD075-10FB-458F-BD8A-78894291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465836-25F9-42B5-9774-E02DBF88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47DC53-F0CC-4264-BBA2-AD0F7441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4B05C9-BF56-4AE9-96A8-E330B86E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401840"/>
            <a:ext cx="10515600" cy="47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ca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ca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ca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fca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fca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D0EE-AD0C-4048-AB8E-762C9E18421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06280"/>
            <a:ext cx="1135368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1353680" y="206280"/>
            <a:ext cx="838440" cy="15876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Straight Connector 10"/>
          <p:cNvSpPr/>
          <p:nvPr/>
        </p:nvSpPr>
        <p:spPr>
          <a:xfrm>
            <a:off x="0" y="98280"/>
            <a:ext cx="11353680" cy="0"/>
          </a:xfrm>
          <a:prstGeom prst="line">
            <a:avLst/>
          </a:prstGeom>
          <a:ln w="284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Straight Connector 12"/>
          <p:cNvSpPr/>
          <p:nvPr/>
        </p:nvSpPr>
        <p:spPr>
          <a:xfrm>
            <a:off x="11353680" y="98280"/>
            <a:ext cx="838440" cy="0"/>
          </a:xfrm>
          <a:prstGeom prst="line">
            <a:avLst/>
          </a:prstGeom>
          <a:ln w="28440">
            <a:solidFill>
              <a:srgbClr val="ffde6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1B99-3141-4849-849C-AE2BFFCFABF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1239-69FE-45A1-A2B6-025956936F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FCE5-AAE4-4A03-B0C9-C6D771AA4A3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87EC-8B8E-43FC-817B-388C795F67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99EE-F460-4B47-8AFD-4C7D7D837CC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E7E6-14BD-45B5-AC12-D8AC19584D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778A-28F8-4479-BBBB-C69329540E9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0D63-B276-48D3-B721-CF7D2275CC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4BB7-4055-49C6-AA83-4E313F5A683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4C99-9025-4D8F-91A4-EFBE952AA9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DC10-A691-4A01-99F5-927F3DE4CFA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03E7-AF14-4049-960E-CB99D473A5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5905-79CB-486B-BCE8-E5637310FB4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23AF-02C8-4764-AA8D-61EDC6E16D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55FF-2D63-44AA-9219-8C2DF7FEB19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BB5E-711C-4BF1-83FC-8D5B4B17A3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DB8C-CC8A-40F0-9110-8FAE5813A74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461B-D316-4D30-BA64-D826083956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0C52-0E81-44C4-874C-070E791AC1C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7A8D-9782-4223-89DA-998137690F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2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E06C-9666-4071-92F7-C769A13763D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44DA-7A80-4B9F-8497-A5E81D00FC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FEF1-FB95-4D4D-AA0D-008B1DB8F33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4032-CB24-42A3-8415-8F00547578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Straight Connector 25"/>
          <p:cNvSpPr/>
          <p:nvPr/>
        </p:nvSpPr>
        <p:spPr>
          <a:xfrm>
            <a:off x="11777760" y="0"/>
            <a:ext cx="0" cy="6858000"/>
          </a:xfrm>
          <a:prstGeom prst="line">
            <a:avLst/>
          </a:prstGeom>
          <a:ln w="38160">
            <a:solidFill>
              <a:srgbClr val="ffca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3754080" y="208908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黑板风教学模板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AutoShape 5"/>
          <p:cNvSpPr/>
          <p:nvPr/>
        </p:nvSpPr>
        <p:spPr>
          <a:xfrm>
            <a:off x="9772560" y="41400"/>
            <a:ext cx="1835280" cy="1833480"/>
          </a:xfrm>
          <a:prstGeom prst="foldedCorner">
            <a:avLst>
              <a:gd name="adj" fmla="val 12500"/>
            </a:avLst>
          </a:prstGeom>
          <a:solidFill>
            <a:srgbClr val="ffca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9775440" y="228600"/>
            <a:ext cx="16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2015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10266120" y="736560"/>
            <a:ext cx="80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每一天，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每一方面，我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越来越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3291840" y="3562200"/>
            <a:ext cx="461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lackboard  Templ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4108320" y="1954080"/>
            <a:ext cx="3710160" cy="655920"/>
          </a:xfrm>
          <a:prstGeom prst="rect">
            <a:avLst/>
          </a:prstGeom>
          <a:solidFill>
            <a:srgbClr val="e5ded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文学评论的性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4100400" y="2751120"/>
            <a:ext cx="3710160" cy="655560"/>
          </a:xfrm>
          <a:prstGeom prst="rect">
            <a:avLst/>
          </a:prstGeom>
          <a:solidFill>
            <a:srgbClr val="e5ded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文学评论的作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4100400" y="3554280"/>
            <a:ext cx="3710160" cy="655920"/>
          </a:xfrm>
          <a:prstGeom prst="rect">
            <a:avLst/>
          </a:prstGeom>
          <a:solidFill>
            <a:srgbClr val="e5ded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文学评论的文体形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Line 2"/>
          <p:cNvSpPr/>
          <p:nvPr/>
        </p:nvSpPr>
        <p:spPr>
          <a:xfrm>
            <a:off x="-93600" y="992160"/>
            <a:ext cx="10790280" cy="589284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 rot="1740000">
            <a:off x="3136680" y="2885760"/>
            <a:ext cx="5832360" cy="1104840"/>
          </a:xfrm>
          <a:prstGeom prst="rect">
            <a:avLst/>
          </a:prstGeom>
          <a:solidFill>
            <a:srgbClr val="e5ded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文学评论的性质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1273320" y="541440"/>
            <a:ext cx="1887480" cy="5814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文学评论的写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666720" y="1436760"/>
            <a:ext cx="10753920" cy="4814640"/>
          </a:xfrm>
          <a:prstGeom prst="rect">
            <a:avLst/>
          </a:prstGeom>
          <a:solidFill>
            <a:srgbClr val="e5dedb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文学评论的性质及作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一）文学评论的性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义而论，文学评论是一种以文学理论、文学思潮、作家与作品作为评论对象的理论文体。换言之，凡是对文学理论、文学思潮、作家与作品进行分析、探讨、鉴赏和研究的理论文章，都可称为文学评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狭义而言，文学评论就是指对具体作家、具体作品进行分析、研究和评价的文章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二）文学评论的作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读者的作用：帮助读者认识作品的价值，做读者和作者之间的桥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作者的作用：总结作品的得失，帮助作者进一步提高创作水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3638520" y="2282760"/>
            <a:ext cx="5452920" cy="1517760"/>
          </a:xfrm>
          <a:prstGeom prst="rect">
            <a:avLst/>
          </a:prstGeom>
          <a:solidFill>
            <a:srgbClr val="e5ded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53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05:55:00Z</dcterms:created>
  <dc:creator>邹恩栋</dc:creator>
  <dc:description/>
  <dc:language>en-US</dc:language>
  <cp:lastModifiedBy>a</cp:lastModifiedBy>
  <dcterms:modified xsi:type="dcterms:W3CDTF">2015-01-14T06:43:2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