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431-0A70-41D2-A1F2-CB765E37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081-ECF0-4A8B-8978-73AB2203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359-261C-4C07-A612-4C0A1CD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096-39A8-40DB-BF61-2B33F2B5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D9D-986B-418A-B503-1792B379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4C3-86CF-491C-B718-55A4979E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5ED-B937-4A0C-9635-08F65E9F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964C-4ACF-4008-88C9-02239E26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985-396C-424A-B5BD-E8AA9A7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5461-00FA-4110-992C-60C64ED8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59E-AD13-4DC4-8300-9E2DFF5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A7F-9A9F-441A-96F1-D7ED04B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170-2B94-4660-93EE-D82098A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3E57-372B-4AAD-8F41-258D9728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E1C-35A6-430D-86D8-0F03C83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4A65-1661-4B11-BD5E-1B9BDC3B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4E50-1493-4C05-9D0B-F028909D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E61-4BB1-4296-BAC3-E7170097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64F-0A77-43A8-98F9-6D069C1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DC7-4E2C-4067-90CC-4B3866F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C5A-C2A6-4BB3-9C77-9F5063C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A2E-57CE-45ED-BEC8-BB8257A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845-578C-4E12-A2B7-274DC94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CA3-A4B3-461D-9B27-747F61E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788-DBE7-446C-86B6-26A5036FE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137-2FD3-46E2-A0BA-46E412F872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61B-2EA1-4047-BB99-1E4C1B98A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</cp:lastModifiedBy>
  <dcterms:modified xsi:type="dcterms:W3CDTF">2015-01-14T14:09:40Z</dcterms:modified>
  <cp:revision>5</cp:revision>
  <dc:subject/>
  <dc:title>欢 度 国 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