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jpeg" ContentType="image/jpe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DEFF-B760-4B88-A20C-02CEB542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1F00-8372-4343-B4BB-C34B918E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B7F56-3CDF-4AEF-B1AC-808A5FED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CF36B-7AD7-440A-B3D2-40435598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254DE-9614-489D-897A-5A517246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ACC03-5F2B-4D32-AF7A-7F21E9C3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1416A-B8D4-41E6-B2F6-976CA092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61913-37B3-4218-85EB-8E30ED84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B20E4-FA88-45C7-BA6B-BB2DE915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F33755-6060-41A4-8684-FE360170C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18933-899D-4CE2-8412-3CB8E99E4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D8583-8134-4588-9BCE-9FA6F9FC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1419-D8EE-46C0-81C2-C8EAC0BF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F7517-2A18-4BA9-AA41-0445662A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8C350-31ED-41CF-9865-E9F1C430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E4C7A0-B323-4E3F-89FF-B3623CCB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ABC4F-EE67-4657-8FFB-5F37EB80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60771-BB91-4D1A-8233-738DCBA9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95387B-FB07-4A86-A7D1-377DCBCB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8F1B6-8784-4FE0-A67F-699B6E40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3714E8-18BA-45A3-840F-4AF30530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BBDD3-0BED-448B-B895-C0C48D77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8A273-FDE8-4874-91AD-CA76E614C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A67A-B1F0-4E4D-BB33-543FAF95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4480A-EDED-48E0-B924-DC95C906B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5FF13-C582-4494-9824-1EEFEB14C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72670-00C5-44E7-8DAB-FCD1D693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DD27A-33E4-4B97-8739-AAC7D665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E443B-8F6D-41CB-B9DB-B9A7A077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079FA-3D07-41AB-9B50-7AD1DE43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15368-F97B-4B1A-95A0-71C0D7CF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29BFC-533B-4901-8181-7DDA676D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48410-507F-440F-A80F-776AD6EE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3227E-D927-424F-98A6-16F58475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A3A5-7023-4425-8E1E-78EA0C3F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F189D-AEB1-453F-951B-8F28443A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BA768-3CB3-4CF4-BC8C-00D043489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2E3C5-795D-4AF2-9242-FBF732B9A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13744-8782-420E-8352-3E4D752A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C1E4C-5692-4573-ACC1-C0C76C06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75EC6A-770F-4FC2-9125-B5264285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39DF33-69DF-4B86-8DC8-4790C899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B2EDE-3F7E-4D56-A25D-1C6737F0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8915D2-DF7E-4927-B502-960B9405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3B8CF2-7B7C-4F98-9872-2F328271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5308-DCFC-4D92-BE3E-D31A2EEB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7F9D4F-E226-43CD-A3FE-20B6EF46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2E8ED2-6A7B-463E-BAF9-4A3CA182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6AF58-A4E0-4238-996D-78075FF2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DC6B10-074C-46B3-9AA1-A3060C3A0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061D55-98EA-401C-8DFE-7E8838FB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76E67C-3903-477C-A32B-E774ACF0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202FD9-FB05-4FC2-AFAD-902EBCDE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6F0A2A-33AE-49F9-AC67-B33A44EC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3CF5B7-397E-4F8D-A7FB-2B5B1F2B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95FF65-2D5B-4610-9254-BD918007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88C8-ACB5-4AB8-83CD-79569EF0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6FA141-FBA2-4DE0-AA43-F68BCBD1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CC20D0-1EB0-46E0-80A4-2D4B6A62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27359F-90E6-4141-BA31-A06C3BED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49C2AD-A490-44E2-A378-26473B91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F5796B-376F-4E3C-943E-E50BF14E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D9DC09-2A49-416C-83E8-AC81BC6AF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3E7CAB-3D0C-44B3-8CEA-9752F8423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4BD3-7C09-4EDF-990D-A8FB6118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C791-682E-404F-AAB8-B8D50E9E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7398-FEC3-4EE5-9F04-6336DDC4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113C-9B81-4E95-A736-C1643971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8203-AAF7-4AFB-8C45-AE924969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83AD-AF50-45AC-89A3-6EE99660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9BE9-C1D6-4215-908F-426B2488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FE34-AEBE-4B68-BE27-506CEDD0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6844-37D7-4812-BC89-D401AA64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FB24-151D-402B-8AB0-97AE71545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23570-4C8F-4808-843C-DBE70FA9D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C2391-27A5-41F4-8E79-17797D29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DC17F-2C75-434E-BDC5-45499004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250A0-D8B4-49CA-BE00-25AE805A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8D9F6-A056-4783-A54B-B43FC4F7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4B73-458B-4E46-9D06-B8C6BB09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035D4-EDD5-4DFF-8C93-23FB4E24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7D7B7-5E2E-4E6C-A97B-6422F345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E29BA-71F8-4B9D-B0DE-BC6585A1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32C43-B825-4827-B918-4F8F9ADE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10A35-6FB6-4724-B2E6-5B083AA8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B36DF-B1A6-4995-BA4A-C36FA2AF2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662C2-F0E9-4E08-8D03-F9D32FDE7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8C54B-0559-4BDE-BF6F-A972F9E90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21060-1293-4145-9DAC-C9E81AEC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5B33A-98D4-4F42-BC90-CDF36162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8A54-C602-44C6-8416-5AB5FABA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D04A5-857D-4688-BA94-E7881936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5C7B3-3AA8-4C57-93F2-7487B1B6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21A5A-F984-4D59-9FA3-7671C761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21EFF-0246-4C98-9E83-35CD5F17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9E69A-AA12-4605-940D-7803CBE5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11B7B-C0A6-421B-829F-C2144365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E3426-6AB9-48F3-AC32-A67FEC2E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4E2E1-0303-4358-9401-4E92C61AD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A0F2E-7DC3-4D90-BB80-CFFA3365D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85D6D-70F5-460A-8438-AA4787B71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BC5C-DCE0-433F-BF56-D9493604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3675E-6C4A-4A28-B6D7-7277E13C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7CBC3-05D7-400A-8E5B-C3AC9B4B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EC400-1CAE-418B-85A5-C6FA47A5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EE398-E0F8-423F-92F2-E287800C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D1A9F-F5B0-4F56-B9BD-0CA5AC3E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FEE3D-CB83-4ADE-AB8A-A6C266D4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5CFA3-6C28-4B14-96F5-525EE60D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727E8-AC64-444A-8BCA-E6F06A8E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55EEC-D175-404C-8C6D-ED80B9A1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1954A-6D8A-41FF-985E-FC0F9CB30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2D2D-4251-455F-BC69-FC09B917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CEAAF-E335-448F-BD97-2BFAD9575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F99A3-237F-4F52-81D2-6EA152DF9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23C3A-720D-40C9-8782-770F9B7E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9DC7A-C354-47E2-9F5B-4F4894D4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2E7F2-6CEA-400B-9199-673094AB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136B3-F04C-42AF-ACC6-A5FB53F3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9EE1C-0449-4591-8311-EEC421FF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EAC87-C493-485F-819A-68E1DB46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73315-54F8-4D41-A438-46D16E73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563A5-51BB-4FD8-84A3-0F896A48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84FE-6BCC-4B50-9461-A7A558BD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C6D82-F3B7-4149-AC4A-75144673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2C665-61E2-4D40-811E-965BDE97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A6EA3-816C-492C-8061-D806B905C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86BD1-F837-43E5-9220-038051921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AB39C-AE25-45B7-9AED-2EADB84E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DA495-3457-4058-9187-257640CD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E3DCE-5EDB-49BA-AB79-1F558F43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8DE99-976F-4B2D-A092-62311CFF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9EACC-0BCA-4612-885F-E71567E1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B4C80-FB09-4B47-B05B-A903DEEA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A6F5-236F-4D80-81E9-CB0F438C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DFAEB-8703-4003-B526-421BA84C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DF1F7-B469-4DCD-AA8C-EA2D45BB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113D0-4BB6-4F4C-B6BC-EC86F5C6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DB2E8-92F9-4D27-B9C5-A74A1C27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5065C-93F1-43AC-AE3F-95E8D6765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3C002-4215-40AE-B0FE-2E7740B30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AE07D-8046-4775-BB74-5E822B59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80063-5611-4E54-8714-5BC8367A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0A737-2EAE-4240-B3B8-8ABE358F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6E40D-5636-47D1-83C3-271204A3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882D-BFB6-4A42-9A17-0B259293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4720E-4CD3-4038-B7C1-E15DF9E5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B15CC-FE04-43A5-B622-8DF2B1DC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339E5-C5C9-4160-BD50-00DBA794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E3D16-E645-49F7-BC77-7308A690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5A5F0-BCA0-4604-B295-037EDF4C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C123C-BFEB-4272-8E5F-39EE9BDEA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71625-833F-4932-AC91-7F7AC9C3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FD42F-F466-460B-BE5E-1E9A2EEE9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EB168-DE39-4A7E-B0FC-32746DED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CCDB0-5DCA-40C0-A623-5F84E3E3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Malgun Gothic"/>
                <a:ea typeface="Malgun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Malgun Gothic"/>
                <a:ea typeface="Malgun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Malgun Gothic"/>
                <a:ea typeface="Malgun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53AE-1805-4452-ABF3-6878D2F3204C}" type="slidenum">
              <a:rPr b="0" lang="ko-KR" sz="1200" spc="-1" strike="noStrike">
                <a:solidFill>
                  <a:srgbClr val="898989"/>
                </a:solidFill>
                <a:latin typeface="Malgun Gothic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FB61-F1D3-418E-B21A-41FD6DF00659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F985-FD7A-497E-AAAA-A828B5DC753C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20B8-DEDB-430B-A576-6B80F37A3963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4EFC-3CE6-4525-99A8-C993618741D4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AC25-8019-4F20-98EC-92934C07D859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A7FE-1EB4-473F-B732-29F66D9E12B8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11F8-5DCD-43E1-B5A2-E24CF30EFE9D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4634-61AA-46F7-9EEC-7A4B0D5C58DD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135B-6B84-457C-8980-9CB5E05AFE0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0F60-B1CA-49C0-A5CE-252C2A80731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27B6-B8E3-4AAF-91A8-C5479831A33A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B8BD-AE3B-4F27-9CE6-C97B758CEE22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55C8-E632-4685-9509-86EBB2F19EAA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EDDE-42F0-497D-8C88-55F1327653D7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2C9C-F652-40DD-826A-734E238FD773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A60E-C213-4FDE-A112-32CB1D630D4D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8EC4-D558-41E4-90A7-A3FA4575CE71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413C-9F0E-462F-8DA8-5BBD80DD49A3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BD01-236F-4823-8DCE-9ED87FC8CB23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6F35-4C5F-479A-B89E-05F805241739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1482-8A94-48E9-AAFA-925FE109CD7B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3AB2-2688-42D1-9B6F-598E69E58655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6909-8D8F-452A-8340-76D90B019641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2729-656A-4079-AC63-856403884688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3.png"/><Relationship Id="rId18" Type="http://schemas.openxmlformats.org/officeDocument/2006/relationships/image" Target="../media/image15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image" Target="../media/image19.png"/><Relationship Id="rId24" Type="http://schemas.openxmlformats.org/officeDocument/2006/relationships/image" Target="../media/image20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1.png"/><Relationship Id="rId28" Type="http://schemas.openxmlformats.org/officeDocument/2006/relationships/image" Target="../media/image22.png"/><Relationship Id="rId29" Type="http://schemas.openxmlformats.org/officeDocument/2006/relationships/image" Target="../media/image13.png"/><Relationship Id="rId30" Type="http://schemas.openxmlformats.org/officeDocument/2006/relationships/image" Target="../media/image23.png"/><Relationship Id="rId31" Type="http://schemas.openxmlformats.org/officeDocument/2006/relationships/image" Target="../media/image24.png"/><Relationship Id="rId32" Type="http://schemas.openxmlformats.org/officeDocument/2006/relationships/image" Target="../media/image25.png"/><Relationship Id="rId33" Type="http://schemas.openxmlformats.org/officeDocument/2006/relationships/image" Target="../media/image26.png"/><Relationship Id="rId34" Type="http://schemas.openxmlformats.org/officeDocument/2006/relationships/image" Target="../media/image27.png"/><Relationship Id="rId35" Type="http://schemas.openxmlformats.org/officeDocument/2006/relationships/image" Target="../media/image28.png"/><Relationship Id="rId36" Type="http://schemas.openxmlformats.org/officeDocument/2006/relationships/image" Target="../media/image29.png"/><Relationship Id="rId37" Type="http://schemas.openxmlformats.org/officeDocument/2006/relationships/image" Target="../media/image30.png"/><Relationship Id="rId38" Type="http://schemas.openxmlformats.org/officeDocument/2006/relationships/image" Target="../media/image31.png"/><Relationship Id="rId39" Type="http://schemas.openxmlformats.org/officeDocument/2006/relationships/image" Target="../media/image32.png"/><Relationship Id="rId40" Type="http://schemas.openxmlformats.org/officeDocument/2006/relationships/image" Target="../media/image33.png"/><Relationship Id="rId41" Type="http://schemas.openxmlformats.org/officeDocument/2006/relationships/image" Target="../media/image31.png"/><Relationship Id="rId42" Type="http://schemas.openxmlformats.org/officeDocument/2006/relationships/image" Target="../media/image25.png"/><Relationship Id="rId43" Type="http://schemas.openxmlformats.org/officeDocument/2006/relationships/image" Target="../media/image26.png"/><Relationship Id="rId44" Type="http://schemas.openxmlformats.org/officeDocument/2006/relationships/image" Target="../media/image27.png"/><Relationship Id="rId45" Type="http://schemas.openxmlformats.org/officeDocument/2006/relationships/image" Target="../media/image28.png"/><Relationship Id="rId46" Type="http://schemas.openxmlformats.org/officeDocument/2006/relationships/image" Target="../media/image29.png"/><Relationship Id="rId47" Type="http://schemas.openxmlformats.org/officeDocument/2006/relationships/image" Target="../media/image30.png"/><Relationship Id="rId48" Type="http://schemas.openxmlformats.org/officeDocument/2006/relationships/image" Target="../media/image31.png"/><Relationship Id="rId49" Type="http://schemas.openxmlformats.org/officeDocument/2006/relationships/image" Target="../media/image32.png"/><Relationship Id="rId50" Type="http://schemas.openxmlformats.org/officeDocument/2006/relationships/image" Target="../media/image34.png"/><Relationship Id="rId51" Type="http://schemas.openxmlformats.org/officeDocument/2006/relationships/image" Target="../media/image35.png"/><Relationship Id="rId52" Type="http://schemas.openxmlformats.org/officeDocument/2006/relationships/image" Target="../media/image36.png"/><Relationship Id="rId53" Type="http://schemas.openxmlformats.org/officeDocument/2006/relationships/image" Target="../media/image37.png"/><Relationship Id="rId54" Type="http://schemas.openxmlformats.org/officeDocument/2006/relationships/image" Target="../media/image37.png"/><Relationship Id="rId55" Type="http://schemas.openxmlformats.org/officeDocument/2006/relationships/image" Target="../media/image24.png"/><Relationship Id="rId56" Type="http://schemas.openxmlformats.org/officeDocument/2006/relationships/image" Target="../media/image24.png"/><Relationship Id="rId57" Type="http://schemas.openxmlformats.org/officeDocument/2006/relationships/image" Target="../media/image22.png"/><Relationship Id="rId58" Type="http://schemas.openxmlformats.org/officeDocument/2006/relationships/image" Target="../media/image22.png"/><Relationship Id="rId59" Type="http://schemas.openxmlformats.org/officeDocument/2006/relationships/image" Target="../media/image13.png"/><Relationship Id="rId60" Type="http://schemas.openxmlformats.org/officeDocument/2006/relationships/image" Target="../media/image35.png"/><Relationship Id="rId61" Type="http://schemas.openxmlformats.org/officeDocument/2006/relationships/image" Target="../media/image3.png"/><Relationship Id="rId62" Type="http://schemas.openxmlformats.org/officeDocument/2006/relationships/image" Target="../media/image4.png"/><Relationship Id="rId63" Type="http://schemas.openxmlformats.org/officeDocument/2006/relationships/image" Target="../media/image5.png"/><Relationship Id="rId64" Type="http://schemas.openxmlformats.org/officeDocument/2006/relationships/image" Target="../media/image7.png"/><Relationship Id="rId65" Type="http://schemas.openxmlformats.org/officeDocument/2006/relationships/image" Target="../media/image8.png"/><Relationship Id="rId66" Type="http://schemas.openxmlformats.org/officeDocument/2006/relationships/image" Target="../media/image9.png"/><Relationship Id="rId67" Type="http://schemas.openxmlformats.org/officeDocument/2006/relationships/image" Target="../media/image10.png"/><Relationship Id="rId68" Type="http://schemas.openxmlformats.org/officeDocument/2006/relationships/image" Target="../media/image3.png"/><Relationship Id="rId69" Type="http://schemas.openxmlformats.org/officeDocument/2006/relationships/image" Target="../media/image4.png"/><Relationship Id="rId70" Type="http://schemas.openxmlformats.org/officeDocument/2006/relationships/image" Target="../media/image5.png"/><Relationship Id="rId71" Type="http://schemas.openxmlformats.org/officeDocument/2006/relationships/image" Target="../media/image7.png"/><Relationship Id="rId72" Type="http://schemas.openxmlformats.org/officeDocument/2006/relationships/image" Target="../media/image8.png"/><Relationship Id="rId73" Type="http://schemas.openxmlformats.org/officeDocument/2006/relationships/image" Target="../media/image9.png"/><Relationship Id="rId74" Type="http://schemas.openxmlformats.org/officeDocument/2006/relationships/image" Target="../media/image10.png"/><Relationship Id="rId75" Type="http://schemas.openxmlformats.org/officeDocument/2006/relationships/image" Target="../media/image38.png"/><Relationship Id="rId76" Type="http://schemas.openxmlformats.org/officeDocument/2006/relationships/image" Target="../media/image38.png"/><Relationship Id="rId77" Type="http://schemas.openxmlformats.org/officeDocument/2006/relationships/image" Target="../media/image39.png"/><Relationship Id="rId78" Type="http://schemas.openxmlformats.org/officeDocument/2006/relationships/image" Target="../media/image40.png"/><Relationship Id="rId79" Type="http://schemas.openxmlformats.org/officeDocument/2006/relationships/image" Target="../media/image40.png"/><Relationship Id="rId80" Type="http://schemas.openxmlformats.org/officeDocument/2006/relationships/image" Target="../media/image41.png"/><Relationship Id="rId81" Type="http://schemas.openxmlformats.org/officeDocument/2006/relationships/image" Target="../media/image41.png"/><Relationship Id="rId82" Type="http://schemas.openxmlformats.org/officeDocument/2006/relationships/image" Target="../media/image41.png"/><Relationship Id="rId83" Type="http://schemas.openxmlformats.org/officeDocument/2006/relationships/image" Target="../media/image41.png"/><Relationship Id="rId84" Type="http://schemas.openxmlformats.org/officeDocument/2006/relationships/image" Target="../media/image41.png"/><Relationship Id="rId85" Type="http://schemas.openxmlformats.org/officeDocument/2006/relationships/image" Target="../media/image41.png"/><Relationship Id="rId86" Type="http://schemas.openxmlformats.org/officeDocument/2006/relationships/image" Target="../media/image41.png"/><Relationship Id="rId87" Type="http://schemas.openxmlformats.org/officeDocument/2006/relationships/image" Target="../media/image41.png"/><Relationship Id="rId88" Type="http://schemas.openxmlformats.org/officeDocument/2006/relationships/image" Target="../media/image41.png"/><Relationship Id="rId89" Type="http://schemas.openxmlformats.org/officeDocument/2006/relationships/image" Target="../media/image34.png"/><Relationship Id="rId90" Type="http://schemas.openxmlformats.org/officeDocument/2006/relationships/image" Target="../media/image36.png"/><Relationship Id="rId91" Type="http://schemas.openxmlformats.org/officeDocument/2006/relationships/image" Target="../media/image36.png"/><Relationship Id="rId92" Type="http://schemas.openxmlformats.org/officeDocument/2006/relationships/image" Target="../media/image42.png"/><Relationship Id="rId93" Type="http://schemas.openxmlformats.org/officeDocument/2006/relationships/image" Target="../media/image43.png"/><Relationship Id="rId94" Type="http://schemas.openxmlformats.org/officeDocument/2006/relationships/image" Target="../media/image44.png"/><Relationship Id="rId95" Type="http://schemas.openxmlformats.org/officeDocument/2006/relationships/image" Target="../media/image44.png"/><Relationship Id="rId9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5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그림 3" descr="1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4" name="그림 4" descr="mask.png"/>
          <p:cNvPicPr/>
          <p:nvPr/>
        </p:nvPicPr>
        <p:blipFill>
          <a:blip r:embed="rId2"/>
          <a:stretch/>
        </p:blipFill>
        <p:spPr>
          <a:xfrm>
            <a:off x="-7640640" y="0"/>
            <a:ext cx="18284760" cy="6858000"/>
          </a:xfrm>
          <a:prstGeom prst="rect">
            <a:avLst/>
          </a:prstGeom>
          <a:ln w="0">
            <a:noFill/>
          </a:ln>
        </p:spPr>
      </p:pic>
      <p:pic>
        <p:nvPicPr>
          <p:cNvPr id="535" name="그림 5" descr="Untitled-1.png"/>
          <p:cNvPicPr/>
          <p:nvPr/>
        </p:nvPicPr>
        <p:blipFill>
          <a:blip r:embed="rId3"/>
          <a:srcRect l="36618" t="34262" r="37398" b="39491"/>
          <a:stretch/>
        </p:blipFill>
        <p:spPr>
          <a:xfrm>
            <a:off x="3348000" y="2349360"/>
            <a:ext cx="2376360" cy="1800360"/>
          </a:xfrm>
          <a:prstGeom prst="rect">
            <a:avLst/>
          </a:prstGeom>
          <a:ln w="0">
            <a:noFill/>
          </a:ln>
        </p:spPr>
      </p:pic>
      <p:pic>
        <p:nvPicPr>
          <p:cNvPr id="536" name="그림 8" descr="컴터.png"/>
          <p:cNvPicPr/>
          <p:nvPr/>
        </p:nvPicPr>
        <p:blipFill>
          <a:blip r:embed="rId4"/>
          <a:srcRect l="40555" t="34262" r="35035" b="37407"/>
          <a:stretch/>
        </p:blipFill>
        <p:spPr>
          <a:xfrm>
            <a:off x="3708360" y="2349360"/>
            <a:ext cx="2232000" cy="19432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7" descr="mp3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8" descr="phone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9" descr="gosemv"/>
          <p:cNvPicPr/>
          <p:nvPr/>
        </p:nvPicPr>
        <p:blipFill>
          <a:blip r:embed="rId7"/>
          <a:srcRect l="44882" t="32551" r="33854" b="35948"/>
          <a:stretch/>
        </p:blipFill>
        <p:spPr>
          <a:xfrm>
            <a:off x="3780000" y="1916280"/>
            <a:ext cx="1944360" cy="21603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0" descr="ss"/>
          <p:cNvPicPr/>
          <p:nvPr/>
        </p:nvPicPr>
        <p:blipFill>
          <a:blip r:embed="rId8"/>
          <a:srcRect l="45677" t="40950" r="33055" b="33843"/>
          <a:stretch/>
        </p:blipFill>
        <p:spPr>
          <a:xfrm>
            <a:off x="3780000" y="2421000"/>
            <a:ext cx="1944360" cy="17287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1" descr="wjsdnjs"/>
          <p:cNvPicPr/>
          <p:nvPr/>
        </p:nvPicPr>
        <p:blipFill>
          <a:blip r:embed="rId9"/>
          <a:srcRect l="45280" t="37407" r="42122" b="44751"/>
          <a:stretch/>
        </p:blipFill>
        <p:spPr>
          <a:xfrm>
            <a:off x="4140360" y="2565360"/>
            <a:ext cx="1152360" cy="12240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2" descr="dsa"/>
          <p:cNvPicPr/>
          <p:nvPr/>
        </p:nvPicPr>
        <p:blipFill>
          <a:blip r:embed="rId10"/>
          <a:srcRect l="39760" t="33197" r="38976" b="44751"/>
          <a:stretch/>
        </p:blipFill>
        <p:spPr>
          <a:xfrm>
            <a:off x="3851280" y="2637000"/>
            <a:ext cx="1944720" cy="1512720"/>
          </a:xfrm>
          <a:prstGeom prst="rect">
            <a:avLst/>
          </a:prstGeom>
          <a:ln w="0">
            <a:noFill/>
          </a:ln>
        </p:spPr>
      </p:pic>
      <p:pic>
        <p:nvPicPr>
          <p:cNvPr id="543" name="daf.wav" descr=""/>
          <p:cNvPicPr/>
          <p:nvPr/>
        </p:nvPicPr>
        <p:blipFill>
          <a:blip r:embed="rId11"/>
          <a:stretch/>
        </p:blipFill>
        <p:spPr>
          <a:xfrm>
            <a:off x="0" y="-301680"/>
            <a:ext cx="304920" cy="3016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4" descr="fhrh"/>
          <p:cNvPicPr/>
          <p:nvPr/>
        </p:nvPicPr>
        <p:blipFill>
          <a:blip r:embed="rId12"/>
          <a:srcRect l="36618" t="39491" r="37398" b="46856"/>
          <a:stretch/>
        </p:blipFill>
        <p:spPr>
          <a:xfrm>
            <a:off x="3490920" y="2852640"/>
            <a:ext cx="2376360" cy="93672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5" descr="런어웨이"/>
          <p:cNvPicPr/>
          <p:nvPr/>
        </p:nvPicPr>
        <p:blipFill>
          <a:blip r:embed="rId13"/>
          <a:srcRect l="31094" t="44745" r="57882" b="48961"/>
          <a:stretch/>
        </p:blipFill>
        <p:spPr>
          <a:xfrm>
            <a:off x="2843280" y="3068640"/>
            <a:ext cx="1008000" cy="4316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6" descr="런어웨이"/>
          <p:cNvPicPr/>
          <p:nvPr/>
        </p:nvPicPr>
        <p:blipFill>
          <a:blip r:embed="rId14"/>
          <a:srcRect l="42122" t="44745" r="42291" b="49659"/>
          <a:stretch/>
        </p:blipFill>
        <p:spPr>
          <a:xfrm>
            <a:off x="3851280" y="3068640"/>
            <a:ext cx="1425600" cy="3841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7" descr="런어웨이"/>
          <p:cNvPicPr/>
          <p:nvPr/>
        </p:nvPicPr>
        <p:blipFill>
          <a:blip r:embed="rId15"/>
          <a:srcRect l="57886" t="45811" r="29531" b="50005"/>
          <a:stretch/>
        </p:blipFill>
        <p:spPr>
          <a:xfrm>
            <a:off x="5292720" y="3141720"/>
            <a:ext cx="1150920" cy="2872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8" descr="qhfk"/>
          <p:cNvPicPr/>
          <p:nvPr/>
        </p:nvPicPr>
        <p:blipFill>
          <a:blip r:embed="rId16"/>
          <a:stretch/>
        </p:blipFill>
        <p:spPr>
          <a:xfrm>
            <a:off x="0" y="0"/>
            <a:ext cx="9144000" cy="56610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9" descr="런어웨이"/>
          <p:cNvPicPr/>
          <p:nvPr/>
        </p:nvPicPr>
        <p:blipFill>
          <a:blip r:embed="rId17"/>
          <a:srcRect l="31894" t="44745" r="34256" b="50005"/>
          <a:stretch/>
        </p:blipFill>
        <p:spPr>
          <a:xfrm>
            <a:off x="2916360" y="3068640"/>
            <a:ext cx="3095640" cy="3603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1" descr="line"/>
          <p:cNvPicPr/>
          <p:nvPr/>
        </p:nvPicPr>
        <p:blipFill>
          <a:blip r:embed="rId18"/>
          <a:srcRect l="59689" t="0" r="0" b="82992"/>
          <a:stretch/>
        </p:blipFill>
        <p:spPr>
          <a:xfrm>
            <a:off x="5003640" y="1398600"/>
            <a:ext cx="3686400" cy="11667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2" descr="line2"/>
          <p:cNvPicPr/>
          <p:nvPr/>
        </p:nvPicPr>
        <p:blipFill>
          <a:blip r:embed="rId19"/>
          <a:srcRect l="87417" t="70604" r="0" b="6294"/>
          <a:stretch/>
        </p:blipFill>
        <p:spPr>
          <a:xfrm>
            <a:off x="7524720" y="4005360"/>
            <a:ext cx="1150920" cy="15843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42" descr="line3"/>
          <p:cNvPicPr/>
          <p:nvPr/>
        </p:nvPicPr>
        <p:blipFill>
          <a:blip r:embed="rId20"/>
          <a:srcRect l="0" t="0" r="53146" b="79008"/>
          <a:stretch/>
        </p:blipFill>
        <p:spPr>
          <a:xfrm>
            <a:off x="0" y="1413000"/>
            <a:ext cx="4284720" cy="14396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49" descr="line4"/>
          <p:cNvPicPr/>
          <p:nvPr/>
        </p:nvPicPr>
        <p:blipFill>
          <a:blip r:embed="rId21"/>
          <a:srcRect l="0" t="69360" r="52028" b="0"/>
          <a:stretch/>
        </p:blipFill>
        <p:spPr>
          <a:xfrm>
            <a:off x="395280" y="4005360"/>
            <a:ext cx="3203640" cy="15350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3" descr="글1"/>
          <p:cNvPicPr/>
          <p:nvPr/>
        </p:nvPicPr>
        <p:blipFill>
          <a:blip r:embed="rId22"/>
          <a:srcRect l="30315" t="36346" r="38976" b="56089"/>
          <a:stretch/>
        </p:blipFill>
        <p:spPr>
          <a:xfrm>
            <a:off x="3348000" y="2708280"/>
            <a:ext cx="2808360" cy="5191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54" descr="글1"/>
          <p:cNvPicPr/>
          <p:nvPr/>
        </p:nvPicPr>
        <p:blipFill>
          <a:blip r:embed="rId23"/>
          <a:srcRect l="31894" t="44079" r="41339" b="51045"/>
          <a:stretch/>
        </p:blipFill>
        <p:spPr>
          <a:xfrm>
            <a:off x="3492360" y="3238560"/>
            <a:ext cx="2448000" cy="3348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56" descr="글2"/>
          <p:cNvPicPr/>
          <p:nvPr/>
        </p:nvPicPr>
        <p:blipFill>
          <a:blip r:embed="rId24"/>
          <a:srcRect l="32673" t="37407" r="45244" b="55974"/>
          <a:stretch/>
        </p:blipFill>
        <p:spPr>
          <a:xfrm>
            <a:off x="3492360" y="2781360"/>
            <a:ext cx="2019600" cy="4539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57" descr="글2"/>
          <p:cNvPicPr/>
          <p:nvPr/>
        </p:nvPicPr>
        <p:blipFill>
          <a:blip r:embed="rId25"/>
          <a:srcRect l="43335" t="43822" r="37398" b="50005"/>
          <a:stretch/>
        </p:blipFill>
        <p:spPr>
          <a:xfrm>
            <a:off x="4467240" y="3220920"/>
            <a:ext cx="1762200" cy="4240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58" descr="글3"/>
          <p:cNvPicPr/>
          <p:nvPr/>
        </p:nvPicPr>
        <p:blipFill>
          <a:blip r:embed="rId26"/>
          <a:srcRect l="26374" t="42640" r="49220" b="50005"/>
          <a:stretch/>
        </p:blipFill>
        <p:spPr>
          <a:xfrm>
            <a:off x="2411280" y="3068640"/>
            <a:ext cx="2232000" cy="5047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59" descr="글3"/>
          <p:cNvPicPr/>
          <p:nvPr/>
        </p:nvPicPr>
        <p:blipFill>
          <a:blip r:embed="rId27"/>
          <a:srcRect l="50783" t="42640" r="28736" b="50005"/>
          <a:stretch/>
        </p:blipFill>
        <p:spPr>
          <a:xfrm>
            <a:off x="4643280" y="3068640"/>
            <a:ext cx="1873440" cy="5047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60" descr="글4"/>
          <p:cNvPicPr/>
          <p:nvPr/>
        </p:nvPicPr>
        <p:blipFill>
          <a:blip r:embed="rId28"/>
          <a:srcRect l="33024" t="40861" r="37138" b="52178"/>
          <a:stretch/>
        </p:blipFill>
        <p:spPr>
          <a:xfrm>
            <a:off x="3019320" y="2801880"/>
            <a:ext cx="2729160" cy="47772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61" descr="런어웨이"/>
          <p:cNvPicPr/>
          <p:nvPr/>
        </p:nvPicPr>
        <p:blipFill>
          <a:blip r:embed="rId29"/>
          <a:srcRect l="31114" t="45302" r="32866" b="48567"/>
          <a:stretch/>
        </p:blipFill>
        <p:spPr>
          <a:xfrm>
            <a:off x="2843280" y="3222720"/>
            <a:ext cx="3166920" cy="4046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66" descr="line5"/>
          <p:cNvPicPr/>
          <p:nvPr/>
        </p:nvPicPr>
        <p:blipFill>
          <a:blip r:embed="rId30"/>
          <a:srcRect l="35437" t="0" r="44882" b="76903"/>
          <a:stretch/>
        </p:blipFill>
        <p:spPr>
          <a:xfrm>
            <a:off x="3635280" y="907920"/>
            <a:ext cx="1800360" cy="158436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59" descr="글3"/>
          <p:cNvPicPr/>
          <p:nvPr/>
        </p:nvPicPr>
        <p:blipFill>
          <a:blip r:embed="rId31"/>
          <a:srcRect l="315" t="43801" r="748" b="51969"/>
          <a:stretch/>
        </p:blipFill>
        <p:spPr>
          <a:xfrm>
            <a:off x="108000" y="3170160"/>
            <a:ext cx="9047160" cy="2905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108" descr="개체"/>
          <p:cNvPicPr/>
          <p:nvPr/>
        </p:nvPicPr>
        <p:blipFill>
          <a:blip r:embed="rId32"/>
          <a:srcRect l="27298" t="46724" r="58155" b="32651"/>
          <a:stretch/>
        </p:blipFill>
        <p:spPr>
          <a:xfrm>
            <a:off x="4356000" y="335772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09" descr="개체"/>
          <p:cNvPicPr/>
          <p:nvPr/>
        </p:nvPicPr>
        <p:blipFill>
          <a:blip r:embed="rId33"/>
          <a:srcRect l="38210" t="75093" r="38144" b="-3428"/>
          <a:stretch/>
        </p:blipFill>
        <p:spPr>
          <a:xfrm>
            <a:off x="3708360" y="3141720"/>
            <a:ext cx="647640" cy="5475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10" descr="개체"/>
          <p:cNvPicPr/>
          <p:nvPr/>
        </p:nvPicPr>
        <p:blipFill>
          <a:blip r:embed="rId34"/>
          <a:srcRect l="78182" t="72531" r="-1803" b="-3431"/>
          <a:stretch/>
        </p:blipFill>
        <p:spPr>
          <a:xfrm>
            <a:off x="4211640" y="2421000"/>
            <a:ext cx="576360" cy="5317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11" descr="개체"/>
          <p:cNvPicPr/>
          <p:nvPr/>
        </p:nvPicPr>
        <p:blipFill>
          <a:blip r:embed="rId35"/>
          <a:srcRect l="0" t="40526" r="89059" b="45952"/>
          <a:stretch/>
        </p:blipFill>
        <p:spPr>
          <a:xfrm>
            <a:off x="3924360" y="2565360"/>
            <a:ext cx="574560" cy="50004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12" descr="개체"/>
          <p:cNvPicPr/>
          <p:nvPr/>
        </p:nvPicPr>
        <p:blipFill>
          <a:blip r:embed="rId36"/>
          <a:srcRect l="47309" t="8002" r="30888" b="68746"/>
          <a:stretch/>
        </p:blipFill>
        <p:spPr>
          <a:xfrm>
            <a:off x="3635280" y="2852640"/>
            <a:ext cx="574920" cy="4320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13" descr="개체"/>
          <p:cNvPicPr/>
          <p:nvPr/>
        </p:nvPicPr>
        <p:blipFill>
          <a:blip r:embed="rId37"/>
          <a:srcRect l="18199" t="272" r="59962" b="68751"/>
          <a:stretch/>
        </p:blipFill>
        <p:spPr>
          <a:xfrm>
            <a:off x="4572000" y="2565360"/>
            <a:ext cx="574560" cy="5745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14" descr="개체"/>
          <p:cNvPicPr/>
          <p:nvPr/>
        </p:nvPicPr>
        <p:blipFill>
          <a:blip r:embed="rId38"/>
          <a:srcRect l="69118" t="38940" r="10888" b="37819"/>
          <a:stretch/>
        </p:blipFill>
        <p:spPr>
          <a:xfrm>
            <a:off x="4500720" y="2997360"/>
            <a:ext cx="792000" cy="6490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15" descr="개체"/>
          <p:cNvPicPr/>
          <p:nvPr/>
        </p:nvPicPr>
        <p:blipFill>
          <a:blip r:embed="rId39"/>
          <a:srcRect l="41860" t="41547" r="36355" b="27529"/>
          <a:stretch/>
        </p:blipFill>
        <p:spPr>
          <a:xfrm>
            <a:off x="4067280" y="335772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16" descr="개체"/>
          <p:cNvPicPr/>
          <p:nvPr/>
        </p:nvPicPr>
        <p:blipFill>
          <a:blip r:embed="rId40"/>
          <a:srcRect l="0" t="40532" r="89074" b="45951"/>
          <a:stretch/>
        </p:blipFill>
        <p:spPr>
          <a:xfrm>
            <a:off x="4788000" y="2924280"/>
            <a:ext cx="288720" cy="25056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99" descr="개체"/>
          <p:cNvPicPr/>
          <p:nvPr/>
        </p:nvPicPr>
        <p:blipFill>
          <a:blip r:embed="rId41"/>
          <a:srcRect l="0" t="40526" r="89067" b="45953"/>
          <a:stretch/>
        </p:blipFill>
        <p:spPr>
          <a:xfrm>
            <a:off x="2987640" y="3860640"/>
            <a:ext cx="433440" cy="3780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00" descr="개체"/>
          <p:cNvPicPr/>
          <p:nvPr/>
        </p:nvPicPr>
        <p:blipFill>
          <a:blip r:embed="rId42"/>
          <a:srcRect l="27298" t="46724" r="58155" b="32651"/>
          <a:stretch/>
        </p:blipFill>
        <p:spPr>
          <a:xfrm>
            <a:off x="2843280" y="2781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01" descr="개체"/>
          <p:cNvPicPr/>
          <p:nvPr/>
        </p:nvPicPr>
        <p:blipFill>
          <a:blip r:embed="rId43"/>
          <a:srcRect l="38210" t="75093" r="38144" b="-3428"/>
          <a:stretch/>
        </p:blipFill>
        <p:spPr>
          <a:xfrm>
            <a:off x="5219640" y="4149720"/>
            <a:ext cx="647640" cy="5475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02" descr="개체"/>
          <p:cNvPicPr/>
          <p:nvPr/>
        </p:nvPicPr>
        <p:blipFill>
          <a:blip r:embed="rId44"/>
          <a:srcRect l="78182" t="72531" r="-1803" b="-3431"/>
          <a:stretch/>
        </p:blipFill>
        <p:spPr>
          <a:xfrm>
            <a:off x="3635280" y="4292640"/>
            <a:ext cx="576360" cy="5317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03" descr="개체"/>
          <p:cNvPicPr/>
          <p:nvPr/>
        </p:nvPicPr>
        <p:blipFill>
          <a:blip r:embed="rId45"/>
          <a:srcRect l="0" t="40526" r="89059" b="45952"/>
          <a:stretch/>
        </p:blipFill>
        <p:spPr>
          <a:xfrm>
            <a:off x="6300720" y="2492280"/>
            <a:ext cx="574920" cy="50004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04" descr="개체"/>
          <p:cNvPicPr/>
          <p:nvPr/>
        </p:nvPicPr>
        <p:blipFill>
          <a:blip r:embed="rId46"/>
          <a:srcRect l="47309" t="8002" r="30888" b="68746"/>
          <a:stretch/>
        </p:blipFill>
        <p:spPr>
          <a:xfrm>
            <a:off x="6156360" y="3860640"/>
            <a:ext cx="574560" cy="4320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05" descr="개체"/>
          <p:cNvPicPr/>
          <p:nvPr/>
        </p:nvPicPr>
        <p:blipFill>
          <a:blip r:embed="rId47"/>
          <a:srcRect l="18199" t="272" r="59962" b="68751"/>
          <a:stretch/>
        </p:blipFill>
        <p:spPr>
          <a:xfrm>
            <a:off x="3348000" y="1989000"/>
            <a:ext cx="574560" cy="5749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06" descr="개체"/>
          <p:cNvPicPr/>
          <p:nvPr/>
        </p:nvPicPr>
        <p:blipFill>
          <a:blip r:embed="rId48"/>
          <a:srcRect l="69118" t="38940" r="10888" b="37819"/>
          <a:stretch/>
        </p:blipFill>
        <p:spPr>
          <a:xfrm>
            <a:off x="5076720" y="1700280"/>
            <a:ext cx="792360" cy="6490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07" descr="개체"/>
          <p:cNvPicPr/>
          <p:nvPr/>
        </p:nvPicPr>
        <p:blipFill>
          <a:blip r:embed="rId49"/>
          <a:srcRect l="41860" t="41547" r="36355" b="27529"/>
          <a:stretch/>
        </p:blipFill>
        <p:spPr>
          <a:xfrm>
            <a:off x="4211640" y="141300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76" descr="런어웨이1"/>
          <p:cNvPicPr/>
          <p:nvPr/>
        </p:nvPicPr>
        <p:blipFill>
          <a:blip r:embed="rId50"/>
          <a:srcRect l="26378" t="36325" r="30315" b="41575"/>
          <a:stretch/>
        </p:blipFill>
        <p:spPr>
          <a:xfrm>
            <a:off x="1692360" y="2216160"/>
            <a:ext cx="5351400" cy="204804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50" descr="글1"/>
          <p:cNvPicPr/>
          <p:nvPr/>
        </p:nvPicPr>
        <p:blipFill>
          <a:blip r:embed="rId51"/>
          <a:srcRect l="39205" t="38940" r="41445" b="55927"/>
          <a:stretch/>
        </p:blipFill>
        <p:spPr>
          <a:xfrm>
            <a:off x="3584520" y="2886120"/>
            <a:ext cx="1770120" cy="3524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77" descr="런어웨이2"/>
          <p:cNvPicPr/>
          <p:nvPr/>
        </p:nvPicPr>
        <p:blipFill>
          <a:blip r:embed="rId52"/>
          <a:srcRect l="30315" t="42467" r="34724" b="46877"/>
          <a:stretch/>
        </p:blipFill>
        <p:spPr>
          <a:xfrm>
            <a:off x="2181240" y="2781360"/>
            <a:ext cx="4314960" cy="9856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2" descr="글2"/>
          <p:cNvPicPr/>
          <p:nvPr/>
        </p:nvPicPr>
        <p:blipFill>
          <a:blip r:embed="rId53"/>
          <a:srcRect l="37933" t="39375" r="40957" b="55858"/>
          <a:stretch/>
        </p:blipFill>
        <p:spPr>
          <a:xfrm>
            <a:off x="3468600" y="2916360"/>
            <a:ext cx="1930320" cy="3268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3" descr="글2"/>
          <p:cNvPicPr/>
          <p:nvPr/>
        </p:nvPicPr>
        <p:blipFill>
          <a:blip r:embed="rId54"/>
          <a:srcRect l="37933" t="43706" r="41059" b="50121"/>
          <a:stretch/>
        </p:blipFill>
        <p:spPr>
          <a:xfrm>
            <a:off x="3463920" y="3220920"/>
            <a:ext cx="1920960" cy="4240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58" descr="글3"/>
          <p:cNvPicPr/>
          <p:nvPr/>
        </p:nvPicPr>
        <p:blipFill>
          <a:blip r:embed="rId55"/>
          <a:srcRect l="315" t="40210" r="-307" b="55601"/>
          <a:stretch/>
        </p:blipFill>
        <p:spPr>
          <a:xfrm>
            <a:off x="108000" y="2924280"/>
            <a:ext cx="9144000" cy="2872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60" descr="글3"/>
          <p:cNvPicPr/>
          <p:nvPr/>
        </p:nvPicPr>
        <p:blipFill>
          <a:blip r:embed="rId56"/>
          <a:srcRect l="315" t="48037" r="799" b="46178"/>
          <a:stretch/>
        </p:blipFill>
        <p:spPr>
          <a:xfrm>
            <a:off x="114480" y="3460680"/>
            <a:ext cx="9042120" cy="3970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73" descr="글4"/>
          <p:cNvPicPr/>
          <p:nvPr/>
        </p:nvPicPr>
        <p:blipFill>
          <a:blip r:embed="rId57"/>
          <a:srcRect l="33024" t="40861" r="51319" b="52478"/>
          <a:stretch/>
        </p:blipFill>
        <p:spPr>
          <a:xfrm>
            <a:off x="3019320" y="2805120"/>
            <a:ext cx="1432080" cy="4572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75" descr="글4"/>
          <p:cNvPicPr/>
          <p:nvPr/>
        </p:nvPicPr>
        <p:blipFill>
          <a:blip r:embed="rId58"/>
          <a:srcRect l="48146" t="41601" r="37138" b="52178"/>
          <a:stretch/>
        </p:blipFill>
        <p:spPr>
          <a:xfrm>
            <a:off x="4392720" y="2857680"/>
            <a:ext cx="1346040" cy="4269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74" descr="런어웨이"/>
          <p:cNvPicPr/>
          <p:nvPr/>
        </p:nvPicPr>
        <p:blipFill>
          <a:blip r:embed="rId59"/>
          <a:srcRect l="31114" t="45302" r="32866" b="48567"/>
          <a:stretch/>
        </p:blipFill>
        <p:spPr>
          <a:xfrm>
            <a:off x="2843280" y="3225960"/>
            <a:ext cx="3166920" cy="4046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51" descr="글1"/>
          <p:cNvPicPr/>
          <p:nvPr/>
        </p:nvPicPr>
        <p:blipFill>
          <a:blip r:embed="rId60"/>
          <a:srcRect l="39205" t="44656" r="38126" b="50047"/>
          <a:stretch/>
        </p:blipFill>
        <p:spPr>
          <a:xfrm>
            <a:off x="3578400" y="3281400"/>
            <a:ext cx="2073240" cy="363600"/>
          </a:xfrm>
          <a:prstGeom prst="rect">
            <a:avLst/>
          </a:prstGeom>
          <a:ln w="0">
            <a:noFill/>
          </a:ln>
        </p:spPr>
      </p:pic>
      <p:pic>
        <p:nvPicPr>
          <p:cNvPr id="593" name="그림 5" descr="Untitled-1.png"/>
          <p:cNvPicPr/>
          <p:nvPr/>
        </p:nvPicPr>
        <p:blipFill>
          <a:blip r:embed="rId61"/>
          <a:srcRect l="46059" t="38472" r="41339" b="44724"/>
          <a:stretch/>
        </p:blipFill>
        <p:spPr>
          <a:xfrm>
            <a:off x="3924360" y="18900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594" name="그림 8" descr="컴터.png"/>
          <p:cNvPicPr/>
          <p:nvPr/>
        </p:nvPicPr>
        <p:blipFill>
          <a:blip r:embed="rId62"/>
          <a:srcRect l="45280" t="37407" r="42902" b="44745"/>
          <a:stretch/>
        </p:blipFill>
        <p:spPr>
          <a:xfrm>
            <a:off x="4716360" y="5634000"/>
            <a:ext cx="1081080" cy="12240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6" descr="mp3"/>
          <p:cNvPicPr/>
          <p:nvPr/>
        </p:nvPicPr>
        <p:blipFill>
          <a:blip r:embed="rId63"/>
          <a:srcRect l="47260" t="38866" r="40157" b="43291"/>
          <a:stretch/>
        </p:blipFill>
        <p:spPr>
          <a:xfrm>
            <a:off x="0" y="2997360"/>
            <a:ext cx="1150920" cy="12236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8" descr="gosemv"/>
          <p:cNvPicPr/>
          <p:nvPr/>
        </p:nvPicPr>
        <p:blipFill>
          <a:blip r:embed="rId64"/>
          <a:srcRect l="51965" t="44493" r="39374" b="45003"/>
          <a:stretch/>
        </p:blipFill>
        <p:spPr>
          <a:xfrm>
            <a:off x="826920" y="587700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9" descr="ss"/>
          <p:cNvPicPr/>
          <p:nvPr/>
        </p:nvPicPr>
        <p:blipFill>
          <a:blip r:embed="rId65"/>
          <a:srcRect l="52362" t="48310" r="38976" b="41207"/>
          <a:stretch/>
        </p:blipFill>
        <p:spPr>
          <a:xfrm>
            <a:off x="2124000" y="549360"/>
            <a:ext cx="792360" cy="7189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0" descr="wjsdnjs"/>
          <p:cNvPicPr/>
          <p:nvPr/>
        </p:nvPicPr>
        <p:blipFill>
          <a:blip r:embed="rId66"/>
          <a:srcRect l="45280" t="37407" r="42122" b="44751"/>
          <a:stretch/>
        </p:blipFill>
        <p:spPr>
          <a:xfrm>
            <a:off x="7451640" y="4869000"/>
            <a:ext cx="1152720" cy="12240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1" descr="dsa"/>
          <p:cNvPicPr/>
          <p:nvPr/>
        </p:nvPicPr>
        <p:blipFill>
          <a:blip r:embed="rId67"/>
          <a:srcRect l="39760" t="33197" r="38976" b="44751"/>
          <a:stretch/>
        </p:blipFill>
        <p:spPr>
          <a:xfrm>
            <a:off x="6948360" y="620640"/>
            <a:ext cx="1944720" cy="1513080"/>
          </a:xfrm>
          <a:prstGeom prst="rect">
            <a:avLst/>
          </a:prstGeom>
          <a:ln w="0">
            <a:noFill/>
          </a:ln>
        </p:spPr>
      </p:pic>
      <p:pic>
        <p:nvPicPr>
          <p:cNvPr id="600" name="그림 5" descr="Untitled-1.png"/>
          <p:cNvPicPr/>
          <p:nvPr/>
        </p:nvPicPr>
        <p:blipFill>
          <a:blip r:embed="rId68"/>
          <a:srcRect l="46059" t="38472" r="41339" b="44724"/>
          <a:stretch/>
        </p:blipFill>
        <p:spPr>
          <a:xfrm>
            <a:off x="539640" y="112536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601" name="그림 8" descr="컴터.png"/>
          <p:cNvPicPr/>
          <p:nvPr/>
        </p:nvPicPr>
        <p:blipFill>
          <a:blip r:embed="rId69"/>
          <a:srcRect l="45280" t="37407" r="42902" b="44745"/>
          <a:stretch/>
        </p:blipFill>
        <p:spPr>
          <a:xfrm>
            <a:off x="826920" y="3933720"/>
            <a:ext cx="1081080" cy="12240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6" descr="mp3"/>
          <p:cNvPicPr/>
          <p:nvPr/>
        </p:nvPicPr>
        <p:blipFill>
          <a:blip r:embed="rId70"/>
          <a:srcRect l="47260" t="38866" r="40157" b="43291"/>
          <a:stretch/>
        </p:blipFill>
        <p:spPr>
          <a:xfrm>
            <a:off x="6156360" y="5445000"/>
            <a:ext cx="1150920" cy="12240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gosemv"/>
          <p:cNvPicPr/>
          <p:nvPr/>
        </p:nvPicPr>
        <p:blipFill>
          <a:blip r:embed="rId71"/>
          <a:srcRect l="51965" t="44493" r="39374" b="45003"/>
          <a:stretch/>
        </p:blipFill>
        <p:spPr>
          <a:xfrm>
            <a:off x="4067280" y="566100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ss"/>
          <p:cNvPicPr/>
          <p:nvPr/>
        </p:nvPicPr>
        <p:blipFill>
          <a:blip r:embed="rId72"/>
          <a:srcRect l="52362" t="48310" r="38976" b="41207"/>
          <a:stretch/>
        </p:blipFill>
        <p:spPr>
          <a:xfrm>
            <a:off x="2124000" y="6138720"/>
            <a:ext cx="792360" cy="7192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9" descr="wjsdnjs"/>
          <p:cNvPicPr/>
          <p:nvPr/>
        </p:nvPicPr>
        <p:blipFill>
          <a:blip r:embed="rId73"/>
          <a:srcRect l="45280" t="37407" r="42122" b="44751"/>
          <a:stretch/>
        </p:blipFill>
        <p:spPr>
          <a:xfrm>
            <a:off x="7596360" y="2205000"/>
            <a:ext cx="1152360" cy="122400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0" descr="dsa"/>
          <p:cNvPicPr/>
          <p:nvPr/>
        </p:nvPicPr>
        <p:blipFill>
          <a:blip r:embed="rId74"/>
          <a:srcRect l="39760" t="33197" r="38976" b="44751"/>
          <a:stretch/>
        </p:blipFill>
        <p:spPr>
          <a:xfrm>
            <a:off x="5219640" y="0"/>
            <a:ext cx="1944720" cy="15127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9" descr="글1"/>
          <p:cNvPicPr/>
          <p:nvPr/>
        </p:nvPicPr>
        <p:blipFill>
          <a:blip r:embed="rId75"/>
          <a:srcRect l="24811" t="33197" r="56303" b="59449"/>
          <a:stretch/>
        </p:blipFill>
        <p:spPr>
          <a:xfrm>
            <a:off x="2268360" y="2535120"/>
            <a:ext cx="1727280" cy="50508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41" descr="글1"/>
          <p:cNvPicPr/>
          <p:nvPr/>
        </p:nvPicPr>
        <p:blipFill>
          <a:blip r:embed="rId76"/>
          <a:srcRect l="53909" t="47895" r="24827" b="41601"/>
          <a:stretch/>
        </p:blipFill>
        <p:spPr>
          <a:xfrm>
            <a:off x="4932360" y="3500280"/>
            <a:ext cx="1944720" cy="7207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43" descr="글2"/>
          <p:cNvPicPr/>
          <p:nvPr/>
        </p:nvPicPr>
        <p:blipFill>
          <a:blip r:embed="rId77"/>
          <a:srcRect l="25799" t="39538" r="25764" b="46924"/>
          <a:stretch/>
        </p:blipFill>
        <p:spPr>
          <a:xfrm>
            <a:off x="2428920" y="2928960"/>
            <a:ext cx="4429080" cy="9288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44" descr="글3"/>
          <p:cNvPicPr/>
          <p:nvPr/>
        </p:nvPicPr>
        <p:blipFill>
          <a:blip r:embed="rId78"/>
          <a:srcRect l="33457" t="39491" r="44480" b="53150"/>
          <a:stretch/>
        </p:blipFill>
        <p:spPr>
          <a:xfrm>
            <a:off x="2627280" y="2492280"/>
            <a:ext cx="2017800" cy="5050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45" descr="글3"/>
          <p:cNvPicPr/>
          <p:nvPr/>
        </p:nvPicPr>
        <p:blipFill>
          <a:blip r:embed="rId79"/>
          <a:srcRect l="52362" t="51045" r="31094" b="40556"/>
          <a:stretch/>
        </p:blipFill>
        <p:spPr>
          <a:xfrm>
            <a:off x="5148360" y="3357720"/>
            <a:ext cx="1512720" cy="5760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46" descr="글4"/>
          <p:cNvPicPr/>
          <p:nvPr/>
        </p:nvPicPr>
        <p:blipFill>
          <a:blip r:embed="rId80"/>
          <a:srcRect l="37276" t="44724" r="59169" b="51018"/>
          <a:stretch/>
        </p:blipFill>
        <p:spPr>
          <a:xfrm>
            <a:off x="3408480" y="3348000"/>
            <a:ext cx="325440" cy="29196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47" descr="글4"/>
          <p:cNvPicPr/>
          <p:nvPr/>
        </p:nvPicPr>
        <p:blipFill>
          <a:blip r:embed="rId81"/>
          <a:srcRect l="41287" t="44357" r="55732" b="50441"/>
          <a:stretch/>
        </p:blipFill>
        <p:spPr>
          <a:xfrm>
            <a:off x="3774960" y="3322800"/>
            <a:ext cx="273240" cy="35712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48" descr="글4"/>
          <p:cNvPicPr/>
          <p:nvPr/>
        </p:nvPicPr>
        <p:blipFill>
          <a:blip r:embed="rId82"/>
          <a:srcRect l="44409" t="44493" r="53024" b="51018"/>
          <a:stretch/>
        </p:blipFill>
        <p:spPr>
          <a:xfrm>
            <a:off x="4060800" y="3332160"/>
            <a:ext cx="235080" cy="3078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9" descr="글4"/>
          <p:cNvPicPr/>
          <p:nvPr/>
        </p:nvPicPr>
        <p:blipFill>
          <a:blip r:embed="rId83"/>
          <a:srcRect l="46736" t="44588" r="50488" b="50745"/>
          <a:stretch/>
        </p:blipFill>
        <p:spPr>
          <a:xfrm>
            <a:off x="4273560" y="3338640"/>
            <a:ext cx="254160" cy="3204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0" descr="글4"/>
          <p:cNvPicPr/>
          <p:nvPr/>
        </p:nvPicPr>
        <p:blipFill>
          <a:blip r:embed="rId84"/>
          <a:srcRect l="49516" t="45003" r="47709" b="50373"/>
          <a:stretch/>
        </p:blipFill>
        <p:spPr>
          <a:xfrm>
            <a:off x="4527720" y="3367080"/>
            <a:ext cx="253800" cy="3175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51" descr="글4"/>
          <p:cNvPicPr/>
          <p:nvPr/>
        </p:nvPicPr>
        <p:blipFill>
          <a:blip r:embed="rId85"/>
          <a:srcRect l="52709" t="44168" r="44291" b="50535"/>
          <a:stretch/>
        </p:blipFill>
        <p:spPr>
          <a:xfrm>
            <a:off x="4819680" y="3309840"/>
            <a:ext cx="274680" cy="36360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52" descr="글4"/>
          <p:cNvPicPr/>
          <p:nvPr/>
        </p:nvPicPr>
        <p:blipFill>
          <a:blip r:embed="rId86"/>
          <a:srcRect l="55626" t="43522" r="41461" b="49911"/>
          <a:stretch/>
        </p:blipFill>
        <p:spPr>
          <a:xfrm>
            <a:off x="5086440" y="3265560"/>
            <a:ext cx="266760" cy="45072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53" descr="글4"/>
          <p:cNvPicPr/>
          <p:nvPr/>
        </p:nvPicPr>
        <p:blipFill>
          <a:blip r:embed="rId87"/>
          <a:srcRect l="58339" t="44357" r="38890" b="50556"/>
          <a:stretch/>
        </p:blipFill>
        <p:spPr>
          <a:xfrm>
            <a:off x="5334120" y="3322800"/>
            <a:ext cx="253800" cy="3492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54" descr="글4"/>
          <p:cNvPicPr/>
          <p:nvPr/>
        </p:nvPicPr>
        <p:blipFill>
          <a:blip r:embed="rId88"/>
          <a:srcRect l="60697" t="43428" r="36390" b="50740"/>
          <a:stretch/>
        </p:blipFill>
        <p:spPr>
          <a:xfrm>
            <a:off x="5549760" y="3259080"/>
            <a:ext cx="266760" cy="39996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59" descr="런어웨이1"/>
          <p:cNvPicPr/>
          <p:nvPr/>
        </p:nvPicPr>
        <p:blipFill>
          <a:blip r:embed="rId89"/>
          <a:srcRect l="26378" t="36325" r="30315" b="53365"/>
          <a:stretch/>
        </p:blipFill>
        <p:spPr>
          <a:xfrm>
            <a:off x="1835280" y="2565360"/>
            <a:ext cx="5351400" cy="9558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60" descr="런어웨이2"/>
          <p:cNvPicPr/>
          <p:nvPr/>
        </p:nvPicPr>
        <p:blipFill>
          <a:blip r:embed="rId90"/>
          <a:srcRect l="30315" t="42467" r="34724" b="53129"/>
          <a:stretch/>
        </p:blipFill>
        <p:spPr>
          <a:xfrm>
            <a:off x="2556000" y="3137040"/>
            <a:ext cx="3846240" cy="3632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61" descr="런어웨이2"/>
          <p:cNvPicPr/>
          <p:nvPr/>
        </p:nvPicPr>
        <p:blipFill>
          <a:blip r:embed="rId91"/>
          <a:srcRect l="30315" t="46861" r="34457" b="48152"/>
          <a:stretch/>
        </p:blipFill>
        <p:spPr>
          <a:xfrm>
            <a:off x="2311560" y="3645000"/>
            <a:ext cx="4348080" cy="46188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62" descr="ci"/>
          <p:cNvPicPr/>
          <p:nvPr/>
        </p:nvPicPr>
        <p:blipFill>
          <a:blip r:embed="rId92"/>
          <a:srcRect l="40941" t="43034" r="35437" b="50672"/>
          <a:stretch/>
        </p:blipFill>
        <p:spPr>
          <a:xfrm>
            <a:off x="3348000" y="4221000"/>
            <a:ext cx="2160720" cy="43200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139" descr="qor"/>
          <p:cNvPicPr/>
          <p:nvPr/>
        </p:nvPicPr>
        <p:blipFill>
          <a:blip r:embed="rId93"/>
          <a:stretch/>
        </p:blipFill>
        <p:spPr>
          <a:xfrm>
            <a:off x="-2568600" y="-1925640"/>
            <a:ext cx="14284440" cy="10712520"/>
          </a:xfrm>
          <a:prstGeom prst="rect">
            <a:avLst/>
          </a:prstGeom>
          <a:ln w="0">
            <a:noFill/>
          </a:ln>
        </p:spPr>
      </p:pic>
      <p:grpSp>
        <p:nvGrpSpPr>
          <p:cNvPr id="626" name="Group 95"/>
          <p:cNvGrpSpPr/>
          <p:nvPr/>
        </p:nvGrpSpPr>
        <p:grpSpPr>
          <a:xfrm>
            <a:off x="-360" y="0"/>
            <a:ext cx="9144000" cy="6858000"/>
            <a:chOff x="-360" y="0"/>
            <a:chExt cx="9144000" cy="6858000"/>
          </a:xfrm>
        </p:grpSpPr>
        <p:pic>
          <p:nvPicPr>
            <p:cNvPr id="627" name="Picture 13" descr="mas"/>
            <p:cNvPicPr/>
            <p:nvPr/>
          </p:nvPicPr>
          <p:blipFill>
            <a:blip r:embed="rId94"/>
            <a:stretch/>
          </p:blipFill>
          <p:spPr>
            <a:xfrm>
              <a:off x="2880" y="0"/>
              <a:ext cx="91407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Picture 13" descr="mas"/>
            <p:cNvPicPr/>
            <p:nvPr/>
          </p:nvPicPr>
          <p:blipFill>
            <a:blip r:embed="rId95"/>
            <a:srcRect l="0" t="17974" r="46445" b="17669"/>
            <a:stretch/>
          </p:blipFill>
          <p:spPr>
            <a:xfrm rot="5400000">
              <a:off x="2121120" y="-1068840"/>
              <a:ext cx="4897440" cy="9140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3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remove" presetClass="path" presetID="0" repeatCount="17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21 0 L 0.979 0 E">
                                      <p:cBhvr>
                                        <p:cTn id="8" dur="25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2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0">
                                  <p:stCondLst>
                                    <p:cond delay="4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5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0">
                                  <p:stCondLst>
                                    <p:cond delay="6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2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0">
                                  <p:stCondLst>
                                    <p:cond delay="6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2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7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2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76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0">
                                  <p:stCondLst>
                                    <p:cond delay="7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0">
                                  <p:stCondLst>
                                    <p:cond delay="8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8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8" presetSubtype="6">
                                  <p:stCondLst>
                                    <p:cond delay="111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3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>
                                  <p:stCondLst>
                                    <p:cond delay="111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116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 repeatCount="indefinite">
                                  <p:stCondLst>
                                    <p:cond delay="11600"/>
                                  </p:stCondLst>
                                  <p:childTnLst>
                                    <p:animMotion origin="layout" path="M 0 0 C 0.00903 0.00231 0.01372 0.00162 0.02223 -0.00208 C 0.0132 -0.00601 0.01129 0.00092 0.00313 0.00439 C 0.00209 0.00301 0 0 0 0 Z">
                                      <p:cBhvr>
                                        <p:cTn id="93" dur="20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122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 repeatCount="indefinite">
                                  <p:stCondLst>
                                    <p:cond delay="12000"/>
                                  </p:stCondLst>
                                  <p:childTnLst>
                                    <p:animMotion origin="layout" path="M 0 0 C 0.00903 0.00231 0.01372 0.00162 0.02223 -0.00208 C 0.0132 -0.00601 0.01129 0.00092 0.00313 0.00439 C 0.00209 0.00301 0 0 0 0 Z">
                                      <p:cBhvr>
                                        <p:cTn id="98" dur="2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126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0" repeatCount="indefinite">
                                  <p:stCondLst>
                                    <p:cond delay="12600"/>
                                  </p:stCondLst>
                                  <p:childTnLst>
                                    <p:animMotion origin="layout" path="M 4.72222E-006 -4.44444E-006 C -0.00677 -0.00601 -0.01285 -0.00393 -0.01945 0.00186 C -0.01407 0.00417 -0.01337 0.00579 -0.00695 -4.44444E-006 C -0.00556 -0.00115 -0.00452 -0.0037 -0.00278 -0.0037 C -0.00139 -0.0037 -0.00087 -0.00115 4.72222E-006 -4.44444E-006 Z">
                                      <p:cBhvr>
                                        <p:cTn id="103" dur="20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 repeatCount="indefinite">
                                  <p:stCondLst>
                                    <p:cond delay="13000"/>
                                  </p:stCondLst>
                                  <p:childTnLst>
                                    <p:animMotion origin="layout" path="M -1.66667E-006 5.18519E-006 C -0.00555 0.0007 -0.01145 -0.00069 -0.01666 0.00186 C -0.01805 0.00255 -0.01666 0.00718 -0.01527 0.00742 C 0.01893 0.01274 0.0099 0.00788 -1.66667E-006 5.18519E-006 Z">
                                      <p:cBhvr>
                                        <p:cTn id="108" dur="2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2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6">
                                  <p:stCondLst>
                                    <p:cond delay="20000"/>
                                  </p:stCondLst>
                                  <p:childTnLst>
                                    <p:animScale>
                                      <p:cBhvr>
                                        <p:cTn id="113" dur="200" fill="hold"/>
                                        <p:tgtEl>
                                          <p:spTgt spid="5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208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 repeatCount="indefinite">
                                  <p:stCondLst>
                                    <p:cond delay="20800"/>
                                  </p:stCondLst>
                                  <p:childTnLst>
                                    <p:animMotion origin="layout" path="M 5.55556E-007 -3.87283E-006 C -0.00417 -0.00069 -0.01702 -0.00208 -0.01268 -0.00208 C -0.00695 -0.00208 -0.00105 -0.00092 0.00468 -3.87283E-006 C 0.00625 0.00024 0.00156 -3.87283E-006 5.55556E-007 -3.87283E-006 Z">
                                      <p:cBhvr>
                                        <p:cTn id="118" dur="2000" fill="hold"/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208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0">
                                  <p:stCondLst>
                                    <p:cond delay="20800"/>
                                  </p:stCondLst>
                                  <p:childTnLst>
                                    <p:animMotion origin="layout" path="M -0.10625 1.27168E-006 L 1.94444E-006 1.27168E-006 E">
                                      <p:cBhvr>
                                        <p:cTn id="123" dur="500" fill="hold"/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22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21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0">
                                  <p:stCondLst>
                                    <p:cond delay="21500"/>
                                  </p:stCondLst>
                                  <p:childTnLst>
                                    <p:animMotion origin="layout" path="M 0.12587 0.00347 L 0.04722 0.00347 E">
                                      <p:cBhvr>
                                        <p:cTn id="131" dur="5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22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22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0">
                                  <p:stCondLst>
                                    <p:cond delay="22500"/>
                                  </p:stCondLst>
                                  <p:childTnLst>
                                    <p:animMotion origin="layout" path="M -0.09445 3.2948E-006 L 8.33333E-007 3.2948E-006 E">
                                      <p:cBhvr>
                                        <p:cTn id="139" dur="5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23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234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23400"/>
                                  </p:stCondLst>
                                  <p:childTnLst>
                                    <p:animMotion origin="layout" path="M -3.61111E-006 6.93642E-007 L 0.09445 6.93642E-007 E">
                                      <p:cBhvr>
                                        <p:cTn id="147" dur="5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24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251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0">
                                  <p:stCondLst>
                                    <p:cond delay="25100"/>
                                  </p:stCondLst>
                                  <p:childTnLst>
                                    <p:animMotion origin="layout" path="M 4.44444E-006 -3.2948E-006 L 4.44444E-006 -0.31468 E">
                                      <p:cBhvr>
                                        <p:cTn id="155" dur="5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2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258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0">
                                  <p:stCondLst>
                                    <p:cond delay="25800"/>
                                  </p:stCondLst>
                                  <p:childTnLst>
                                    <p:animMotion origin="layout" path="M -3.05556E-006 0.31468 L -3.05556E-006 3.12139E-006 E">
                                      <p:cBhvr>
                                        <p:cTn id="163" dur="5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2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284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0">
                                  <p:stCondLst>
                                    <p:cond delay="3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>
                                  <p:stCondLst>
                                    <p:cond delay="3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0">
                                  <p:stCondLst>
                                    <p:cond delay="3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0">
                                  <p:stCondLst>
                                    <p:cond delay="30000"/>
                                  </p:stCondLst>
                                  <p:childTnLst>
                                    <p:animMotion origin="layout" path="M 0 0 L 0.23229 -0.37778 E">
                                      <p:cBhvr>
                                        <p:cTn id="187" dur="5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3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0">
                                  <p:stCondLst>
                                    <p:cond delay="30000"/>
                                  </p:stCondLst>
                                  <p:childTnLst>
                                    <p:animMotion origin="layout" path="M -1.38889E-006 3.7037E-007 L -0.31701 -0.38843 E">
                                      <p:cBhvr>
                                        <p:cTn id="192" dur="5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0">
                                  <p:stCondLst>
                                    <p:cond delay="3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0">
                                  <p:stCondLst>
                                    <p:cond delay="30000"/>
                                  </p:stCondLst>
                                  <p:childTnLst>
                                    <p:animMotion origin="layout" path="M -2.77778E-006 -3.33333E-006 L -0.30903 0.40255 E">
                                      <p:cBhvr>
                                        <p:cTn id="197" dur="5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0">
                                  <p:stCondLst>
                                    <p:cond delay="3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0">
                                  <p:stCondLst>
                                    <p:cond delay="30000"/>
                                  </p:stCondLst>
                                  <p:childTnLst>
                                    <p:animMotion origin="layout" path="M -3.88889E-006 0.00023 L 0.2599 0.36759 E">
                                      <p:cBhvr>
                                        <p:cTn id="202" dur="5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0">
                                  <p:stCondLst>
                                    <p:cond delay="3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64">
                                  <p:stCondLst>
                                    <p:cond delay="3000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07" dur="500" fill="hold"/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8" repeatCount="4000">
                                  <p:stCondLst>
                                    <p:cond delay="31000"/>
                                  </p:stCondLst>
                                  <p:childTnLst>
                                    <p:animRot by="21600000">
                                      <p:cBhvr>
                                        <p:cTn id="212" dur="2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6" repeatCount="4000">
                                  <p:stCondLst>
                                    <p:cond delay="31000"/>
                                  </p:stCondLst>
                                  <p:childTnLst>
                                    <p:animScale>
                                      <p:cBhvr>
                                        <p:cTn id="214" dur="2500" fill="hold"/>
                                        <p:tgtEl>
                                          <p:spTgt spid="578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0" repeatCount="4000">
                                  <p:stCondLst>
                                    <p:cond delay="31000"/>
                                  </p:stCondLst>
                                  <p:childTnLst>
                                    <p:animMotion origin="layout" path="M 2.5E-006 2.77457E-006 L 0.29531 0.40508 E">
                                      <p:cBhvr>
                                        <p:cTn id="216" dur="25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0" repeatCount="4000">
                                  <p:stCondLst>
                                    <p:cond delay="3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2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8" repeatCount="4000">
                                  <p:stCondLst>
                                    <p:cond delay="31000"/>
                                  </p:stCondLst>
                                  <p:childTnLst>
                                    <p:animRot by="21600000">
                                      <p:cBhvr>
                                        <p:cTn id="224" dur="2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6" repeatCount="4000">
                                  <p:stCondLst>
                                    <p:cond delay="31000"/>
                                  </p:stCondLst>
                                  <p:childTnLst>
                                    <p:animScale>
                                      <p:cBhvr>
                                        <p:cTn id="226" dur="2500" fill="hold"/>
                                        <p:tgtEl>
                                          <p:spTgt spid="579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227" nodeType="withEffect" fill="hold" presetClass="path" presetID="0" repeatCount="4000">
                                  <p:stCondLst>
                                    <p:cond delay="31000"/>
                                  </p:stCondLst>
                                  <p:childTnLst>
                                    <p:animMotion origin="layout" path="M 5.55556E-007 -6.93642E-007 L -0.39757 -0.07329 E">
                                      <p:cBhvr>
                                        <p:cTn id="228" dur="25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 repeatCount="4000">
                                  <p:stCondLst>
                                    <p:cond delay="3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2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313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8" repeatCount="4000">
                                  <p:stCondLst>
                                    <p:cond delay="31300"/>
                                  </p:stCondLst>
                                  <p:childTnLst>
                                    <p:animRot by="21600000">
                                      <p:cBhvr>
                                        <p:cTn id="236" dur="2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6" repeatCount="4000">
                                  <p:stCondLst>
                                    <p:cond delay="31300"/>
                                  </p:stCondLst>
                                  <p:childTnLst>
                                    <p:animScale>
                                      <p:cBhvr>
                                        <p:cTn id="238" dur="2500" fill="hold"/>
                                        <p:tgtEl>
                                          <p:spTgt spid="573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0" repeatCount="4000">
                                  <p:stCondLst>
                                    <p:cond delay="31300"/>
                                  </p:stCondLst>
                                  <p:childTnLst>
                                    <p:animMotion origin="layout" path="M 2.77778E-006 3.4104E-006 L -0.35035 0.40901 E">
                                      <p:cBhvr>
                                        <p:cTn id="240" dur="2500" fill="hold"/>
                                        <p:tgtEl>
                                          <p:spTgt spid="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0" repeatCount="4000">
                                  <p:stCondLst>
                                    <p:cond delay="3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2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2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31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8" repeatCount="4000">
                                  <p:stCondLst>
                                    <p:cond delay="31500"/>
                                  </p:stCondLst>
                                  <p:childTnLst>
                                    <p:animRot by="21600000">
                                      <p:cBhvr>
                                        <p:cTn id="248" dur="2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6" repeatCount="4000">
                                  <p:stCondLst>
                                    <p:cond delay="31500"/>
                                  </p:stCondLst>
                                  <p:childTnLst>
                                    <p:animScale>
                                      <p:cBhvr>
                                        <p:cTn id="250" dur="2500" fill="hold"/>
                                        <p:tgtEl>
                                          <p:spTgt spid="574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0" repeatCount="4000">
                                  <p:stCondLst>
                                    <p:cond delay="31500"/>
                                  </p:stCondLst>
                                  <p:childTnLst>
                                    <p:animMotion origin="layout" path="M -1.11111E-006 3.58382E-006 L -0.34236 -0.44694 E">
                                      <p:cBhvr>
                                        <p:cTn id="252" dur="2500" fill="hold"/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 repeatCount="4000">
                                  <p:stCondLst>
                                    <p:cond delay="3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2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2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315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8" repeatCount="3000">
                                  <p:stCondLst>
                                    <p:cond delay="31500"/>
                                  </p:stCondLst>
                                  <p:childTnLst>
                                    <p:animRot by="21600000">
                                      <p:cBhvr>
                                        <p:cTn id="260" dur="2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6" repeatCount="3000">
                                  <p:stCondLst>
                                    <p:cond delay="31500"/>
                                  </p:stCondLst>
                                  <p:childTnLst>
                                    <p:animScale>
                                      <p:cBhvr>
                                        <p:cTn id="262" dur="2500" fill="hold"/>
                                        <p:tgtEl>
                                          <p:spTgt spid="575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0" repeatCount="3000">
                                  <p:stCondLst>
                                    <p:cond delay="31500"/>
                                  </p:stCondLst>
                                  <p:childTnLst>
                                    <p:animMotion origin="layout" path="M 0 -1.84971E-006 L 0.0592 0.35468 E">
                                      <p:cBhvr>
                                        <p:cTn id="264" dur="25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0" repeatCount="3000">
                                  <p:stCondLst>
                                    <p:cond delay="3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2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2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31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8" repeatCount="3000">
                                  <p:stCondLst>
                                    <p:cond delay="31500"/>
                                  </p:stCondLst>
                                  <p:childTnLst>
                                    <p:animRot by="21600000">
                                      <p:cBhvr>
                                        <p:cTn id="272" dur="2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" nodeType="withEffect" fill="hold" presetClass="emph" presetID="6" repeatCount="3000">
                                  <p:stCondLst>
                                    <p:cond delay="31500"/>
                                  </p:stCondLst>
                                  <p:childTnLst>
                                    <p:animScale>
                                      <p:cBhvr>
                                        <p:cTn id="274" dur="2500" fill="hold"/>
                                        <p:tgtEl>
                                          <p:spTgt spid="57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0" repeatCount="3000">
                                  <p:stCondLst>
                                    <p:cond delay="31500"/>
                                  </p:stCondLst>
                                  <p:childTnLst>
                                    <p:animMotion origin="layout" path="M -3.05556E-006 4.9711E-006 L -0.07864 0.33502 E">
                                      <p:cBhvr>
                                        <p:cTn id="276" dur="25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 repeatCount="3000">
                                  <p:stCondLst>
                                    <p:cond delay="3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2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2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mph" presetID="8" repeatCount="3000">
                                  <p:stCondLst>
                                    <p:cond delay="31000"/>
                                  </p:stCondLst>
                                  <p:childTnLst>
                                    <p:animRot by="21600000">
                                      <p:cBhvr>
                                        <p:cTn id="284" dur="2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6" repeatCount="3000">
                                  <p:stCondLst>
                                    <p:cond delay="31000"/>
                                  </p:stCondLst>
                                  <p:childTnLst>
                                    <p:animScale>
                                      <p:cBhvr>
                                        <p:cTn id="286" dur="2500" fill="hold"/>
                                        <p:tgtEl>
                                          <p:spTgt spid="57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287" nodeType="withEffect" fill="hold" presetClass="path" presetID="0" repeatCount="3000">
                                  <p:stCondLst>
                                    <p:cond delay="31000"/>
                                  </p:stCondLst>
                                  <p:childTnLst>
                                    <p:animMotion origin="layout" path="M 3.88889E-006 3.64162E-006 L 0.27951 -0.39931 E">
                                      <p:cBhvr>
                                        <p:cTn id="288" dur="2500" fill="hold"/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0" repeatCount="3000">
                                  <p:stCondLst>
                                    <p:cond delay="3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2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2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31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8" repeatCount="3000">
                                  <p:stCondLst>
                                    <p:cond delay="31500"/>
                                  </p:stCondLst>
                                  <p:childTnLst>
                                    <p:animRot by="21600000">
                                      <p:cBhvr>
                                        <p:cTn id="296" dur="2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6" repeatCount="3000">
                                  <p:stCondLst>
                                    <p:cond delay="31500"/>
                                  </p:stCondLst>
                                  <p:childTnLst>
                                    <p:animScale>
                                      <p:cBhvr>
                                        <p:cTn id="298" dur="2500" fill="hold"/>
                                        <p:tgtEl>
                                          <p:spTgt spid="58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299" nodeType="withEffect" fill="hold" presetClass="path" presetID="0" repeatCount="3000">
                                  <p:stCondLst>
                                    <p:cond delay="31500"/>
                                  </p:stCondLst>
                                  <p:childTnLst>
                                    <p:animMotion origin="layout" path="M -1.38889E-006 2.31214E-006 L 0.16945 -0.2948 E">
                                      <p:cBhvr>
                                        <p:cTn id="300" dur="2500" fill="hold"/>
                                        <p:tgtEl>
                                          <p:spTgt spid="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 repeatCount="3000">
                                  <p:stCondLst>
                                    <p:cond delay="3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2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2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313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mph" presetID="8" repeatCount="3000">
                                  <p:stCondLst>
                                    <p:cond delay="31300"/>
                                  </p:stCondLst>
                                  <p:childTnLst>
                                    <p:animRot by="21600000">
                                      <p:cBhvr>
                                        <p:cTn id="308" dur="2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6" repeatCount="3000">
                                  <p:stCondLst>
                                    <p:cond delay="31300"/>
                                  </p:stCondLst>
                                  <p:childTnLst>
                                    <p:animScale>
                                      <p:cBhvr>
                                        <p:cTn id="310" dur="2500" fill="hold"/>
                                        <p:tgtEl>
                                          <p:spTgt spid="581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311" nodeType="withEffect" fill="hold" presetClass="path" presetID="0" repeatCount="3000">
                                  <p:stCondLst>
                                    <p:cond delay="31300"/>
                                  </p:stCondLst>
                                  <p:childTnLst>
                                    <p:animMotion origin="layout" path="M -4.44444E-006 -3.3526E-006 L -0.08263 -0.24254 E">
                                      <p:cBhvr>
                                        <p:cTn id="312" dur="25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0" repeatCount="3000">
                                  <p:stCondLst>
                                    <p:cond delay="3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2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2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31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mph" presetID="8" repeatCount="3000">
                                  <p:stCondLst>
                                    <p:cond delay="31300"/>
                                  </p:stCondLst>
                                  <p:childTnLst>
                                    <p:animRot by="21600000">
                                      <p:cBhvr>
                                        <p:cTn id="320" dur="3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6" repeatCount="3000">
                                  <p:stCondLst>
                                    <p:cond delay="31300"/>
                                  </p:stCondLst>
                                  <p:childTnLst>
                                    <p:animScale>
                                      <p:cBhvr>
                                        <p:cTn id="322" dur="3000" fill="hold"/>
                                        <p:tgtEl>
                                          <p:spTgt spid="564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0" repeatCount="3000">
                                  <p:stCondLst>
                                    <p:cond delay="31300"/>
                                  </p:stCondLst>
                                  <p:childTnLst>
                                    <p:animMotion origin="layout" path="M -2.22222E-006 -1.38728E-006 L 0.05521 0.22035 E">
                                      <p:cBhvr>
                                        <p:cTn id="324" dur="3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0" repeatCount="3000">
                                  <p:stCondLst>
                                    <p:cond delay="3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3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363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mph" presetID="8">
                                  <p:stCondLst>
                                    <p:cond delay="36300"/>
                                  </p:stCondLst>
                                  <p:childTnLst>
                                    <p:animRot by="21600000">
                                      <p:cBhvr>
                                        <p:cTn id="332" dur="3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6">
                                  <p:stCondLst>
                                    <p:cond delay="36300"/>
                                  </p:stCondLst>
                                  <p:childTnLst>
                                    <p:animScale>
                                      <p:cBhvr>
                                        <p:cTn id="334" dur="3000" fill="hold"/>
                                        <p:tgtEl>
                                          <p:spTgt spid="565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335" nodeType="withEffect" fill="hold" presetClass="path" presetID="0">
                                  <p:stCondLst>
                                    <p:cond delay="36300"/>
                                  </p:stCondLst>
                                  <p:childTnLst>
                                    <p:animMotion origin="layout" path="M 5E-006 -7.51445E-007 L -0.12987 0.15954 E">
                                      <p:cBhvr>
                                        <p:cTn id="336" dur="3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0">
                                  <p:stCondLst>
                                    <p:cond delay="36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3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8" repeatCount="2000">
                                  <p:stCondLst>
                                    <p:cond delay="35000"/>
                                  </p:stCondLst>
                                  <p:childTnLst>
                                    <p:animRot by="21600000">
                                      <p:cBhvr>
                                        <p:cTn id="344" dur="3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5" nodeType="withEffect" fill="hold" presetClass="emph" presetID="6" repeatCount="2000">
                                  <p:stCondLst>
                                    <p:cond delay="35000"/>
                                  </p:stCondLst>
                                  <p:childTnLst>
                                    <p:animScale>
                                      <p:cBhvr>
                                        <p:cTn id="346" dur="3000" fill="hold"/>
                                        <p:tgtEl>
                                          <p:spTgt spid="56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347" nodeType="withEffect" fill="hold" presetClass="path" presetID="0" repeatCount="2000">
                                  <p:stCondLst>
                                    <p:cond delay="35000"/>
                                  </p:stCondLst>
                                  <p:childTnLst>
                                    <p:animMotion origin="layout" path="M -3.88889E-006 -3.87283E-006 L 0.00018 -0.24832 E">
                                      <p:cBhvr>
                                        <p:cTn id="348" dur="3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0" repeatCount="200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3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8" repeatCount="2000">
                                  <p:stCondLst>
                                    <p:cond delay="33000"/>
                                  </p:stCondLst>
                                  <p:childTnLst>
                                    <p:animRot by="21600000">
                                      <p:cBhvr>
                                        <p:cTn id="356" dur="3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" nodeType="withEffect" fill="hold" presetClass="emph" presetID="6" repeatCount="2000">
                                  <p:stCondLst>
                                    <p:cond delay="33000"/>
                                  </p:stCondLst>
                                  <p:childTnLst>
                                    <p:animScale>
                                      <p:cBhvr>
                                        <p:cTn id="358" dur="3000" fill="hold"/>
                                        <p:tgtEl>
                                          <p:spTgt spid="56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359" nodeType="withEffect" fill="hold" presetClass="path" presetID="0" repeatCount="2000">
                                  <p:stCondLst>
                                    <p:cond delay="33000"/>
                                  </p:stCondLst>
                                  <p:childTnLst>
                                    <p:animMotion origin="layout" path="M -2.77778E-007 -2.19653E-006 L -0.14965 -0.24601 E">
                                      <p:cBhvr>
                                        <p:cTn id="360" dur="3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0" repeatCount="2000">
                                  <p:stCondLst>
                                    <p:cond delay="3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3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318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8" repeatCount="3000">
                                  <p:stCondLst>
                                    <p:cond delay="31800"/>
                                  </p:stCondLst>
                                  <p:childTnLst>
                                    <p:animRot by="21600000">
                                      <p:cBhvr>
                                        <p:cTn id="368" dur="3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6" repeatCount="3000">
                                  <p:stCondLst>
                                    <p:cond delay="31800"/>
                                  </p:stCondLst>
                                  <p:childTnLst>
                                    <p:animScale>
                                      <p:cBhvr>
                                        <p:cTn id="370" dur="3000" fill="hold"/>
                                        <p:tgtEl>
                                          <p:spTgt spid="568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371" nodeType="withEffect" fill="hold" presetClass="path" presetID="0" repeatCount="3000">
                                  <p:stCondLst>
                                    <p:cond delay="31800"/>
                                  </p:stCondLst>
                                  <p:childTnLst>
                                    <p:animMotion origin="layout" path="M 5.55556E-007 -1.79191E-006 L -0.18108 -0.07352 E">
                                      <p:cBhvr>
                                        <p:cTn id="372" dur="3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0" repeatCount="3000">
                                  <p:stCondLst>
                                    <p:cond delay="31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3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32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mph" presetID="8" repeatCount="2000">
                                  <p:stCondLst>
                                    <p:cond delay="32800"/>
                                  </p:stCondLst>
                                  <p:childTnLst>
                                    <p:animRot by="21600000">
                                      <p:cBhvr>
                                        <p:cTn id="380" dur="3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6" repeatCount="2000">
                                  <p:stCondLst>
                                    <p:cond delay="32800"/>
                                  </p:stCondLst>
                                  <p:childTnLst>
                                    <p:animScale>
                                      <p:cBhvr>
                                        <p:cTn id="382" dur="3000" fill="hold"/>
                                        <p:tgtEl>
                                          <p:spTgt spid="569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383" nodeType="withEffect" fill="hold" presetClass="path" presetID="0" repeatCount="2000">
                                  <p:stCondLst>
                                    <p:cond delay="32800"/>
                                  </p:stCondLst>
                                  <p:childTnLst>
                                    <p:animMotion origin="layout" path="M -1.94444E-006 3.75723E-006 L 0.10243 -0.09434 E">
                                      <p:cBhvr>
                                        <p:cTn id="384" dur="3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0" repeatCount="2000">
                                  <p:stCondLst>
                                    <p:cond delay="3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3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318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mph" presetID="8" repeatCount="3000">
                                  <p:stCondLst>
                                    <p:cond delay="31800"/>
                                  </p:stCondLst>
                                  <p:childTnLst>
                                    <p:animRot by="21600000">
                                      <p:cBhvr>
                                        <p:cTn id="392" dur="3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6" repeatCount="3000">
                                  <p:stCondLst>
                                    <p:cond delay="31800"/>
                                  </p:stCondLst>
                                  <p:childTnLst>
                                    <p:animScale>
                                      <p:cBhvr>
                                        <p:cTn id="394" dur="3000" fill="hold"/>
                                        <p:tgtEl>
                                          <p:spTgt spid="57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395" nodeType="withEffect" fill="hold" presetClass="path" presetID="0" repeatCount="3000">
                                  <p:stCondLst>
                                    <p:cond delay="31800"/>
                                  </p:stCondLst>
                                  <p:childTnLst>
                                    <p:animMotion origin="layout" path="M -1.38889E-006 4.04624E-007 L 0.10643 0.11006 E">
                                      <p:cBhvr>
                                        <p:cTn id="396" dur="30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0" repeatCount="3000">
                                  <p:stCondLst>
                                    <p:cond delay="31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3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348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8" repeatCount="2000">
                                  <p:stCondLst>
                                    <p:cond delay="34800"/>
                                  </p:stCondLst>
                                  <p:childTnLst>
                                    <p:animRot by="21600000">
                                      <p:cBhvr>
                                        <p:cTn id="404" dur="3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5" nodeType="withEffect" fill="hold" presetClass="emph" presetID="6" repeatCount="2000">
                                  <p:stCondLst>
                                    <p:cond delay="34800"/>
                                  </p:stCondLst>
                                  <p:childTnLst>
                                    <p:animScale>
                                      <p:cBhvr>
                                        <p:cTn id="406" dur="3000" fill="hold"/>
                                        <p:tgtEl>
                                          <p:spTgt spid="571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407" nodeType="withEffect" fill="hold" presetClass="path" presetID="0" repeatCount="2000">
                                  <p:stCondLst>
                                    <p:cond delay="34800"/>
                                  </p:stCondLst>
                                  <p:childTnLst>
                                    <p:animMotion origin="layout" path="M 4.16667E-006 -4.68208E-006 L -0.02761 0.20463 E">
                                      <p:cBhvr>
                                        <p:cTn id="408" dur="30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0" repeatCount="2000">
                                  <p:stCondLst>
                                    <p:cond delay="3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0" dur="3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333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mph" presetID="8" repeatCount="2000">
                                  <p:stCondLst>
                                    <p:cond delay="33300"/>
                                  </p:stCondLst>
                                  <p:childTnLst>
                                    <p:animRot by="21600000">
                                      <p:cBhvr>
                                        <p:cTn id="416" dur="3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6" repeatCount="2000">
                                  <p:stCondLst>
                                    <p:cond delay="33300"/>
                                  </p:stCondLst>
                                  <p:childTnLst>
                                    <p:animScale>
                                      <p:cBhvr>
                                        <p:cTn id="418" dur="3000" fill="hold"/>
                                        <p:tgtEl>
                                          <p:spTgt spid="572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419" nodeType="withEffect" fill="hold" presetClass="path" presetID="0" repeatCount="2000">
                                  <p:stCondLst>
                                    <p:cond delay="33300"/>
                                  </p:stCondLst>
                                  <p:childTnLst>
                                    <p:animMotion origin="layout" path="M -3.05556E-006 -2.31214E-006 L 0.12604 0.04463 E">
                                      <p:cBhvr>
                                        <p:cTn id="420" dur="30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0" repeatCount="2000">
                                  <p:stCondLst>
                                    <p:cond delay="33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3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0">
                                  <p:stCondLst>
                                    <p:cond delay="3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318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10">
                                  <p:stCondLst>
                                    <p:cond delay="32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0">
                                  <p:stCondLst>
                                    <p:cond delay="33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339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10">
                                  <p:stCondLst>
                                    <p:cond delay="34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path" presetID="0">
                                  <p:stCondLst>
                                    <p:cond delay="35000"/>
                                  </p:stCondLst>
                                  <p:childTnLst>
                                    <p:animMotion origin="layout" path="M -0.33073 -1.96532E-006 L 2.5E-006 -1.96532E-006 E">
                                      <p:cBhvr>
                                        <p:cTn id="452" dur="50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358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path" presetID="0">
                                  <p:stCondLst>
                                    <p:cond delay="35800"/>
                                  </p:stCondLst>
                                  <p:childTnLst>
                                    <p:animMotion origin="layout" path="M -0.33073 -1.96532E-006 L 2.5E-006 -1.96532E-006 E">
                                      <p:cBhvr>
                                        <p:cTn id="457" dur="5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365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0">
                                  <p:stCondLst>
                                    <p:cond delay="36500"/>
                                  </p:stCondLst>
                                  <p:childTnLst>
                                    <p:animMotion origin="layout" path="M -0.33073 -1.96532E-006 L 2.5E-006 -1.96532E-006 E">
                                      <p:cBhvr>
                                        <p:cTn id="462" dur="500" fill="hold"/>
                                        <p:tgtEl>
                                          <p:spTgt spid="5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0">
                                  <p:stCondLst>
                                    <p:cond delay="3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2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0">
                                  <p:stCondLst>
                                    <p:cond delay="3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2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0">
                                  <p:stCondLst>
                                    <p:cond delay="3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2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375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3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378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3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383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3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0">
                                  <p:stCondLst>
                                    <p:cond delay="39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2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0">
                                  <p:stCondLst>
                                    <p:cond delay="39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2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0">
                                  <p:stCondLst>
                                    <p:cond delay="39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2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392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0">
                                  <p:stCondLst>
                                    <p:cond delay="39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2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394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0">
                                  <p:stCondLst>
                                    <p:cond delay="39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0" dur="2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398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10" repeatCount="8000">
                                  <p:stCondLst>
                                    <p:cond delay="39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6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mph" presetID="6" repeatCount="8000">
                                  <p:stCondLst>
                                    <p:cond delay="39800"/>
                                  </p:stCondLst>
                                  <p:childTnLst>
                                    <p:animScale>
                                      <p:cBhvr>
                                        <p:cTn id="509" dur="2000" fill="hold"/>
                                        <p:tgtEl>
                                          <p:spTgt spid="593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510" nodeType="withEffect" fill="hold" presetClass="emph" presetID="8" repeatCount="8000">
                                  <p:stCondLst>
                                    <p:cond delay="39800"/>
                                  </p:stCondLst>
                                  <p:childTnLst>
                                    <p:animRot by="21600000">
                                      <p:cBhvr>
                                        <p:cTn id="511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2" nodeType="withEffect" fill="hold" presetClass="path" presetID="0" repeatCount="8000">
                                  <p:stCondLst>
                                    <p:cond delay="39800"/>
                                  </p:stCondLst>
                                  <p:childTnLst>
                                    <p:animMotion origin="layout" path="M 1.11111E-006 3.7037E-006 L 1.11111E-006 0.33588 E">
                                      <p:cBhvr>
                                        <p:cTn id="513" dur="20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40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10" repeatCount="7000">
                                  <p:stCondLst>
                                    <p:cond delay="40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8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8" repeatCount="7000">
                                  <p:stCondLst>
                                    <p:cond delay="40500"/>
                                  </p:stCondLst>
                                  <p:childTnLst>
                                    <p:animRot by="21600000">
                                      <p:cBhvr>
                                        <p:cTn id="521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2" nodeType="withEffect" fill="hold" presetClass="emph" presetID="6" repeatCount="7000">
                                  <p:stCondLst>
                                    <p:cond delay="40500"/>
                                  </p:stCondLst>
                                  <p:childTnLst>
                                    <p:animScale>
                                      <p:cBhvr>
                                        <p:cTn id="523" dur="2000" fill="hold"/>
                                        <p:tgtEl>
                                          <p:spTgt spid="594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524" nodeType="withEffect" fill="hold" presetClass="path" presetID="0" repeatCount="7000">
                                  <p:stCondLst>
                                    <p:cond delay="40500"/>
                                  </p:stCondLst>
                                  <p:childTnLst>
                                    <p:animMotion origin="layout" path="M 5.55556E-007 2.59259E-006 L -0.04722 -0.36736 E">
                                      <p:cBhvr>
                                        <p:cTn id="525" dur="2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415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0" repeatCount="7000">
                                  <p:stCondLst>
                                    <p:cond delay="4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0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mph" presetID="6" repeatCount="7000">
                                  <p:stCondLst>
                                    <p:cond delay="41500"/>
                                  </p:stCondLst>
                                  <p:childTnLst>
                                    <p:animScale>
                                      <p:cBhvr>
                                        <p:cTn id="533" dur="2000" fill="hold"/>
                                        <p:tgtEl>
                                          <p:spTgt spid="595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534" nodeType="withEffect" fill="hold" presetClass="emph" presetID="8" repeatCount="7000">
                                  <p:stCondLst>
                                    <p:cond delay="41500"/>
                                  </p:stCondLst>
                                  <p:childTnLst>
                                    <p:animRot by="21600000">
                                      <p:cBhvr>
                                        <p:cTn id="535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6" nodeType="withEffect" fill="hold" presetClass="path" presetID="0" repeatCount="7000">
                                  <p:stCondLst>
                                    <p:cond delay="41500"/>
                                  </p:stCondLst>
                                  <p:childTnLst>
                                    <p:animMotion origin="layout" path="M 4.16667E-006 -7.40741E-007 L 0.38594 -7.40741E-007 E">
                                      <p:cBhvr>
                                        <p:cTn id="537" dur="20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0" repeatCount="6000">
                                  <p:stCondLst>
                                    <p:cond delay="4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6" repeatCount="6000">
                                  <p:stCondLst>
                                    <p:cond delay="43000"/>
                                  </p:stCondLst>
                                  <p:childTnLst>
                                    <p:animScale>
                                      <p:cBhvr>
                                        <p:cTn id="545" dur="2000" fill="hold"/>
                                        <p:tgtEl>
                                          <p:spTgt spid="596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546" nodeType="withEffect" fill="hold" presetClass="emph" presetID="8" repeatCount="6000">
                                  <p:stCondLst>
                                    <p:cond delay="43000"/>
                                  </p:stCondLst>
                                  <p:childTnLst>
                                    <p:animRot by="21600000">
                                      <p:cBhvr>
                                        <p:cTn id="547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8" nodeType="withEffect" fill="hold" presetClass="path" presetID="0" repeatCount="6000">
                                  <p:stCondLst>
                                    <p:cond delay="43000"/>
                                  </p:stCondLst>
                                  <p:childTnLst>
                                    <p:animMotion origin="layout" path="M 1.38889E-006 6.66667E-006 L 0.23628 -0.30462 E">
                                      <p:cBhvr>
                                        <p:cTn id="549" dur="2000" fill="hold"/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10" repeatCount="7000">
                                  <p:stCondLst>
                                    <p:cond delay="4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6" repeatCount="7000">
                                  <p:stCondLst>
                                    <p:cond delay="41000"/>
                                  </p:stCondLst>
                                  <p:childTnLst>
                                    <p:animScale>
                                      <p:cBhvr>
                                        <p:cTn id="557" dur="2000" fill="hold"/>
                                        <p:tgtEl>
                                          <p:spTgt spid="597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558" nodeType="withEffect" fill="hold" presetClass="emph" presetID="8" repeatCount="7000">
                                  <p:stCondLst>
                                    <p:cond delay="41000"/>
                                  </p:stCondLst>
                                  <p:childTnLst>
                                    <p:animRot by="21600000">
                                      <p:cBhvr>
                                        <p:cTn id="559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0" nodeType="withEffect" fill="hold" presetClass="path" presetID="0" repeatCount="7000">
                                  <p:stCondLst>
                                    <p:cond delay="41000"/>
                                  </p:stCondLst>
                                  <p:childTnLst>
                                    <p:animMotion origin="layout" path="M -8.33333E-007 2.59259E-006 L 0.18507 0.34653 E">
                                      <p:cBhvr>
                                        <p:cTn id="561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435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10" repeatCount="5000">
                                  <p:stCondLst>
                                    <p:cond delay="4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6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6" repeatCount="5000">
                                  <p:stCondLst>
                                    <p:cond delay="43500"/>
                                  </p:stCondLst>
                                  <p:childTnLst>
                                    <p:animScale>
                                      <p:cBhvr>
                                        <p:cTn id="569" dur="2000" fill="hold"/>
                                        <p:tgtEl>
                                          <p:spTgt spid="598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570" nodeType="withEffect" fill="hold" presetClass="emph" presetID="8" repeatCount="5000">
                                  <p:stCondLst>
                                    <p:cond delay="43500"/>
                                  </p:stCondLst>
                                  <p:childTnLst>
                                    <p:animRot by="21600000">
                                      <p:cBhvr>
                                        <p:cTn id="571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2" nodeType="withEffect" fill="hold" presetClass="path" presetID="0" repeatCount="5000">
                                  <p:stCondLst>
                                    <p:cond delay="43500"/>
                                  </p:stCondLst>
                                  <p:childTnLst>
                                    <p:animMotion origin="layout" path="M 2.5E-006 -7.40741E-007 L -0.33073 -0.2625 E">
                                      <p:cBhvr>
                                        <p:cTn id="573" dur="2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0">
                                  <p:stCondLst>
                                    <p:cond delay="425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10" repeatCount="6000">
                                  <p:stCondLst>
                                    <p:cond delay="4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mph" presetID="6" repeatCount="6000">
                                  <p:stCondLst>
                                    <p:cond delay="42500"/>
                                  </p:stCondLst>
                                  <p:childTnLst>
                                    <p:animScale>
                                      <p:cBhvr>
                                        <p:cTn id="581" dur="2000" fill="hold"/>
                                        <p:tgtEl>
                                          <p:spTgt spid="599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582" nodeType="withEffect" fill="hold" presetClass="emph" presetID="8" repeatCount="6000">
                                  <p:stCondLst>
                                    <p:cond delay="42500"/>
                                  </p:stCondLst>
                                  <p:childTnLst>
                                    <p:animRot by="21600000">
                                      <p:cBhvr>
                                        <p:cTn id="583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4" nodeType="withEffect" fill="hold" presetClass="path" presetID="0" repeatCount="6000">
                                  <p:stCondLst>
                                    <p:cond delay="42500"/>
                                  </p:stCondLst>
                                  <p:childTnLst>
                                    <p:animMotion origin="layout" path="M -3.05556E-006 -8.88889E-006 L -0.29132 0.24143 E">
                                      <p:cBhvr>
                                        <p:cTn id="585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425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10" repeatCount="6000">
                                  <p:stCondLst>
                                    <p:cond delay="4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0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mph" presetID="6" repeatCount="6000">
                                  <p:stCondLst>
                                    <p:cond delay="42500"/>
                                  </p:stCondLst>
                                  <p:childTnLst>
                                    <p:animScale>
                                      <p:cBhvr>
                                        <p:cTn id="593" dur="2000" fill="hold"/>
                                        <p:tgtEl>
                                          <p:spTgt spid="600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8" repeatCount="6000">
                                  <p:stCondLst>
                                    <p:cond delay="42500"/>
                                  </p:stCondLst>
                                  <p:childTnLst>
                                    <p:animRot by="21600000">
                                      <p:cBhvr>
                                        <p:cTn id="595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6" nodeType="withEffect" fill="hold" presetClass="path" presetID="0" repeatCount="6000">
                                  <p:stCondLst>
                                    <p:cond delay="42500"/>
                                  </p:stCondLst>
                                  <p:childTnLst>
                                    <p:animMotion origin="layout" path="M 5.55556E-007 -2.22222E-006 L 0.25972 0.30463 E">
                                      <p:cBhvr>
                                        <p:cTn id="597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435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10" repeatCount="6000">
                                  <p:stCondLst>
                                    <p:cond delay="4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2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mph" presetID="8" repeatCount="6000">
                                  <p:stCondLst>
                                    <p:cond delay="43500"/>
                                  </p:stCondLst>
                                  <p:childTnLst>
                                    <p:animRot by="21600000">
                                      <p:cBhvr>
                                        <p:cTn id="605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6" nodeType="withEffect" fill="hold" presetClass="emph" presetID="6" repeatCount="6000">
                                  <p:stCondLst>
                                    <p:cond delay="43500"/>
                                  </p:stCondLst>
                                  <p:childTnLst>
                                    <p:animScale>
                                      <p:cBhvr>
                                        <p:cTn id="607" dur="2000" fill="hold"/>
                                        <p:tgtEl>
                                          <p:spTgt spid="601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0" repeatCount="6000">
                                  <p:stCondLst>
                                    <p:cond delay="43500"/>
                                  </p:stCondLst>
                                  <p:childTnLst>
                                    <p:animMotion origin="layout" path="M 0.02761 0.02222 L 0.32292 -0.11945 E">
                                      <p:cBhvr>
                                        <p:cTn id="609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439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10" repeatCount="5000">
                                  <p:stCondLst>
                                    <p:cond delay="43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4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mph" presetID="6" repeatCount="5000">
                                  <p:stCondLst>
                                    <p:cond delay="43900"/>
                                  </p:stCondLst>
                                  <p:childTnLst>
                                    <p:animScale>
                                      <p:cBhvr>
                                        <p:cTn id="617" dur="2000" fill="hold"/>
                                        <p:tgtEl>
                                          <p:spTgt spid="602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618" nodeType="withEffect" fill="hold" presetClass="emph" presetID="8" repeatCount="5000">
                                  <p:stCondLst>
                                    <p:cond delay="43900"/>
                                  </p:stCondLst>
                                  <p:childTnLst>
                                    <p:animRot by="21600000">
                                      <p:cBhvr>
                                        <p:cTn id="619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0" nodeType="withEffect" fill="hold" presetClass="path" presetID="0" repeatCount="5000">
                                  <p:stCondLst>
                                    <p:cond delay="43900"/>
                                  </p:stCondLst>
                                  <p:childTnLst>
                                    <p:animMotion origin="layout" path="M -0.26372 -0.33982 L -0.02761 0.02222 E">
                                      <p:cBhvr>
                                        <p:cTn id="621" dur="2000" fill="hold"/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446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0" repeatCount="5000">
                                  <p:stCondLst>
                                    <p:cond delay="44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mph" presetID="6" repeatCount="5000">
                                  <p:stCondLst>
                                    <p:cond delay="44600"/>
                                  </p:stCondLst>
                                  <p:childTnLst>
                                    <p:animScale>
                                      <p:cBhvr>
                                        <p:cTn id="629" dur="2000" fill="hold"/>
                                        <p:tgtEl>
                                          <p:spTgt spid="60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630" nodeType="withEffect" fill="hold" presetClass="emph" presetID="8" repeatCount="5000">
                                  <p:stCondLst>
                                    <p:cond delay="44600"/>
                                  </p:stCondLst>
                                  <p:childTnLst>
                                    <p:animRot by="21600000">
                                      <p:cBhvr>
                                        <p:cTn id="631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2" nodeType="withEffect" fill="hold" presetClass="path" presetID="0" repeatCount="5000">
                                  <p:stCondLst>
                                    <p:cond delay="44600"/>
                                  </p:stCondLst>
                                  <p:childTnLst>
                                    <p:animMotion origin="layout" path="M -8.33333E-007 7.40741E-007 L -0.01163 -0.3044 E">
                                      <p:cBhvr>
                                        <p:cTn id="633" dur="2000" fill="hold"/>
                                        <p:tgtEl>
                                          <p:spTgt spid="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0">
                                  <p:stCondLst>
                                    <p:cond delay="453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0" repeatCount="4000">
                                  <p:stCondLst>
                                    <p:cond delay="45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mph" presetID="6" repeatCount="4000">
                                  <p:stCondLst>
                                    <p:cond delay="45300"/>
                                  </p:stCondLst>
                                  <p:childTnLst>
                                    <p:animScale>
                                      <p:cBhvr>
                                        <p:cTn id="641" dur="2000" fill="hold"/>
                                        <p:tgtEl>
                                          <p:spTgt spid="604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642" nodeType="withEffect" fill="hold" presetClass="emph" presetID="8" repeatCount="4000">
                                  <p:stCondLst>
                                    <p:cond delay="45300"/>
                                  </p:stCondLst>
                                  <p:childTnLst>
                                    <p:animRot by="21600000">
                                      <p:cBhvr>
                                        <p:cTn id="643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4" nodeType="withEffect" fill="hold" presetClass="path" presetID="0" repeatCount="4000">
                                  <p:stCondLst>
                                    <p:cond delay="45300"/>
                                  </p:stCondLst>
                                  <p:childTnLst>
                                    <p:animMotion origin="layout" path="M 0.0276 0.00139 L 0.19687 -0.40416 E">
                                      <p:cBhvr>
                                        <p:cTn id="645" dur="2000" fill="hold"/>
                                        <p:tgtEl>
                                          <p:spTgt spid="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0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10" repeatCount="4000">
                                  <p:stCondLst>
                                    <p:cond delay="4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0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mph" presetID="6" repeatCount="4000">
                                  <p:stCondLst>
                                    <p:cond delay="46000"/>
                                  </p:stCondLst>
                                  <p:childTnLst>
                                    <p:animScale>
                                      <p:cBhvr>
                                        <p:cTn id="653" dur="2000" fill="hold"/>
                                        <p:tgtEl>
                                          <p:spTgt spid="605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654" nodeType="withEffect" fill="hold" presetClass="emph" presetID="8" repeatCount="4000">
                                  <p:stCondLst>
                                    <p:cond delay="46000"/>
                                  </p:stCondLst>
                                  <p:childTnLst>
                                    <p:animRot by="21600000">
                                      <p:cBhvr>
                                        <p:cTn id="655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6" nodeType="withEffect" fill="hold" presetClass="path" presetID="0" repeatCount="4000">
                                  <p:stCondLst>
                                    <p:cond delay="46000"/>
                                  </p:stCondLst>
                                  <p:childTnLst>
                                    <p:animMotion origin="layout" path="M 1.11022E-016 1.85185E-006 L -0.35434 0.07893 E">
                                      <p:cBhvr>
                                        <p:cTn id="657" dur="2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0">
                                  <p:stCondLst>
                                    <p:cond delay="467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10" repeatCount="4000">
                                  <p:stCondLst>
                                    <p:cond delay="46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2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mph" presetID="6" repeatCount="4000">
                                  <p:stCondLst>
                                    <p:cond delay="46700"/>
                                  </p:stCondLst>
                                  <p:childTnLst>
                                    <p:animScale>
                                      <p:cBhvr>
                                        <p:cTn id="665" dur="2000" fill="hold"/>
                                        <p:tgtEl>
                                          <p:spTgt spid="606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666" nodeType="withEffect" fill="hold" presetClass="emph" presetID="8" repeatCount="4000">
                                  <p:stCondLst>
                                    <p:cond delay="46700"/>
                                  </p:stCondLst>
                                  <p:childTnLst>
                                    <p:animRot by="21600000">
                                      <p:cBhvr>
                                        <p:cTn id="667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8" nodeType="withEffect" fill="hold" presetClass="path" presetID="0" repeatCount="4000">
                                  <p:stCondLst>
                                    <p:cond delay="46700"/>
                                  </p:stCondLst>
                                  <p:childTnLst>
                                    <p:animMotion origin="layout" path="M -5.55556E-007 2.59259E-006 L -0.14566 0.3831 E">
                                      <p:cBhvr>
                                        <p:cTn id="669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0">
                                  <p:stCondLst>
                                    <p:cond delay="395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mph" presetID="6">
                                  <p:stCondLst>
                                    <p:cond delay="39500"/>
                                  </p:stCondLst>
                                  <p:childTnLst>
                                    <p:animScale>
                                      <p:cBhvr>
                                        <p:cTn id="674" dur="1300" fill="hold"/>
                                        <p:tgtEl>
                                          <p:spTgt spid="6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75" nodeType="withEffect" fill="hold" presetClass="exit" presetID="10">
                                  <p:stCondLst>
                                    <p:cond delay="40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6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0">
                                  <p:stCondLst>
                                    <p:cond delay="421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mph" presetID="6">
                                  <p:stCondLst>
                                    <p:cond delay="42100"/>
                                  </p:stCondLst>
                                  <p:childTnLst>
                                    <p:animScale>
                                      <p:cBhvr>
                                        <p:cTn id="682" dur="1900" fill="hold"/>
                                        <p:tgtEl>
                                          <p:spTgt spid="6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10">
                                  <p:stCondLst>
                                    <p:cond delay="43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4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0">
                                  <p:stCondLst>
                                    <p:cond delay="444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mph" presetID="6">
                                  <p:stCondLst>
                                    <p:cond delay="44500"/>
                                  </p:stCondLst>
                                  <p:childTnLst>
                                    <p:animScale>
                                      <p:cBhvr>
                                        <p:cTn id="690" dur="2000" fill="hold"/>
                                        <p:tgtEl>
                                          <p:spTgt spid="60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10">
                                  <p:stCondLst>
                                    <p:cond delay="47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0">
                                  <p:stCondLst>
                                    <p:cond delay="479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mph" presetID="6">
                                  <p:stCondLst>
                                    <p:cond delay="47900"/>
                                  </p:stCondLst>
                                  <p:childTnLst>
                                    <p:animScale>
                                      <p:cBhvr>
                                        <p:cTn id="698" dur="9000" fill="hold"/>
                                        <p:tgtEl>
                                          <p:spTgt spid="625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0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2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mph" presetID="6">
                                  <p:stCondLst>
                                    <p:cond delay="49000"/>
                                  </p:stCondLst>
                                  <p:childTnLst>
                                    <p:animScale>
                                      <p:cBhvr>
                                        <p:cTn id="703" dur="2000" fill="hold"/>
                                        <p:tgtEl>
                                          <p:spTgt spid="610"/>
                                        </p:tgtEl>
                                      </p:cBhvr>
                                      <p:to x="11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4" nodeType="withEffect" fill="hold" presetClass="exit" presetID="10">
                                  <p:stCondLst>
                                    <p:cond delay="50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5" dur="2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0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path" presetID="0">
                                  <p:stCondLst>
                                    <p:cond delay="51000"/>
                                  </p:stCondLst>
                                  <p:childTnLst>
                                    <p:animMotion origin="layout" path="M 2.77778E-007 -1.48148E-006 L 0.05903 0.07361 E">
                                      <p:cBhvr>
                                        <p:cTn id="711" dur="2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2" nodeType="withEffect" fill="hold" presetClass="emph" presetID="6">
                                  <p:stCondLst>
                                    <p:cond delay="51000"/>
                                  </p:stCondLst>
                                  <p:childTnLst>
                                    <p:animScale>
                                      <p:cBhvr>
                                        <p:cTn id="713" dur="1100" fill="hold"/>
                                        <p:tgtEl>
                                          <p:spTgt spid="61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10">
                                  <p:stCondLst>
                                    <p:cond delay="5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53">
                                  <p:stCondLst>
                                    <p:cond delay="537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3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3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3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53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3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3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3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53">
                                  <p:stCondLst>
                                    <p:cond delay="543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3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3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53">
                                  <p:stCondLst>
                                    <p:cond delay="546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3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3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3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53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3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3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3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53">
                                  <p:stCondLst>
                                    <p:cond delay="554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3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3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3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53">
                                  <p:stCondLst>
                                    <p:cond delay="557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3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3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3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53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3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3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3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53">
                                  <p:stCondLst>
                                    <p:cond delay="563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3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3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3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0">
                                  <p:stCondLst>
                                    <p:cond delay="56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10">
                                  <p:stCondLst>
                                    <p:cond delay="56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10">
                                  <p:stCondLst>
                                    <p:cond delay="56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xit" presetID="10">
                                  <p:stCondLst>
                                    <p:cond delay="56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10">
                                  <p:stCondLst>
                                    <p:cond delay="56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xit" presetID="10">
                                  <p:stCondLst>
                                    <p:cond delay="56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10">
                                  <p:stCondLst>
                                    <p:cond delay="56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10">
                                  <p:stCondLst>
                                    <p:cond delay="56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xit" presetID="10">
                                  <p:stCondLst>
                                    <p:cond delay="56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57400"/>
                            </p:stCondLst>
                            <p:childTnLst>
                              <p:par>
                                <p:cTn id="790" nodeType="after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794" dur="500" fill="hold"/>
                                        <p:tgtEl>
                                          <p:spTgt spid="62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58000"/>
                            </p:stCondLst>
                            <p:childTnLst>
                              <p:par>
                                <p:cTn id="796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9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2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58500"/>
                            </p:stCondLst>
                            <p:childTnLst>
                              <p:par>
                                <p:cTn id="806" nodeType="after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59600"/>
                            </p:stCondLst>
                            <p:childTnLst>
                              <p:par>
                                <p:cTn id="810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3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63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6:25:57Z</dcterms:created>
  <dc:creator>WPS Office</dc:creator>
  <dc:description>WPS Office</dc:description>
  <cp:keywords>WPS Office</cp:keywords>
  <dc:language>en-US</dc:language>
  <cp:lastModifiedBy>a</cp:lastModifiedBy>
  <dcterms:modified xsi:type="dcterms:W3CDTF">2014-07-24T07:48:07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