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F215-0D12-4617-B631-75EE82F8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A247-A8D3-4F7B-BC1D-45497D5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83F8-56A6-40E0-82CA-4A7F0F34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0CC2-5392-4654-BCBD-01037D2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FD8E5-9AD1-4BC9-851B-DA525D6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4B9F-918C-489C-BA5D-88C3BCF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E8AA-2389-4207-B708-0744FED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C668-6BAE-457F-8539-561624AD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0A68-B439-4051-B948-20C503CC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1ED9-949D-4A28-A0A5-CE44C532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E7EA-5782-42EE-9FE6-C9D4616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429F-989B-4E13-B18F-1122D65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17D7-F53C-475F-9732-3825A8F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D7CE-A230-4D94-9FDF-2717124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53EC-DD84-4B4F-BDB5-A08ADBCB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3632-3166-4612-9B03-11EBFAC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1B60-7474-49AD-A86D-B32FFCB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FA699-948C-40D0-BCE7-603D851A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8A572-BE99-4041-8AD4-5F2912F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40EA-A223-45BD-866A-86AF489F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E6C7-49DC-4B1D-842A-43B09C75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AC97-3B07-4065-ADE4-507D847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E9BC1-24C2-4C5C-94E6-99BE8325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832D-33DB-4ADE-A930-0602172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3FC53-9B00-498B-923C-2386B658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E1B78-418A-4756-97DB-E6DCAE6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9D93F-01C9-481E-8263-D83590F1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FC63-9C39-4A84-98FD-3BA948E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4734-AFF4-4694-A3F3-918AEE2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269A-FD93-4FEF-8C95-CE2E317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680-47D1-4AEB-91AD-51E8CA59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9A2F-3DF9-4A47-85DA-A3943D8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53F9-D955-4141-9527-B2C3FAC8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68F15-1614-47F3-9A53-68A2370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B8822-078A-4BE4-B30B-4EE88B9B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B4995-8A11-4895-88A7-AC37A415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45751-3AFF-4C68-920A-1290FAF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E932-2A48-4AB3-BD22-6802F02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29A18-314A-481E-BECC-8537FDC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F4AA-C16F-4B11-9B97-70C794D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A889C-3A43-448D-B4A6-41BEF80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9C8-9C73-4038-B90E-246AA440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44EF-9177-4853-B7A7-A515C92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5EA2-15C2-4B58-ADB8-1BA2C80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B7BF-1E4E-4D2D-8F9E-97186C0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4C122-1B47-4896-B51A-1A00F66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7DBD-1F8C-4785-BC30-0A9E9B4F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62715-2F4F-4377-A928-0EABCB11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4D6A8-F28D-4782-AE9B-BC826DD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AEC21-A7BF-4D42-8625-668B7FC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274DD-2D68-4E4D-8CD7-0B68CDC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EE33-E4BE-4636-85A5-AEF4A88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713-4325-42CE-B805-94C902F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87E59-5EF6-4002-83D7-78C942F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56D7F-7EC7-4EEE-9D36-906F007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1945-32D1-4F8F-9D49-EE604384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A4AE-832F-46AB-A79A-2D2F1F5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A2935-6C07-4533-B7F1-0223060B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E4D36-CB82-45A5-9E90-F62C77D7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1518-29F6-4D01-B6C6-760D53DB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AB4FB-4C15-4E13-81EE-8FCF6317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8716D-1AEB-45EF-8B42-C34F627C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EF76F-BB64-46D9-9B71-95B2A30E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0F1-0323-47CF-A951-44270FAB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1D46-B579-422F-BE5B-423805C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6CF6A-5D5C-4D75-8378-85B129C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5724-BBFD-44F3-ACAC-546FED5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FB816-8198-4420-A645-60478AC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D28FB-92D7-435B-B403-F8F82FD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1C939-B1A7-478D-B235-F011353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3C7AB-8289-49AA-B823-825D936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D0486-CA7F-4F9D-ACFD-ACF90BCF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31CD9-E6D6-420B-908D-83DF11BB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5E8-760D-49DD-9030-47B6C303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1D5-A6F1-4278-9C12-4EFAA4B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D25-8E42-41BF-A668-A492380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F44-AD60-44D6-97D6-C75D0F1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CEE-9AE6-415C-B40D-0784791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D5D-59B6-4319-B89B-1F4E39F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D3D-4B45-491B-B73E-2A8DCBEB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A9E-7BE3-4D0B-9402-7F2EC5A9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D785-97E9-4F99-8DB8-742E8F3B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2F7-5739-4188-A0BA-C6FAAF0D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941-7893-452A-BB13-D6016BFC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9B3-5B25-4ECE-B6F1-273D8E9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5C9-41B9-4ADD-8882-243CAE6F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45C-A136-4022-8A84-584DB3E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776-8090-4C97-947F-EA71BB5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1CC-A7FB-4DA6-97CC-1FDC2AD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0FB-EBC1-4E94-8F7E-12BB630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1975-C5ED-478F-A75E-93D7140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80A9-2498-4792-9D65-062E615E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FA78-425D-4927-A574-E4F67495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627E-EA0D-4462-901A-E074C8F8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094B-B278-4678-98AC-614EDCA5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9324-2CF7-44A8-9456-9ECBE71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8C96-79AC-46E5-9349-1690C33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D720-31E0-498D-AB78-DE24EC0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4CAF-FD85-4C03-8308-87C01F02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0E70-66C8-4862-B0C4-D68352B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324C-A096-4696-8778-170CAD1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8E25-A368-457C-B587-0FA5B5F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397C-A81E-4C04-B1A3-28F88302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8C2E-9046-41AE-9FDB-2CB8EAD4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0B1D-6C0B-4417-86FA-9DEB6C13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9B42-98AA-4597-B73F-B63C9D6B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254A-1660-4BD2-8340-FF0FA6D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D1DF-3B0B-4B2E-8A44-4C8B6E6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5224-91A6-4642-96A2-385BF471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0C18-C685-4136-8B38-965C304C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E397-AE65-49FB-AB1B-7887AA0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B8BD-CA35-4856-837C-F34B541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83DC-4FDB-4DE1-AC65-8319970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50FB-3DE9-409F-9C18-3DF7F6D4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4484-FFBC-4092-A293-9F9B9E6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1841-ED0C-48DB-9232-CA7CC07B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471F9-DB10-4CB7-9B12-CBFD9809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6E06-3966-4048-8141-E6CB2AC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73D8-4B2B-4570-9198-5792E8F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CC57-59F3-458B-AEE5-2D1F7D6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0F56-74B2-465C-9131-FB3EDEE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C0838-CB86-4923-B15E-3D4A3B1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07E9-580F-4E77-96D7-67614A7D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9D01-E7ED-4877-9942-DCA8F19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6A39-6AFD-4A5A-9C4B-E2350A5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4D2A-3472-4AD0-B311-9304925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EAAB-0F11-4EB0-B92E-1DF86E2A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2DB8-7169-4579-B0A4-3A69DC4C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1928-D79D-4FF8-87E4-64C9DDCC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CF95-4F28-4781-A6E5-6D3E0C8C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D9E91-76FB-4B36-8120-1BC1196F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49BD-1EC4-414D-8AE6-3C2322CE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3E3F-D962-45AC-A92D-1512322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DC98-2210-466D-AEF3-222C151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1DB5-B4FA-4D7F-8493-4FA211A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0E67-FE7D-404F-82B5-5076684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1C0C2-CBEF-4725-A984-ADFF76F4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36AC-57C7-4FB0-AAD0-7D9C67C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2E87-EA71-4BF3-9D4D-3FDFD54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D3E8-90BC-4429-B52E-BBE3C6AE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5309-6728-4C05-A26C-75D1B50D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2D8C0-890C-4A50-A4D7-3BC7E4A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E34D-C1E9-478F-A03B-E6BD1F1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1818-EDB6-496B-9A30-25555A4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7955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57955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620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401-3C1E-44B5-A9C3-83C46EF97FD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C4C4-2DB4-4C86-A24C-B311B2078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62F-71D7-4058-9C2B-AE264A1CC53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D4FB-B7C3-4C4F-AC98-B5E08FAA9F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6D5A-2BD3-4E39-8A19-B6037EDF60E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FC2A-9EB6-4F8A-A298-AA131FAB72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84D-DA14-4A1F-8797-CD47EEC142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75F2-DDE5-4C5E-84AA-92B2EFD75A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8FC2-1E91-43C9-A70B-4841181F75C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A70-D115-4814-A527-1C233DAE47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135B-70C6-41B5-8909-87ED70A301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7CFF-B36E-41E6-BA9F-03004938FF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7955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57955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2620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E6F-F675-4F69-9F91-FB85BD0175F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4F5-E244-49A1-9E34-CD9D2AE8CC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E85-8DBB-4B14-BFA3-FF2CC7142F6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307-80F3-4430-959C-0A9F2687F6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A7C3-BC46-4DA1-B2EE-CCB418BEFE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9246-428B-4A27-8060-336798956B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DAA-2A5D-4A76-8930-A5FA7A430C3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45B-9283-404F-A866-42672300C5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221-B358-476B-92B0-7353B57B334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9DE-5FF9-44F2-BC14-3FDF2223E4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FE03-03CD-468C-8259-167DE8FBF72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6EA2-9766-4A89-BA6B-C25195FB8E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933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781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400" y="12949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574" name=""/>
          <p:cNvSpPr/>
          <p:nvPr/>
        </p:nvSpPr>
        <p:spPr>
          <a:xfrm>
            <a:off x="76320" y="64771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89a38a"/>
                </a:solidFill>
                <a:uFillTx/>
                <a:latin typeface="Arial"/>
                <a:hlinkClick r:id="rId2"/>
              </a:rPr>
              <a:t>PPT模板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a</cp:lastModifiedBy>
  <dcterms:modified xsi:type="dcterms:W3CDTF">2015-01-14T06:03:46Z</dcterms:modified>
  <cp:revision>126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