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5D0-12CF-4CF7-B2A5-AF0696AB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E5F-A402-4D1D-BF76-E72D0FC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A280F-8174-403A-A2CF-37094F30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8A284-71C1-4142-B116-F581B924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E93EC-D01A-4707-8D4F-E8E169F9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5FF21-8038-4268-BACF-F6E5FD3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576B7-EAC1-48FA-80ED-421A9B8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3065C-1A1C-485F-904C-CA25A888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5CC38-7FF1-4E64-8245-3CC73823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E4F85-D4B9-4B8B-B651-DFA33180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E94C-3300-4AE8-AF0E-0C3A4FA0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44B43-BEFF-44C3-9DEA-0A234D8E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F15-3992-43F3-8506-8F658D57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7D620-EA92-4F1A-847D-0B8F2A4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8EAC4-194D-43C8-8DD8-F263015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02FE1-6A2A-47B9-B663-A7FF129B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2525C-6017-4B96-AF4B-1B1241E3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F7FAD-E339-4582-BD1A-F0886B8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13156-69AB-41EC-BB11-68B346F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03CC2-55CD-4463-88F5-A456FFB5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77A05-CD83-4137-903D-1ECB82D4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64294-9222-4FBB-A1B1-93D210C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02108-EE36-439A-A0AC-50BB2F7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490-7520-43C0-B8AD-62D92EAF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EE15-9805-43B5-BD54-82F5C0D0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3E15-F4E4-41E1-904F-DB7250B0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76A5F-78CF-4668-816C-1FBAE4A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DEB3C-C6C8-4BD8-BA84-81ED2DFA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50A11-B75E-48CB-8722-03E2555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12FF-18FD-43D3-ABAC-3581AF48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46870-96CE-4F2E-9971-FE7E6262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3EDB4-4D32-4953-8019-071A7031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DBAAF-B33A-49EC-B033-5E580C8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0598B-00F5-4AD7-B676-78DB8F7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0359-C955-4B60-8256-1F93DCE1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A86D1-642F-47E6-A4D3-C612179F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8B582-A473-47CE-9E71-9A335070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33C81-48FB-45AD-9164-3225AAA8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5AEBB-7756-451B-BC1B-57406780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3CA1B-340F-4C31-9B5E-3090F2F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0F461-5181-492B-A2F4-2F2D6A4E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D8B05-9DE3-481A-ADAB-F917217D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BA255-1CBB-4F98-8082-2206F04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EF803-6739-43B0-9374-694589C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8C5E9-01DA-4015-86AE-9DB0E31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9AF4-D79B-400D-BEB6-8C3FB322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67831-1395-4BA2-B2D3-FBD09DD7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D13C3-8E64-4638-BD44-81363CE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C61AC-7A68-4CCA-A64F-2CE4572A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CE1B6-F68C-4CEB-8663-4B9693C2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3A846-7CB8-4B57-97A1-B3440809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6650A-1905-44A5-B1FE-188D80C0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56811-B14A-4AC0-800D-05FCE5B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BC683-E096-4696-BFE8-2F78BE2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CA6B0-6AD2-4730-A45E-505D6E4B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33D21-2152-48EE-A37F-C11D868D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552B-BFF7-48EA-8050-EA653847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AF285-D524-4469-B406-221F34FB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0C036-DCE3-4581-B497-99AF3C1A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3A1D6-99C8-4B12-8E8F-1E7845A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3842-CE9D-4914-8A86-28BA0B92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C6E80-1A59-4D39-B519-0A49C25A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602B3-5916-430C-9D19-066D8425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536A5-EA46-4843-A9DD-E370095A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F2B50-8911-4974-922C-53A2CD4F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08FAE-5844-4815-BCB1-87043BC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046D5-4D04-44B5-97EA-B53FBBA4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9B5-8D78-479D-9049-5663DFEF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CB398-5621-4A2C-A7B9-7359ED73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B098B-CDAD-4728-A34F-F34AC8B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C417A-02A5-4EB7-87B5-0515672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E62B5-DF9C-4C6C-A584-C1D26C0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2447B-FB9E-4225-8E14-092473C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983C7-981F-4F23-83CB-DF786B7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12254-06FD-4D30-820A-A6BFDDA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F151A-7D1C-422D-B153-4A9AB906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3DC89-CAA7-4447-ADB9-CE9013D5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F28-5344-48B5-8B6F-C172855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8787-B68D-46B2-B9AF-9A25AE97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4A99-F3A3-4C61-8C94-0ED21D0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E10-936C-46D4-9698-C570E98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5CD-E3F3-4C84-869D-7A617C3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B425-9D17-4A6A-BE18-1DB8668D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0CE8-CDF4-4943-A0DC-A0E84DA2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B73-F2C9-4323-BB71-374AC9F3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B9B-CBB9-426C-AFAB-A6C84BAC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5551-43C4-45DA-8D3D-4FB6A6E7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0F61-4C54-4744-9BC5-E2A1312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12F7-8CB8-4D0A-AEE9-6185A3FE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DD4F-EC05-45BC-A95E-41BE434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D456-D53D-4522-87F4-5B1ED2C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174-237B-40E2-8793-7C7183D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CAA5-666E-4E47-B5B9-22528C5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7777-09DD-4474-AC6B-B2AFE7DA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9622-4013-4ED0-B0B2-7407F7D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1425-CB08-484B-8238-E97DE6A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39F1-A8ED-4CCB-8394-919E847E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6322-813E-426D-AFDC-F0E5B2F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B053C-125F-48D4-8B0A-B675EAAD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ADB9-1CA6-4215-B432-7821E998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EFE1-0E6C-44AE-97BD-8AEFB5C6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AACA-228A-4F3C-A61A-C55A25B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1A3-530C-40D3-8B2C-0152E013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0171-0F96-4D85-A356-894465D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FEDA0-E07D-42A3-A090-8A34504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6FE5-008B-403B-B97B-1CEB428D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BFA6-255D-4FB7-8BE5-9755A82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411C-17B5-40DA-9E61-9882F9D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0046-8E45-4CCF-8B77-52121580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A35C-87CE-4057-B247-8835A12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6FB8-133F-4CD8-8C6E-FB44A95D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2D75-9E0C-4A0B-8DEC-288BA5F7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1A3B-D1D4-4CF8-8A52-F135D620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756-847E-4551-8E71-EA544442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39B1-A257-4024-94AD-A9E0073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0FF2-EB82-4FF5-BA98-632AED8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6FB7-B5D9-46C8-A72E-DAE19B0C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6B28C-8255-4D27-88CA-9FC75E1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5425-45F8-4E14-A4DD-DDADFCF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0088-8AF4-4526-8862-A94C647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3AFA-27FE-492A-8E0C-91616EE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ABDF-8BB4-4F9E-B2AC-AA696F0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6743-89FD-4F62-AE4A-35A85E6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F5EB-BC1E-41EF-880A-06FCFCC7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576-AAB0-4561-AA51-804F44CB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877A-05CD-431A-B37F-F58F6E1F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0F2AA-B1BF-4010-9CD1-E3E4D1CB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80521-F27D-4FDC-ADF0-96458313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2F775-6452-464C-97F8-B9489837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3809F-444A-482A-BA23-89F7043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6675-3F65-401F-ABEA-52C06F3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CD29-142F-4165-8D54-8A12A0E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371B-E68B-4818-851C-DB53403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2410-568B-4C60-96E9-D782588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106B5-CC6A-44AF-AE5C-904AA490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B5D-EC6A-4DA8-92D3-0EBC504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0F48-0610-40D9-87D3-EAE8935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863B4-3AD6-404C-B6DC-8F87D278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DFCD0-4F0C-45D3-9FD9-C2034888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8EEB-BC81-482E-9E20-37941EDB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F2EC-603A-4516-A6CE-DC1A92DF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7B609-D3F9-4573-82EF-9407D7D9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AD596-8FA8-4E08-A48C-FEA0D1A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B0F7B-7161-46B9-96E2-A030ECE6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55AE0-C09C-4CFF-B660-269EE8A2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6BDFF-B210-44A1-97B8-5CAEF7F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82F-FE7B-44B0-A6F6-01B1167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ED1A-7F40-45BE-AD04-3DB47AF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2248-016D-4DC9-9C19-603990D3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7824-E763-488B-8C61-F57D827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4005-1538-4B8D-BF3B-BF278134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E09EF-ADA0-4316-A0E9-1A859568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A1D4-3421-4963-B685-BE3A32F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741F2-457A-46BD-B4BB-90BC205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E18E-0CB9-4449-98F5-6D8B1ED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6A899-8493-47FF-828A-71A72D6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9F372-3FAF-4C36-A2CE-C97EAF72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F64-AC73-4C77-8A2C-218756E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4941-2E56-4EAE-A642-DC89D1E1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1F8E-470A-47C5-8E51-86C6A96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6F85-4E92-476D-A5F3-87696C2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4AC3-43CC-4A22-841C-9AE060C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69E5-7633-4275-9837-76CE7DBB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BE1DC-834E-41AE-A586-16B6F94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77FED-E1A5-4654-B574-ED196A01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C5E5F-2660-422B-9121-91AD7C8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1E1B-D224-4FBA-8766-C727F37F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041B8-A1A4-4811-B9CF-8A52AEF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3FF5-ED49-40E3-B0A5-472CF356989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4AE9-D357-482E-9A65-89F3E10920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32A-F439-4517-8019-7A7C9B2C4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91B-6642-4B0D-AA0A-0C2E04955C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A88-C90C-4802-87BD-9C2A72A596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E52-147A-4BD6-AE3F-E5E79D71DB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8005-73CA-4993-9D2D-176FD52C93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828-1A30-459C-8BE7-95F5206F73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AA0-1CC9-44A4-9037-94FF40116F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572-C89F-4239-9523-CCDEE8A9CD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DC87-0861-4905-97EB-AD97636FC0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0EC-2BA1-4EBC-A02E-816CD3DFA9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D92-4D82-4FE9-9A50-8927934F42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1F1D-3C24-4D8D-8E1F-349DB753E4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B6FE-9206-49E8-A009-5ACAE8D8CE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3B98-6F21-44C0-BE69-1F70E3146C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211-4EA9-4D18-8FE4-2D6994A222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C5D-0F0F-4A31-9481-0FC7E57973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4DC-38DB-433F-9D32-B74B1A348F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1105-803D-495D-A8A9-D3D1F6985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504A-07F2-4C6A-9D30-E8C84C9442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CA6-1F08-4FBF-88A6-A45C8055D7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AF7-62D7-40C1-9440-9AFE42178F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CA9-E980-4C04-A044-E07DA14FAD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63F-4B0B-47B5-BCC4-BCC1BBE008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造字工房悦黑体验版细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5CE1-F040-44D2-9C61-8AC6BE4105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F:/4cbb49c36ff9d0365ae71500/40æ¬¾è¶åæé£æ ¼PNGå¾æ ç´ æ/PNG/lightbulb2.pnglightbulb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C:/Users/GuanYupeng/Desktop/080611_power_button.png080611_power_button"/>
          <p:cNvPicPr/>
          <p:nvPr/>
        </p:nvPicPr>
        <p:blipFill>
          <a:blip r:embed="rId3"/>
          <a:stretch/>
        </p:blipFill>
        <p:spPr>
          <a:xfrm>
            <a:off x="617400" y="620640"/>
            <a:ext cx="7956720" cy="5967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:/Users/GuanYupeng/Desktop/tubiao2.pngtubiao2"/>
          <p:cNvPicPr/>
          <p:nvPr/>
        </p:nvPicPr>
        <p:blipFill>
          <a:blip r:embed="rId4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F:/4cbb49c36ff9d0365ae71500/40æ¬¾è¶åæé£æ ¼PNGå¾æ ç´ æ/PNG/attachment2.pngattachment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C:/Users/GuanYupeng/Desktop/tubiao3.pngtubiao3"/>
          <p:cNvPicPr/>
          <p:nvPr/>
        </p:nvPicPr>
        <p:blipFill>
          <a:blip r:embed="rId3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目录"/>
          <p:cNvPicPr/>
          <p:nvPr/>
        </p:nvPicPr>
        <p:blipFill>
          <a:blip r:embed="rId4"/>
          <a:stretch/>
        </p:blipFill>
        <p:spPr>
          <a:xfrm>
            <a:off x="324000" y="1260360"/>
            <a:ext cx="2714400" cy="38372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目录 列表"/>
          <p:cNvPicPr/>
          <p:nvPr/>
        </p:nvPicPr>
        <p:blipFill>
          <a:blip r:embed="rId5"/>
          <a:stretch/>
        </p:blipFill>
        <p:spPr>
          <a:xfrm>
            <a:off x="3276720" y="1773360"/>
            <a:ext cx="338436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过渡页"/>
          <p:cNvPicPr/>
          <p:nvPr/>
        </p:nvPicPr>
        <p:blipFill>
          <a:blip r:embed="rId2"/>
          <a:stretch/>
        </p:blipFill>
        <p:spPr>
          <a:xfrm>
            <a:off x="2411280" y="2349360"/>
            <a:ext cx="41785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F:/4cbb49c36ff9d0365ae71500/40æ¬¾è¶åæé£æ ¼PNGå¾æ ç´ æ/PNG/sunny2.pngsunny2"/>
          <p:cNvPicPr/>
          <p:nvPr/>
        </p:nvPicPr>
        <p:blipFill>
          <a:blip r:embed="rId2"/>
          <a:stretch/>
        </p:blipFill>
        <p:spPr>
          <a:xfrm>
            <a:off x="6948360" y="46544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/Users/GuanYupeng/Desktop/tubiao4.pngtubiao4"/>
          <p:cNvPicPr/>
          <p:nvPr/>
        </p:nvPicPr>
        <p:blipFill>
          <a:blip r:embed="rId3"/>
          <a:stretch/>
        </p:blipFill>
        <p:spPr>
          <a:xfrm>
            <a:off x="108000" y="260280"/>
            <a:ext cx="3527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C:/Users/GuanYupeng/Desktop/ppt/谢谢.png谢谢"/>
          <p:cNvPicPr/>
          <p:nvPr/>
        </p:nvPicPr>
        <p:blipFill>
          <a:blip r:embed="rId2"/>
          <a:stretch/>
        </p:blipFill>
        <p:spPr>
          <a:xfrm>
            <a:off x="2411280" y="2371680"/>
            <a:ext cx="4178520" cy="136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080611_power_button"/>
          <p:cNvPicPr/>
          <p:nvPr/>
        </p:nvPicPr>
        <p:blipFill>
          <a:blip r:embed="rId3"/>
          <a:stretch/>
        </p:blipFill>
        <p:spPr>
          <a:xfrm>
            <a:off x="6227640" y="5373720"/>
            <a:ext cx="292572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造字工房悦黑体验版细体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造字工房悦黑体验版细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41:30Z</dcterms:created>
  <dc:creator>sg</dc:creator>
  <dc:description/>
  <dc:language>en-US</dc:language>
  <cp:lastModifiedBy>a</cp:lastModifiedBy>
  <dcterms:modified xsi:type="dcterms:W3CDTF">2015-01-14T06:42:5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