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52A-095C-472F-AD7D-CC4791B7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B25-3C6B-469E-9B2C-5DC217D5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6FE8-01B2-4813-BC82-D1C27B7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BCC8-AE07-481D-A001-B3AC0D9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D413-DA1F-497A-9B90-7AA1B86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223B7-386F-4D51-A63C-BB93D253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7C48-2345-4EEF-92B4-9652D1C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3D26-4D49-48C7-A7B4-C6A9FED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7094E-7117-4751-AD50-6D264F84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BF8A-9EF1-41E9-BC3D-1C64418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C03FB-4457-4EC3-BEF9-6B8AE04D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E5B93-194B-430B-BA10-5479C1D0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873-96E1-41C7-AE75-10B085BC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CB64-1B55-4919-A327-E3F27B3F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60FF1-56C2-4A9D-81D2-29629246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CE2A9-2828-463D-8C83-F520EE6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3BF3F-FB1C-40E6-9C05-D52FB6C0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38A2B-AE67-4DA0-9766-7C8EB66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193A2-19B7-4293-B3E4-1A26A0B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9DEC3-373B-4D42-99CE-A7E9E37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6A1F0-B705-40A4-B1B0-FDA17C6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0908-B0BA-482C-B170-5FBA02D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06400-1387-4B26-A1D8-078193C7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2CA-FD6B-4B6B-BBEC-10B4E284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05ACC-6F79-464C-B75D-213D9BE4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C2B51-7B3F-4418-8091-7943B48B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128F-56C4-4F2F-A56B-EFDCF44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3468C-2868-4D86-92C6-B23C64A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97649-826F-47BD-A4B2-42CCC860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E8D98-B361-4116-9C4F-2770ADA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E4D0-88DC-452E-BBB6-B9BE56A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8290-C374-4874-B3E4-71B4C82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F58A-7C4E-43CE-A321-28829A2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65C6E-25C9-48BD-97E8-63E602A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FB64-EC72-453B-81EA-9EE53B0E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DA8DC-EA0A-4FD7-B46D-44D467C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B54C-3FB4-4322-B6AE-968AEE28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014F-111E-4E56-ACFC-D28B3217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30469-FAC9-4110-AF4E-8B63FF05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C722E-FB34-40E3-8968-7442544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E470-4EDB-4204-9FB6-B6C38705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DB292-8745-4825-8C81-17430C27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D7021-6751-4753-88D2-B308DBD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3F367-C825-4B5A-AEC4-5BF00AF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F5C0D-8781-4149-84CB-D08697F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F76A-B87D-465D-916B-6E61798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A2A5B-EA57-451E-88DD-AA6EDD8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A34C8-951E-4034-8E9E-4A378E4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D366B-0884-48F9-825C-7F79C21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6EEE-0704-437A-9AAB-A5427F3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1F382-66A7-4BBC-8712-F975F44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16669-EF0C-468E-95B7-9568396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0820E-BE4E-4ADB-B60B-D8EF16A5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F0426-A556-4A50-9F25-2C010079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4FE94-3220-4867-A05F-5C1DEFE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6F692-2666-4B76-99C2-9CD7F3B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5DD-4A94-4FED-8D8A-EBCC2DBD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EC9C8-373A-4271-8350-2CFB558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AD73D-8BBD-4444-9F25-5228322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AAE7F-E20C-4687-BEE6-4767E65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5B15F-AC67-48E5-A988-FB97CC5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877B3-257F-47B4-94B0-1254199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F6E9B-697D-4F5A-8A2E-30F03B91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2C17E-906C-4A41-8F40-860D5174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A3E39-B3BA-44C4-B078-33510611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4FDB8-3B7A-4EB2-B24D-1A852DC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3FD0B-E4C8-4758-B6B7-D44D8D2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CF6-202E-4D02-8697-7F1BFFB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3636C-A3C3-449A-922D-E33ADB3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52D99-06A9-4ADA-8381-667AB799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401A3-3AD8-4DA0-84D0-CF102BB5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5DA6D-2667-489E-8D35-2A96CD6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B7BE3-726D-4A01-B842-24670D8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3CA5F-E895-497E-BE5D-D662BED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688BB-32DA-4A29-AEA0-F013942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C23FF-8810-407E-84E8-9A9B9AA8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FB72C-0854-4949-9445-40BF661C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640-521B-4305-BB74-53AF24D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1F8-34CE-4984-8ECE-26E00117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EAEA-A2AF-42AE-92BC-BACDF3C4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FA5-DDE5-461D-9228-6CFEB0F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FAFA-C321-424F-A43F-E5FAB87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13B-BBBD-4890-A973-98DCA13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9DF1-64E4-49C4-B541-EC03D5E3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EFA-665E-404E-B49D-A79BA91F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45E3-CD18-4B52-B775-15A2B42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D1C6-C1B1-4ACD-AAA8-69B3DD9F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7946-6640-4B0A-BA6D-160DB5F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684D-9C2C-4714-993D-257F67A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BCF5-2631-4549-85BA-C242EC7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AF0B-5E26-4477-99DC-8ADDE42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F56-BD7E-4972-B8B4-3B2E5230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53A8-AAE6-4B44-806F-D615AE7E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F80D-FF30-4F20-98E6-311D18CD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2D2D-076B-41CC-B1A0-B1F777C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AA4B-064B-4433-B179-4C22B99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BDD6-696D-40A3-85F1-72C2F16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5ABC-5C23-4F4F-8B48-FA2A67E2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AC5D-EE15-4CA7-B436-1D073159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3752-A43D-4A13-AE0E-0F9392D6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2790-82DA-47FF-A723-8D933CBF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995D-8D35-4BBF-8CEF-43B6D04E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20C-A342-4049-B8F5-3C8D87AE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2E0B-638E-49DC-9EDB-D6F8E8F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96FF-4591-4A0A-A417-07B81D43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E09D-B613-465A-92A8-136F81A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0862-C897-406B-A5D8-D2F7824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E9BA-344B-4EFD-B857-94E5D3D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0993-67CC-4B5D-8511-E20F172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AF4A-2492-4D64-B7B1-AD1EA660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58B0-CCFF-4E3F-94B3-ABA12DF0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C3CD-1A08-4C9B-9A0F-E4B196DD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AD30-6CF5-43FA-B996-AF287269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214-3F7A-4FC0-B273-1DEAA3A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0BAC9-B246-49C8-8472-CB863B84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D5DA-0892-41CC-BFD4-71D5AE02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C597-566A-4E84-8094-49686D2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17719-8B2B-42FE-825E-F64C428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D9C4-BD7E-4073-89CB-D9C8BAC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A191-9C58-4AA9-BE8C-F9B5ED3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E145-0777-4D2C-8C17-3289681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EB38-A8B7-45CE-A7FD-B6756C9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2A54-5BCD-4B9F-93B3-4E61FFC9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A756-E038-4E19-BE83-DDD23868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84C-7272-44AC-970A-404E2DC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EF66-2297-456E-832A-EA0ABB4F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A0A7-FEE8-4220-BF51-1C3367A7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1C5F-82A2-4CD3-9092-4D95A5DB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47BB-C589-4ABD-9D28-B841A0FB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62B30-5BA0-4126-80DD-D9358BA8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06D6-B04C-402D-9EE7-3197FD9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99D7E-C313-4FAE-83A2-658F1C9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215C-4BB8-4A66-A8FE-0B5FF50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118D-C1E3-4287-AE21-F4DB18F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E61F-7C64-4C3B-9F53-99FE647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BCC-CA7B-4829-9AC9-4E03E9F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2800-56EC-4FF3-92D7-69FC1795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9751-EDC1-43BB-AA65-03B45E6A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9CF8-3F6B-48F0-876B-C8C7C64A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ECB6-905F-465A-9497-BBAA5D7F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E8D66-7203-4529-8A6F-939531C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6648-C4EC-4629-88DA-FA847C3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E423-F430-4870-BA24-A775D2B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5523-FD56-429B-BBD8-604412D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D42D-43BE-4C07-8BBE-B93750FF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3205A-4CC2-4EAD-ACF2-0C52210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FA1-A895-4D05-8645-39B062F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8686-07D8-48C0-B784-DA8F1B6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9D84-E28E-4D64-8AE7-6DD238F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40F6-62E2-4919-8827-A3773F32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1D6F-0D28-4591-9059-64801AC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ED2C-FD48-4BD6-B7C5-D8342896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916AA-CCCB-41AF-9F07-39D344C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52FC-B2F5-401C-8234-58FE36E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F454-521C-4F44-9940-A9EA770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5062C-DCE5-4E3F-A387-618957B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4CB8-9365-4254-AB1E-AF95AB4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DE1-35EF-416A-A977-659EE0F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FCCD-5F2F-425C-91D4-DE681B4D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83BE-EE8B-4677-9C81-862FC72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D1CD-685D-4586-9989-E89AC1D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398F-1493-4212-B88B-B852DD6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09E51-961F-43E2-8604-FCD7881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5911-53D3-43E0-8FE0-92414B6E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D461-C569-425F-AE63-2BB4C61B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FCF8E-E9A5-4C03-8B18-1E308F8E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20809-E2AF-4ABC-B50D-8E0EF10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00AC-431F-4F50-B79A-AB69798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340-A62C-4CE2-8A1C-D596A0891BF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EC40-8380-4748-8DBF-C99079633D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9FEB-7803-421D-834D-D2B8E1DDF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6BD-3E82-4DB3-B89D-BA8C83E156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ED4-EE65-45D2-B40F-A1ABC7791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E244-A301-42E6-BC1E-2BE3AC3FAE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8F3-5BAB-4EC8-8F0A-FA7021EF91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97C1-75F6-4672-A1F9-126CB97106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537-7C5E-425F-B90F-5AF561B2F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0859-9096-47A6-B479-89F76BC7AA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99D-B586-4DED-854A-3FAAA73BF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0054-45E4-454D-A9EA-3D77898BE2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CB0-F93A-4594-BF51-6E3099BA0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4CF-3ED4-422E-BB2D-973A7AA4D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91F-6A50-4FC6-ACCF-859A936D89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739-1AAC-4061-9325-BDC7AC63CC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A5C-0B8A-4BDE-87BE-539F1EBF17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773-15EF-4616-8ECF-F424E1E24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48CB-7424-4940-871D-566D601693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627-8736-43FC-B687-7F3E7E489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D4F-D710-440A-A8C4-9BC8654ED3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4360-6287-418D-83D9-315AC465B0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8256-E16E-4670-87E3-003CEE11D5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D0A-0238-49FE-8F8B-E6BA631A3A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274-E3B9-456D-95AE-064195C974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708-9251-44B3-A644-DA0248D36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WPS"/>
          <p:cNvPicPr/>
          <p:nvPr/>
        </p:nvPicPr>
        <p:blipFill>
          <a:blip r:embed="rId1"/>
          <a:stretch/>
        </p:blipFill>
        <p:spPr>
          <a:xfrm>
            <a:off x="971640" y="1341360"/>
            <a:ext cx="7092720" cy="3692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WPS1"/>
          <p:cNvPicPr/>
          <p:nvPr/>
        </p:nvPicPr>
        <p:blipFill>
          <a:blip r:embed="rId2"/>
          <a:stretch/>
        </p:blipFill>
        <p:spPr>
          <a:xfrm>
            <a:off x="1116000" y="3860640"/>
            <a:ext cx="7523280" cy="2899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3132000" y="620640"/>
            <a:ext cx="3313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Adobe 宋体 Std L"/>
              </a:rPr>
              <a:t>回家的路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WPS2"/>
          <p:cNvPicPr/>
          <p:nvPr/>
        </p:nvPicPr>
        <p:blipFill>
          <a:blip r:embed="rId1"/>
          <a:srcRect l="15163" t="11597" r="31634" b="12738"/>
          <a:stretch/>
        </p:blipFill>
        <p:spPr>
          <a:xfrm>
            <a:off x="38160" y="1440"/>
            <a:ext cx="1800000" cy="6872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WPS"/>
          <p:cNvPicPr/>
          <p:nvPr/>
        </p:nvPicPr>
        <p:blipFill>
          <a:blip r:embed="rId2"/>
          <a:srcRect l="4680" t="0" r="1928" b="12692"/>
          <a:stretch/>
        </p:blipFill>
        <p:spPr>
          <a:xfrm>
            <a:off x="5292720" y="4869000"/>
            <a:ext cx="3753000" cy="1827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2122920" y="40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WPS3"/>
          <p:cNvPicPr/>
          <p:nvPr/>
        </p:nvPicPr>
        <p:blipFill>
          <a:blip r:embed="rId1"/>
          <a:srcRect l="34610" t="60244" r="10491" b="13076"/>
          <a:stretch/>
        </p:blipFill>
        <p:spPr>
          <a:xfrm>
            <a:off x="1476360" y="3960720"/>
            <a:ext cx="6335640" cy="2865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WPS3"/>
          <p:cNvPicPr/>
          <p:nvPr/>
        </p:nvPicPr>
        <p:blipFill>
          <a:blip r:embed="rId2"/>
          <a:srcRect l="20585" t="20112" r="63085" b="60929"/>
          <a:stretch/>
        </p:blipFill>
        <p:spPr>
          <a:xfrm>
            <a:off x="55440" y="52560"/>
            <a:ext cx="21402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WPS2"/>
          <p:cNvPicPr/>
          <p:nvPr/>
        </p:nvPicPr>
        <p:blipFill>
          <a:blip r:embed="rId1"/>
          <a:srcRect l="15163" t="11597" r="31634" b="12738"/>
          <a:stretch/>
        </p:blipFill>
        <p:spPr>
          <a:xfrm>
            <a:off x="38160" y="1440"/>
            <a:ext cx="1800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WPS3"/>
          <p:cNvPicPr/>
          <p:nvPr/>
        </p:nvPicPr>
        <p:blipFill>
          <a:blip r:embed="rId1"/>
          <a:srcRect l="52025" t="16761" r="24325" b="50464"/>
          <a:stretch/>
        </p:blipFill>
        <p:spPr>
          <a:xfrm>
            <a:off x="6135840" y="2924280"/>
            <a:ext cx="2916000" cy="37605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3278160" y="1004760"/>
            <a:ext cx="10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谢谢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286160" y="2492280"/>
            <a:ext cx="114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观赏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36:53Z</dcterms:modified>
  <cp:revision>1</cp:revision>
  <dc:subject/>
  <dc:title>PowerPoint 演示文稿</dc:title>
</cp:coreProperties>
</file>