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BD86-F999-4267-996E-AC87B34A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1662-B0DC-4262-98E6-C3A4E0D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D449F-5EC8-4EE5-9E74-F1EE4B2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580D-1D6E-4085-A6FC-3B8604F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4B30-737C-4ED1-91B9-494992D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7336B-0CC5-4919-BDE1-4FE63DE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17AAB-6E83-47D0-AE4E-599ED38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5EA60-0FA4-4D1C-AA75-9BD1591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18AF5-F8E2-44E9-9D3C-6B03958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5AA9B-7F58-4AD0-829F-AD2CECD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8C86-E192-4C09-A3A8-C766FDE7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4BACF-3EFC-4917-8264-6B66FBA9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21AA-FCA8-440B-8D0A-E5679F24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3DD59-71A6-4711-B0E7-E5DDDDB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4DA6C-E914-42B6-8E6C-31EE5237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8930E-E7E8-4956-B567-A2A4EB2D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52296-6561-4959-8A10-C1D4AB2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7FBB-0DD5-4FE4-A3EB-BDE33FAD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B2900-4F37-454F-A076-F64DAD8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5355-0974-41BA-A7E7-6397A18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1EDB4-C799-4CD9-9BFF-FCACBA4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FF42-94CA-4112-B069-40526138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F0835-A461-4C0F-8759-F5B25C7C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9140-BD42-4264-93E2-7C1FA8B1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14A8C-812D-449F-92D0-75FF1D0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6D01-BDAB-4749-B3FC-425227A3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53055-07D0-437F-B2E2-19417BA7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86D9-872B-4743-8A69-58CF092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2B2AF-7BEB-4A30-A3A9-00401017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F233D-88E3-49A6-AC00-C58713B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33D4B-4788-475A-AE7A-73CB259C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02B1F-3B17-4734-B592-0971D4C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DD11-D834-4933-84A8-A2B0F06B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B1F56-A447-4094-9D4A-947045F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0654-5B8E-4600-8AF7-A448A73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D0176-D49F-4DD3-80BB-33D846EA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7DA0C-B8E9-44EE-91A2-23613183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B2A9C-F855-4E72-A6E1-86900F8F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BE5A7-2A03-490E-90AE-7C0DC65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B83E9-3069-4B7D-BA30-B805AA0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7526D-DD8B-463A-A503-715325D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B4CEA-9CBB-4DA3-9F5A-0948E4D3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2B32-073D-4CEA-BB18-ACE4503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D2C94-01D5-4B6D-B108-701D5B21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D074-C54F-4087-8688-C4C0176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E25E-275B-44FF-8087-4BD745DD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060E-1A8A-4417-A38B-0A970F1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C38C6-3DEE-423C-945A-741C6A8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F9713-A8D4-4987-9ECD-AEFAF5C6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2B5B9-5116-40CB-88CA-DE5C826E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2EB42-8719-494D-8310-DE87FF3C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5B986-DBC1-4037-A20C-C05940B7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570C0-D5C7-4EE7-943A-6E99DBBB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1386E-5107-4688-9F49-F7F7D7C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6F116-BBE2-4153-9115-8B27221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5886D-698D-49CF-BC8E-F4B04E7A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1D93-88A1-461C-96A9-2856F96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41136-B851-457E-AA45-AB71BB6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623B0-1696-4EA6-BAB9-FBC4FFCC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39EF3-9799-4B16-9F35-AB0D673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2F9DA-941E-4101-918E-11CF010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6035F-2CAB-4567-B1DE-8791523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3727F-45C4-4A67-B094-A4B0FF1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F2C97-3A86-475E-8EB4-D3B87A8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CB0B6-4728-453E-A4DB-B18F2C3C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7B93B-8BC3-4F42-B34F-757C2250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1D3EE-20A9-47E9-86E5-2D1A003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FD1C-A943-46A0-80DE-A3792214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BEE47-43D8-407C-9713-DB0891BD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BEFF0-3C02-4771-B760-21C4895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E542E-EF0E-434C-BDBC-2AC8A655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98DC5-05A5-40D4-B8EF-E9D56C8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A0868-36F5-4DB1-8567-1CC8C27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3FC0E-4F5C-4340-B58D-A1DE4C1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9C09A-40AC-4007-92FF-54824A10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E112C-7917-4A44-875C-54348E4D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82C1E-B95D-49CE-8278-0C1A2BE5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AEEAE-43C0-4F61-B352-0FCCDB1C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CB6F-E8D9-4FCF-AB2F-FF02440F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03E69-B357-4C73-ADF5-CB8E3123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05AC2-D99D-4451-B432-18717B0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05168-0025-4E41-94EC-38EE98F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24750-44D9-48FE-8F03-C7CE7CEA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CDAFC-691B-401F-8B60-CA625881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BFEC4-65EC-4AED-93DB-2488B54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D3BDE-00D8-4CBC-93BE-BC20F48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EA2EA-4EAD-4CD3-8ADA-16723AE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DE88B-4ADC-40C6-8507-CC369DB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2F474-1027-4FE5-B8E6-4F2D5ADF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0FC-2D90-4C48-B8DA-3E119A63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E622D-EEB8-4CCF-BB06-5EFC111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6875-0A0C-466B-A303-392A6D2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625A-DFE0-47A2-A0C8-39738F40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2D8-2030-467F-9399-16496E8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1CD4-850E-43E9-9DCF-862CF9B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3001-8450-41AD-9054-365E14B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21C8-CDCC-4DBC-B148-6533966F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DE3-7C5D-4BB2-B761-ED225E81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E106-697D-427B-90C5-95FC673B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7BED-D2DF-4B85-A73D-ACB5A60E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EDBE-8573-4584-AE04-CA51AC0D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ECBB-8E4A-435C-98B5-50226F91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7233-5F13-496F-A453-AFE671F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8DE8-CF5C-4D64-8F3F-A448544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9FF4-4ECF-4D96-86CD-AF4B4013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206D-6F09-46A3-BCF7-4EF2C68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6C7C-DA41-468F-9859-AF6A5AB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A467-B3A5-48D6-91B4-B96F6CA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9F9B-AEA3-451C-9F57-255E73BC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F813-1191-4CED-B91C-BCA76D61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F823-D2BB-46A8-A67A-8101C5AD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FED8-6B56-40A8-8538-F70EF507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2EE9-E2D5-481C-BCD4-FE0D8CE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5A8C-89D2-41C2-A3B3-2F43212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BD7C-2212-4A0F-B75C-A36C05FE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64C3-C800-4022-B112-CC2AEA4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A016-4F63-4FBC-9BE7-22A4953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F5A9-79A1-4202-A4A4-12E46BB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F601-2B83-4426-9BF3-8090BC5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0AB6-D7F1-4D26-B752-40C756F5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ED93-0777-48AA-B43C-6E7DC9E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42A2-5E47-4E91-BFE8-673CD3D8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DF15-56C1-4E20-8A2E-F9CD3CFF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5070-2106-487A-B190-5329E337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40CF-5C5D-479D-8FFE-27CF6DAB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2E21-91F9-4A40-ABC9-73E2C27A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EE13-F185-4E7B-8044-03FB7B4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E9F3-A169-4B6E-9C90-D555AFA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431B-6B0C-4682-8D61-9E4D3B5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E65D-E3F5-45ED-9674-3D7CEDEF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BA8A-1605-4707-86BA-88277F6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E07E0-FECD-4416-BD9E-E570BB8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D099-82EA-4262-B4B1-75C4969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9B2A-37AE-46DA-B849-76C832E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C1D5-ABED-4B1A-894C-0473197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41C7-A761-4AF4-AFAA-E9236AAA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1788-CFD5-4BC3-8022-45661C2D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6904-4686-4990-913C-E1FB327E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CEBD-D8AF-48FD-A278-ED9696C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75EC-21B7-4FD0-B5B4-9B6905A7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B2B0-ADCB-4D57-BC89-B0B5502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4C83-1C89-43AA-9FAD-2E6B29B6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F2F7-87DC-46FE-AF9B-0210D1D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5F42-1A64-4A04-8E32-333C9C8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AE88-DC0C-447C-96EF-DB33832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6492-7ECA-4A2E-85B4-ACBF05D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15F9-E557-4B18-869E-0C5FB1E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0C6C-7A51-414D-8E35-559747F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4422-51B7-4DED-A1C2-5EFC757D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F1DAA-8144-4B3F-8A3F-A0EA26B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0B17-C053-44B6-AEDC-3F5026B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6BF2-7A51-4E93-965F-EC33E085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33C9-D656-4005-B279-243EC709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97DC-853E-4A41-AA9B-52EAB61F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8A69B-CFE8-4104-8362-467126A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47EA-C2AB-48ED-859B-4398532F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C318-5471-419A-8648-11AC0D1A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BFD5-5B35-41B4-B159-F363802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81C0-A40D-4300-8BF0-F9E0721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F129-CD5A-4B2B-9DA3-A4C5BFB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B61B-D53A-4A5C-953F-4A45CC4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E4657-57C5-482A-A854-61E1D486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A4BB-3786-4B65-9F6A-D5D99A6E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7B25-C50F-4623-B2AA-27BC696F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D63B-CF61-47E6-8B60-5EB6D154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D3397-688F-43BF-8080-5057908E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11F15-9D55-4680-BF23-33600F3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DC36-6D32-41A8-A63E-DEDA078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9789-3F2A-40C8-A815-D8436F0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A72D-85D9-49BB-81D5-FB6BCB5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2EB0-7DA5-4E32-9506-58D9D4E8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0312-DC22-4629-A8CA-1A17BBD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25D1-0E7C-4169-9AA2-7E8651E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825C-0D45-4629-BB58-AEE41C5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0EC08-E78D-43BC-A622-6AC4975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5A1B-FE58-4B5E-B58B-1CF4C8FF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A4EB-985C-4ADE-899A-529CB11D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A29E9-4EB9-40CA-83B4-7D810D8C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2582-D824-43F3-9F8B-A7B33C4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5B21-77CE-45A1-8706-B25A61F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542-58BC-4702-A068-050B14C53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8BA-C6FE-47A2-89A9-62E995515E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18EE-44E8-4E14-9089-15361AB3B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2A1E-AF7A-45CF-A646-1ED82B79EC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E268-1383-4D13-8C02-C69A7D5A81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823-32F1-47F9-8113-8C78BA4252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6E4-BE98-45D5-BB4D-6C68A35FF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667C-10C3-487B-97D0-925D526D29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57F-B24D-4179-8B42-26DE82F69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A67C-C9F0-4C10-BB2D-64DFAFBDAE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20E1-FF34-4AC6-81C7-524817304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5CCB-970D-4FBE-8700-DB0D01209F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FD26-9758-481C-8EBE-A5FBC9060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3D7E-E253-49A9-B4D7-609A9DD17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D6D8-7D64-4A9A-BBEE-CC8E559F7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23A-C0DC-45AF-80D5-C052C8D00F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86A2-B7CF-426B-B513-674DA1F01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A79A-9639-40C1-BB0C-16655276A6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374-5C49-4F75-A502-295E2B6A5D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0B0-D52B-4B88-ADE9-7F4C7B903F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761-7FC5-4CA9-81B3-66C43A106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8280-868E-43C3-B16F-9556EA978E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01B1-8DA6-4557-8E8F-9425285C8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DE4-2DEE-4538-BB45-5C67475892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B8F-D15F-4E97-A7CB-10F8DB935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BF71-71FD-4AB3-8CE3-EDADB38C41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709A-8AA0-44CF-BDFD-FB72FB8CB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5638680" y="2341440"/>
            <a:ext cx="3505320" cy="4516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吴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珠海理工学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43" name="Picture 3" descr="unit2_c"/>
          <p:cNvPicPr/>
          <p:nvPr/>
        </p:nvPicPr>
        <p:blipFill>
          <a:blip r:embed="rId1"/>
          <a:stretch/>
        </p:blipFill>
        <p:spPr>
          <a:xfrm>
            <a:off x="0" y="2341440"/>
            <a:ext cx="5802480" cy="449604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18892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6"/>
          <p:cNvSpPr/>
          <p:nvPr/>
        </p:nvSpPr>
        <p:spPr>
          <a:xfrm>
            <a:off x="380880" y="60948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资产负债表填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以下报表中反映企业经营成果的会计要素是（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）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收入、费用和利润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B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资产、负债和所有者权益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收入、资产和负债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D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资产、负债和利润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9" name="文本框 2"/>
          <p:cNvSpPr/>
          <p:nvPr/>
        </p:nvSpPr>
        <p:spPr>
          <a:xfrm>
            <a:off x="1143000" y="15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二、编制基本方法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文本框 6"/>
          <p:cNvSpPr/>
          <p:nvPr/>
        </p:nvSpPr>
        <p:spPr>
          <a:xfrm>
            <a:off x="609480" y="2063880"/>
            <a:ext cx="830592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几个总账账户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总账所属的明细账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总账和明细账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资产类账户与其备抵账户抵消后的净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直接填列，看总账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除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个特殊的以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几个总账，无科目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75960" y="16002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货币资金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库存现金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银行存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其他货币资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存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材料采购（在途物资）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原材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库存商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品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生产成本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周转材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委托加工物资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材料成本差异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发出商品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跌价准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】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多选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资产负债表中的“存货”项目直接根据（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　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）账户的期末余额合计数填列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材料采购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产成品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材料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制造费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文本框 1"/>
          <p:cNvSpPr/>
          <p:nvPr/>
        </p:nvSpPr>
        <p:spPr>
          <a:xfrm>
            <a:off x="2666880" y="1752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B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企业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1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日结账后的库存现金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银行存款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 00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其他货币资金”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 00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请问货币资金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AutoShape 3"/>
          <p:cNvSpPr/>
          <p:nvPr/>
        </p:nvSpPr>
        <p:spPr>
          <a:xfrm rot="10800000">
            <a:off x="609120" y="4343040"/>
            <a:ext cx="6705720" cy="1676520"/>
          </a:xfrm>
          <a:prstGeom prst="cloudCallout">
            <a:avLst>
              <a:gd name="adj1" fmla="val -9662"/>
              <a:gd name="adj2" fmla="val 754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Text Box 4"/>
          <p:cNvSpPr/>
          <p:nvPr/>
        </p:nvSpPr>
        <p:spPr>
          <a:xfrm>
            <a:off x="1295280" y="470844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10 000+4 000 000+1 000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5 010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直接填列，看总账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除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个特殊的以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只看明细，有四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坏账准备的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只看明细，有四个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文本框 2"/>
          <p:cNvSpPr/>
          <p:nvPr/>
        </p:nvSpPr>
        <p:spPr>
          <a:xfrm>
            <a:off x="838080" y="16765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4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应收账款总账科目余额为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50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 但其明细账有贷方余额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0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 预收账款明细账有借方余额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8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，则在资产负债表中，应收账款项目应列示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68 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。（    ）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文本框 2"/>
          <p:cNvSpPr/>
          <p:nvPr/>
        </p:nvSpPr>
        <p:spPr>
          <a:xfrm>
            <a:off x="6858000" y="3352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基本概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320840" y="2036880"/>
            <a:ext cx="11174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副标题 2"/>
          <p:cNvSpPr/>
          <p:nvPr/>
        </p:nvSpPr>
        <p:spPr>
          <a:xfrm>
            <a:off x="1295280" y="4883040"/>
            <a:ext cx="6400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资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负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所有者权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矩形 4"/>
          <p:cNvSpPr/>
          <p:nvPr/>
        </p:nvSpPr>
        <p:spPr>
          <a:xfrm>
            <a:off x="1314360" y="270504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反映企业某一特定日期财务状况的会计报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副标题 2"/>
          <p:cNvSpPr/>
          <p:nvPr/>
        </p:nvSpPr>
        <p:spPr>
          <a:xfrm>
            <a:off x="1314360" y="4049640"/>
            <a:ext cx="37339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编制原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4724280" y="3657600"/>
            <a:ext cx="3733920" cy="1143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876920" y="3962520"/>
            <a:ext cx="3429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aramond"/>
              </a:rPr>
              <a:t>报表的左边等于右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4" name="Picture 9" descr="奔跑 小朋友"/>
          <p:cNvPicPr/>
          <p:nvPr/>
        </p:nvPicPr>
        <p:blipFill>
          <a:blip r:embed="rId1"/>
          <a:stretch/>
        </p:blipFill>
        <p:spPr>
          <a:xfrm>
            <a:off x="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奔跑 小朋友"/>
          <p:cNvPicPr/>
          <p:nvPr/>
        </p:nvPicPr>
        <p:blipFill>
          <a:blip r:embed="rId2"/>
          <a:stretch/>
        </p:blipFill>
        <p:spPr>
          <a:xfrm>
            <a:off x="594360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奔跑 小朋友"/>
          <p:cNvPicPr/>
          <p:nvPr/>
        </p:nvPicPr>
        <p:blipFill>
          <a:blip r:embed="rId3"/>
          <a:stretch/>
        </p:blipFill>
        <p:spPr>
          <a:xfrm>
            <a:off x="396252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2" descr="奔跑 小朋友"/>
          <p:cNvPicPr/>
          <p:nvPr/>
        </p:nvPicPr>
        <p:blipFill>
          <a:blip r:embed="rId4"/>
          <a:stretch/>
        </p:blipFill>
        <p:spPr>
          <a:xfrm>
            <a:off x="1981080" y="6191280"/>
            <a:ext cx="2019600" cy="1333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奔跑 小朋友"/>
          <p:cNvPicPr/>
          <p:nvPr/>
        </p:nvPicPr>
        <p:blipFill>
          <a:blip r:embed="rId5"/>
          <a:stretch/>
        </p:blipFill>
        <p:spPr>
          <a:xfrm>
            <a:off x="7924680" y="6191280"/>
            <a:ext cx="2019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如果账户余额如下表：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295280" y="1371600"/>
          <a:ext cx="6858000" cy="3086280"/>
        </p:xfrm>
        <a:graphic>
          <a:graphicData uri="http://schemas.openxmlformats.org/drawingml/2006/table">
            <a:tbl>
              <a:tblPr/>
              <a:tblGrid>
                <a:gridCol w="1716120"/>
                <a:gridCol w="1712880"/>
                <a:gridCol w="1676520"/>
                <a:gridCol w="17524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账　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借方明细账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贷方明细账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坏账准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应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预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应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预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1" name="Text Box 35"/>
          <p:cNvSpPr/>
          <p:nvPr/>
        </p:nvSpPr>
        <p:spPr>
          <a:xfrm>
            <a:off x="457200" y="46623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e5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e5e5ff"/>
                </a:solidFill>
                <a:latin typeface="宋体"/>
              </a:rPr>
              <a:t>请问资产负债表应收账款、预付账款、应付账款、预收账款应怎么填列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微软雅黑"/>
                <a:ea typeface="微软雅黑"/>
              </a:rPr>
              <a:t>看了总账，看明细</a:t>
            </a:r>
            <a:br>
              <a:rPr sz="4800"/>
            </a:br>
            <a:r>
              <a:rPr b="1" lang="zh-CN" sz="4800" spc="-1" strike="noStrike">
                <a:solidFill>
                  <a:srgbClr val="e5e5ff"/>
                </a:solidFill>
                <a:latin typeface="微软雅黑"/>
                <a:ea typeface="微软雅黑"/>
              </a:rPr>
              <a:t>就用自己，减自己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24382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借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借款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明细账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内到期的长期借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待摊费用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待摊费用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明细账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内的长期待摊费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有备抵的，减备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53352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类账户总账余额之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生产成本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跌价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累计折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累计摊销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有备抵的，减备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文本框 1"/>
          <p:cNvSpPr/>
          <p:nvPr/>
        </p:nvSpPr>
        <p:spPr>
          <a:xfrm>
            <a:off x="457200" y="1676520"/>
            <a:ext cx="83059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6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】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多选题）资产负债表下列各项目中，应根据有关科目余额减去备抵科目余额后的净额填列的有（           ）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存货　　    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无形资产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应收账款　　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长期股权投资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文本框 2"/>
          <p:cNvSpPr/>
          <p:nvPr/>
        </p:nvSpPr>
        <p:spPr>
          <a:xfrm>
            <a:off x="6553080" y="3154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BC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原材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4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库存商品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为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6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，生产成本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，存货跌价准备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（贷方） ，则存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填列为多少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AutoShape 3"/>
          <p:cNvSpPr/>
          <p:nvPr/>
        </p:nvSpPr>
        <p:spPr>
          <a:xfrm>
            <a:off x="685800" y="3581280"/>
            <a:ext cx="7238880" cy="16765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1219320" y="38862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存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2 400 000+1 600 000+600 000-210 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4 390 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某企业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日“固定资产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0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，“累计折旧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，“固定资产减值准备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。该企业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日资产负债表“固定资产”的项目金额为（　）万元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6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7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.9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.1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7010280" y="3154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其他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未分配利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根据“本年利润”与“利润分配” 科目余额相加填列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负数用“一”号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关注借方与贷方余额。 借方表示负数，贷方表示正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练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月初有关账户余额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838080" y="2057400"/>
          <a:ext cx="7338960" cy="4525920"/>
        </p:xfrm>
        <a:graphic>
          <a:graphicData uri="http://schemas.openxmlformats.org/drawingml/2006/table">
            <a:tbl>
              <a:tblPr/>
              <a:tblGrid>
                <a:gridCol w="1847880"/>
                <a:gridCol w="1717560"/>
                <a:gridCol w="2055960"/>
                <a:gridCol w="17175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账户名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借方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账户名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贷方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库存现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累计折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银行存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交税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库存商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期借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固定资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实收资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期股权投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未分配利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月的业务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提取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块作备用金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采购商品一批。增值税专用发票上列示的价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增值税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货已入库，款未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销售商品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件，每件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成本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增值税税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%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款已收， 存入银行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从银行存款中归还短期借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和本月借款利息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收到其他单位所欠货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存入银行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基本概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流动资产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非流动资产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2" name="Picture 5" descr="思考2"/>
          <p:cNvPicPr/>
          <p:nvPr/>
        </p:nvPicPr>
        <p:blipFill>
          <a:blip r:embed="rId1"/>
          <a:stretch/>
        </p:blipFill>
        <p:spPr>
          <a:xfrm>
            <a:off x="5943600" y="19810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根据上述资料填列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月末的资产负债表报表项目的余额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货币资金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付账款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收账款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短期借款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存货（       ）元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交税费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流动资产合计（      ）元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负债合计（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固定资产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未分配利润（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长期股权（               ）元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所有者权益（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非流动资产合计（    ）元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负债及所有合计（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资产合计（  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151920" y="-22320"/>
            <a:ext cx="89154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货币资金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00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9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付账款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91 7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收账款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8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短期借款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10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存货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8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交税费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31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流动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9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负债合计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13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固定资产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416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未分配利润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长期股权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87  000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所有者权益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6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非流动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50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负债及所有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799 820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799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Garamond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5" name="Picture 3" descr="谢谢 动态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8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流动资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67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7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67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7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67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68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68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68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89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93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694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8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99" name="Text Box 38"/>
          <p:cNvSpPr/>
          <p:nvPr/>
        </p:nvSpPr>
        <p:spPr>
          <a:xfrm>
            <a:off x="409212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流动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Text Box 39"/>
          <p:cNvSpPr/>
          <p:nvPr/>
        </p:nvSpPr>
        <p:spPr>
          <a:xfrm>
            <a:off x="596376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短期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Text Box 40"/>
          <p:cNvSpPr/>
          <p:nvPr/>
        </p:nvSpPr>
        <p:spPr>
          <a:xfrm>
            <a:off x="223632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货币资金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Text Box 41"/>
          <p:cNvSpPr/>
          <p:nvPr/>
        </p:nvSpPr>
        <p:spPr>
          <a:xfrm>
            <a:off x="7016040" y="274320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票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账款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利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他应收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坏账准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Text Box 42"/>
          <p:cNvSpPr/>
          <p:nvPr/>
        </p:nvSpPr>
        <p:spPr>
          <a:xfrm>
            <a:off x="380880" y="3352680"/>
            <a:ext cx="21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年内到期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债券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Text Box 43"/>
          <p:cNvSpPr/>
          <p:nvPr/>
        </p:nvSpPr>
        <p:spPr>
          <a:xfrm>
            <a:off x="2236680" y="527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存    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Text Box 44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Text Box 45"/>
          <p:cNvSpPr/>
          <p:nvPr/>
        </p:nvSpPr>
        <p:spPr>
          <a:xfrm>
            <a:off x="5867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付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非流动资产主要包括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1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71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71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72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72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72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3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73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2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3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738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9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0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1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2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43" name="Text Box 38"/>
          <p:cNvSpPr/>
          <p:nvPr/>
        </p:nvSpPr>
        <p:spPr>
          <a:xfrm>
            <a:off x="400140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非流动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5963760" y="16876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固定资产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累计折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1991520" y="1687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应收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10676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建工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-297000" y="335268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持有到期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158508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待摊费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5867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无形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概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流动负债究竟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非流动负债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流动负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76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6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76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6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76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77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77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77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9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83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784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5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6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7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8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89" name="Text Box 38"/>
          <p:cNvSpPr/>
          <p:nvPr/>
        </p:nvSpPr>
        <p:spPr>
          <a:xfrm>
            <a:off x="409032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Text Box 39"/>
          <p:cNvSpPr/>
          <p:nvPr/>
        </p:nvSpPr>
        <p:spPr>
          <a:xfrm>
            <a:off x="6268680" y="137160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票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收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Text Box 40"/>
          <p:cNvSpPr/>
          <p:nvPr/>
        </p:nvSpPr>
        <p:spPr>
          <a:xfrm>
            <a:off x="223632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短期借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80880" y="3352680"/>
            <a:ext cx="21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年内到期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非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Text Box 42"/>
          <p:cNvSpPr/>
          <p:nvPr/>
        </p:nvSpPr>
        <p:spPr>
          <a:xfrm>
            <a:off x="1829520" y="5257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交税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他应付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Text Box 43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Text Box 44"/>
          <p:cNvSpPr/>
          <p:nvPr/>
        </p:nvSpPr>
        <p:spPr>
          <a:xfrm>
            <a:off x="5562720" y="5638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职工薪酬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Text Box 45"/>
          <p:cNvSpPr/>
          <p:nvPr/>
        </p:nvSpPr>
        <p:spPr>
          <a:xfrm>
            <a:off x="6705720" y="33526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利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股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非流动负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AutoShape 5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Oval 6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803" name="Oval 8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Oval 9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05" name="Group 10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806" name="Oval 11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Oval 12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08" name="Group 13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809" name="Oval 14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Oval 15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1" name="Oval 16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Oval 17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Oval 18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Oval 19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5" name="Group 20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816" name="Oval 21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Oval 22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Oval 23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Oval 24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Oval 25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1" name="Text Box 26"/>
          <p:cNvSpPr/>
          <p:nvPr/>
        </p:nvSpPr>
        <p:spPr>
          <a:xfrm>
            <a:off x="399960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非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Text Box 27"/>
          <p:cNvSpPr/>
          <p:nvPr/>
        </p:nvSpPr>
        <p:spPr>
          <a:xfrm>
            <a:off x="604008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借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Text Box 28"/>
          <p:cNvSpPr/>
          <p:nvPr/>
        </p:nvSpPr>
        <p:spPr>
          <a:xfrm>
            <a:off x="380880" y="335268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应付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Text Box 30"/>
          <p:cNvSpPr/>
          <p:nvPr/>
        </p:nvSpPr>
        <p:spPr>
          <a:xfrm>
            <a:off x="5867280" y="5105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债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以下报表中反映企业某一特定日期财务状况的是（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）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资产负债表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利润表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现金流量表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利润分配表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97180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11:05:26Z</dcterms:created>
  <dc:creator/>
  <dc:description/>
  <dc:language>en-US</dc:language>
  <cp:lastModifiedBy>a</cp:lastModifiedBy>
  <dcterms:modified xsi:type="dcterms:W3CDTF">2015-01-14T05:57:2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