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A50A-3181-4C07-A781-E6CD9574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7ADF-854A-452B-930A-4E616BFD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0E7AD-5BCC-427B-B1C4-7C2EA820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F3841-F5F8-41A7-8784-A3102687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7D74F-B9EA-464A-BFE7-6FD51280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86009-2777-4024-9009-077B76C0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DB9FB-C2EE-4DE0-A6B8-A60F3A1A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B5F0F-1100-4B0E-9A26-9FF5BAB7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9674C-7B9D-464B-9F99-2D5A589F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27B55-C064-4D6A-8062-91017322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B0DCF-ABE9-4D8E-82B4-A3B6C3F9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303C6-9285-479B-B792-67560AA4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CB01-53EE-46D3-88C7-BD7DB709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739D2-3ADC-4DC6-AFDA-EC4F0695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D2D8D-BF65-4D60-9C28-990B932D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00498-53D9-4FE4-8F4A-33031973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4DB8F-98F7-4531-804E-4D07334C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062E1-A89C-4009-B6AE-98C938D2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19157-69CA-4FA3-B9A8-B95DB6D0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63F11-9503-4941-9C26-74E1AD19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92D8C-712B-4372-857C-92F567CA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14773-ACB1-4DE4-A62B-B0895887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D8979-F9BE-4F6E-A935-25DDFD78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FCBA-6943-43F2-A503-3690FC9C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5D64E-ACFC-4813-B131-14C54AD3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74BD0-2450-4DFB-B267-EE02698B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535A1-7E54-43E3-AE38-2518D3A5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4DF15-7C25-4A2E-BDA3-1A60B01A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9010C-D741-4459-8334-47872CC7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037CB-D89A-4BF9-9565-D8490C57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2E49F-4716-4330-8C11-C5D22AFC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94696-F358-4E42-A16B-E31B842E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51260-7DE4-4135-82E4-CC2E4A1C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5B0B5-6E79-4CE8-B957-1E0A4B16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9F5C-88C1-4EA0-B56B-252CD244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4EB0E-2BEC-4BB5-BDE9-B5A86D9F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A4C02-0F7C-477C-8892-2BB32D58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9EC11-FE7C-4A35-B9BB-7CA69288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09090-0E0D-4179-9EFF-3F0B1040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20AAB-8254-46D9-9D4B-9AB6C9CF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BA3F9-0F82-401F-A07D-1D9B645F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3A39A-7C97-422B-939A-E44274B1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F4082-6352-498B-A155-B1BCB06B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A636E-37F7-46FE-9527-90BBD9D2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4915F-C663-4505-AAEE-EC8315A2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8D99-199C-4C6E-9AD8-A4AD700C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46EB0-D0EA-4661-A024-D5D35380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62C9D-77B0-46DC-B3DA-0A9FEDBB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F4A9B-F614-4AC4-A78A-05D0543E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F04C4-6598-4950-8D60-743395D6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A289D-D76E-4BCA-831E-008ED828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15EE5-9069-44F3-BF0B-208205DE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48BCD-29F4-45E0-8138-46F8D210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AF5575-5C40-484B-BDB1-36970BF6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81037-45B2-428C-B729-B23A797F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38C62-B3BD-4EF2-9143-C2D17A68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C7A4-456E-4311-B5C1-83C9D0BF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5CE395-7A8A-42CA-B45C-72C3D10D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F47F1-FDC4-4E92-A328-436924A3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01305-0BE9-4B56-92FA-B51203EB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8AC6C5-1CBA-4775-9F97-EF4E0C81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F043E8-444F-4202-BBBA-2461E875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62D69-7107-416D-B086-7BC60B1F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6EBF3-4145-40C0-AA10-FB91B385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0C8C-7433-4D76-AA04-88C25FD6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DD68-6D1F-4C0F-BB1F-2ABD4AC2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DBAC-0048-4669-81AC-DE9E8C3B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2CBB-8EB8-45F6-B9C6-328CF966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131-D713-446C-8E4A-7EB1715A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116F-1D8C-4C26-AA73-F32D2656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FE1C-CBC5-45F6-AEEB-EA050EF3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FF20-EC67-4493-B60B-7B9ACAEC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3064-9919-45F8-B6AD-44649766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73C8-F9EE-4953-90D4-BEC8C1C4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3F096-B2A6-4516-8536-2B5BEE6D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29CA2-B655-4671-BF1B-91443971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A336C-6F4F-4AC6-839B-D4CEC1FE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7AAB8-F136-415D-8B7C-DAF5A5FF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43AD3-1CCE-489F-A051-7A7D5754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8CBF-37D4-4430-B88D-7DB9EA50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321AE-AE68-4E83-968A-E059D3EE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A3CB2-7771-471B-AB34-C5F5563D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8356C-EAA8-49D9-932A-69F456D6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2E11E-3CEF-4ACA-86C6-8959EDFF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A4769-D54E-43E3-9107-3AC7F82D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33CD1-417D-44CD-8A6C-0B663FDC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15605-2187-41C8-9931-DB6653B1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039DC-E192-4615-A429-F3C46809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7FC20-EE14-4966-8052-01E9D286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42565-9936-40F5-80E0-F2D57647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7D4-BD0F-4045-8739-EAC0BD11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7EFB6-5BF7-44D7-966C-B1B1EA76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3C2C4-8E18-467E-8402-F0BD05C0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39515-4654-48BB-B959-C1810AFD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44BE2-7509-4D12-A29E-30D7C776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004BC-6162-4FE4-95C0-383BDE87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FF41A-3364-492D-89E9-57E21104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FA896-44E9-499D-BF5A-15C78288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39D49-EEBE-49E8-B9AA-D000727D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6EF5B-5BC1-4FBA-B7B9-C032C9C7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77432-7252-4C94-B6F3-83213957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B7ED-9A67-485E-B8CA-40140DDD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7F11D-3D39-45D9-BBFF-E1DB7669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03826-12F3-4D30-A940-9F8E6CFF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2F671-64B2-47FC-B62B-BA30AF98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629A7-702A-420E-92E7-D61D9364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E8439-CC87-4DD1-97B6-9D2D35BF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529D7-77BD-4486-A310-9A5752D5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9282A-3534-4A4F-9A90-F476BC0D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F801C-6623-490A-BA8D-272D748F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53FE3-D0D5-4758-A335-F8ABE111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78EEA-A92C-44C7-A46E-327F6490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852-22F9-4FA0-A2D0-8152EADD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BD444-B971-4139-AF93-0966902E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B1685-1CCB-4306-9C0A-86F05F74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502E4-7DB6-42C8-9774-D25F118C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B2C4C-EDF3-4583-93CB-ECA4C2FB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1AE50-F540-47FD-9F51-82F6F06B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5EF23-A200-4731-98CB-9D9C9D8D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D0567-88FD-4B1F-8C49-AFC2EA7A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DDC2A-6A8A-4107-9A31-4DF9F9DB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D37A5-C410-4E9E-88DF-5D8CFCC6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2492B-F0EE-46B3-83E7-3FD1105F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00D-5184-40EA-9372-DA05ABB9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336B7-9E10-45E7-A7AC-57F5D5BE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26540-00C2-4C61-9FA0-4F68EFA9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2FABD-8CD3-473B-A11D-A74ADBFF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8AF28-27D0-4D15-B825-47C0BC2B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94004-997C-406D-8EA8-F5925F2A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71FAD-373D-4299-B39A-B99F1A14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D84FF-BBEB-45F8-B59A-E8E1C1B6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59BD7-9572-4C78-B735-37433E75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9F131-CF7E-4B8A-AACA-77272656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877DA-64D1-46AE-804F-E421F002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A134-C41F-4A47-A386-56A49D8B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7BCEF-9BD0-4F42-88D4-D20376BE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B5CE4-BE33-4BF0-AE0F-FC5A206A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F5552-5BFD-47BC-9483-6CBFAD18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7613B-9845-457B-B45C-3F319C6D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41477-9120-4E97-A279-6C4DB47D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4054C-4FDA-4DA6-A1C1-855F5D9C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3E133-D603-47F1-95FE-13F825DC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23EB9-F1C8-468A-986E-A2675C15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F24D3-F272-45C6-BB28-A30D7517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29223-00A5-4196-9086-EAF37BDC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F73F-4219-4F97-B13A-84593FE7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7EACB-22F5-42C7-859F-E7EC4D87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E2867-26A8-486F-A88C-FA1A5D07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498C2-E30A-4E63-900C-5B3D64AF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C56F0-86C8-4204-B739-13D577C4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51031-3B47-49F9-A7EE-A50FA6D2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DFD69-973B-4991-9F03-35BD292D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AC4A5-1482-431A-B5A1-2C5C2304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7C42F-2A91-4E91-9D82-04858FB0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69122-3150-4F28-BFE4-AC8E8077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6E5D3-9FFD-4459-B579-CC1190BF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70B1-BD81-40B5-9CFE-F1D72E4DFA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3EE5-7964-4E0E-8D91-1DD645AA2FDD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C818-F4CB-497D-AF27-0CCD17C33484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A6EA-1E2F-4738-B4A4-D66923A102AE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9582-210B-41A3-AEF6-46727B23E7CB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0A52-2806-4D78-9515-74D4AC610F3B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E138-E65F-4E1B-B2DF-9E077ADC5572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EA1C-BB14-4ABD-A9DE-DBED2B64F7A3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C800-23D9-4DDC-86B3-A4F4FBD42679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8EEB-FED0-4335-82BC-7DC53B758CA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FB58-C3E4-4F43-A2E4-97747AB0DB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8E20-C25A-478D-8B0C-D74F6A7877E8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9894-82DD-4468-9F8C-CCB0CD0F9E8F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EC51-D639-44B4-81D6-7736FE89F3CE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6B81-BF47-4F6A-AA91-24904F0B1D96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CBFF-94FC-464A-81AC-E58D37CB2EAF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5300-A7DA-4785-88CA-F9BDEF9EE71B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5837-9FB6-4DFA-8639-D33580AE8103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D8F2-0A80-4B15-9C53-B5F9FA167E05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E2CC-A64D-415E-BD72-2AA144CDE6DB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C4D5-309C-4136-A9D1-D4FC501242D5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7F32-8A97-4447-BA0B-DB3C76575BA1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E581-0C61-4019-A30B-A40506861F1B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3828-BA12-4D39-A343-FBA977EA6C93}" type="datetime">
              <a:rPr b="1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F887-454A-407B-95B9-14225EE3E1B8}" type="slidenum">
              <a:rPr b="1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-182520" y="-108000"/>
            <a:ext cx="12519000" cy="7291440"/>
          </a:xfrm>
          <a:prstGeom prst="rect">
            <a:avLst/>
          </a:prstGeom>
          <a:solidFill>
            <a:srgbClr val="8b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5041800" y="2374920"/>
            <a:ext cx="7918560" cy="5238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017040" y="1873080"/>
            <a:ext cx="231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花 季</a:t>
            </a:r>
            <a:r>
              <a:rPr b="1" lang="zh-CN" sz="40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·</a:t>
            </a:r>
            <a:r>
              <a:rPr b="1" lang="zh-CN" sz="40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雨 季  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6498720" y="2479680"/>
            <a:ext cx="47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Luna Bar"/>
              </a:rPr>
              <a:t>b e   i n   f u l l   b l o s s o m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9139320" y="2117880"/>
            <a:ext cx="20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献 给 我 们 终 将 逝 去 的 青 春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5386320" y="2971800"/>
            <a:ext cx="7421760" cy="1494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8" descr="玫瑰花"/>
          <p:cNvPicPr/>
          <p:nvPr/>
        </p:nvPicPr>
        <p:blipFill>
          <a:blip r:embed="rId1"/>
          <a:stretch/>
        </p:blipFill>
        <p:spPr>
          <a:xfrm>
            <a:off x="4098960" y="1511280"/>
            <a:ext cx="18414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-17640" y="-23760"/>
            <a:ext cx="12238200" cy="7068960"/>
          </a:xfrm>
          <a:prstGeom prst="rect">
            <a:avLst/>
          </a:prstGeom>
          <a:solidFill>
            <a:srgbClr val="8b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-122400" y="946080"/>
            <a:ext cx="6221520" cy="7444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-81000" y="1741320"/>
            <a:ext cx="6159600" cy="1144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2790720" y="1062000"/>
            <a:ext cx="278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Luna Bar"/>
              </a:rPr>
              <a:t>content </a:t>
            </a:r>
            <a:r>
              <a:rPr b="0" lang="zh-CN" sz="4800" spc="-1" strike="noStrike">
                <a:solidFill>
                  <a:srgbClr val="ffffff"/>
                </a:solidFill>
                <a:latin typeface="Calibri"/>
                <a:ea typeface="迷你简幼线"/>
              </a:rPr>
              <a:t>目录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6" descr="meigui2"/>
          <p:cNvPicPr/>
          <p:nvPr/>
        </p:nvPicPr>
        <p:blipFill>
          <a:blip r:embed="rId1"/>
          <a:stretch/>
        </p:blipFill>
        <p:spPr>
          <a:xfrm>
            <a:off x="4761000" y="947880"/>
            <a:ext cx="2036520" cy="169848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7"/>
          <p:cNvSpPr/>
          <p:nvPr/>
        </p:nvSpPr>
        <p:spPr>
          <a:xfrm>
            <a:off x="6465960" y="2679840"/>
            <a:ext cx="16398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5050"/>
                </a:solidFill>
                <a:latin typeface="Luna Bar"/>
              </a:rPr>
              <a:t>Simple</a:t>
            </a:r>
            <a:endParaRPr b="1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5050"/>
                </a:solidFill>
                <a:latin typeface="Luna Bar"/>
              </a:rPr>
              <a:t>powerful</a:t>
            </a:r>
            <a:endParaRPr b="1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5050"/>
                </a:solidFill>
                <a:latin typeface="Luna Bar"/>
              </a:rPr>
              <a:t> </a:t>
            </a:r>
            <a:r>
              <a:rPr b="0" lang="zh-CN" sz="3100" spc="-1" strike="noStrike">
                <a:solidFill>
                  <a:srgbClr val="ff5050"/>
                </a:solidFill>
                <a:latin typeface="Luna Bar"/>
              </a:rPr>
              <a:t>free</a:t>
            </a:r>
            <a:endParaRPr b="1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8305920" y="2643120"/>
            <a:ext cx="4111560" cy="259704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8271000" y="2779560"/>
            <a:ext cx="1765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  <a:ea typeface="迷你简幼线"/>
              </a:rPr>
              <a:t>简  单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  <a:ea typeface="迷你简幼线"/>
              </a:rPr>
              <a:t>充  满  力  量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  <a:ea typeface="迷你简幼线"/>
              </a:rPr>
              <a:t>自  由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10"/>
          <p:cNvSpPr/>
          <p:nvPr/>
        </p:nvSpPr>
        <p:spPr>
          <a:xfrm>
            <a:off x="8177040" y="2641680"/>
            <a:ext cx="76320" cy="260496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Oval 11"/>
          <p:cNvSpPr/>
          <p:nvPr/>
        </p:nvSpPr>
        <p:spPr>
          <a:xfrm>
            <a:off x="3092400" y="2662200"/>
            <a:ext cx="536760" cy="558720"/>
          </a:xfrm>
          <a:prstGeom prst="ellipse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Line 12"/>
          <p:cNvSpPr/>
          <p:nvPr/>
        </p:nvSpPr>
        <p:spPr>
          <a:xfrm>
            <a:off x="3360600" y="3219480"/>
            <a:ext cx="0" cy="68724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ine 13"/>
          <p:cNvSpPr/>
          <p:nvPr/>
        </p:nvSpPr>
        <p:spPr>
          <a:xfrm flipH="1">
            <a:off x="3033720" y="3884760"/>
            <a:ext cx="326880" cy="53496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Line 14"/>
          <p:cNvSpPr/>
          <p:nvPr/>
        </p:nvSpPr>
        <p:spPr>
          <a:xfrm>
            <a:off x="3370320" y="3908520"/>
            <a:ext cx="326880" cy="53496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15"/>
          <p:cNvSpPr/>
          <p:nvPr/>
        </p:nvSpPr>
        <p:spPr>
          <a:xfrm>
            <a:off x="3644640" y="2589120"/>
            <a:ext cx="104328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5050"/>
                </a:solidFill>
                <a:latin typeface="Calibri"/>
              </a:rPr>
              <a:t>♀</a:t>
            </a:r>
            <a:endParaRPr b="1" lang="en-US" sz="1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Line 16"/>
          <p:cNvSpPr/>
          <p:nvPr/>
        </p:nvSpPr>
        <p:spPr>
          <a:xfrm flipH="1">
            <a:off x="2987640" y="3197160"/>
            <a:ext cx="372960" cy="77940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Line 17"/>
          <p:cNvSpPr/>
          <p:nvPr/>
        </p:nvSpPr>
        <p:spPr>
          <a:xfrm>
            <a:off x="3382920" y="3232080"/>
            <a:ext cx="370080" cy="80352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Line 18"/>
          <p:cNvSpPr/>
          <p:nvPr/>
        </p:nvSpPr>
        <p:spPr>
          <a:xfrm>
            <a:off x="2779560" y="4443480"/>
            <a:ext cx="1967040" cy="144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 Box 19"/>
          <p:cNvSpPr/>
          <p:nvPr/>
        </p:nvSpPr>
        <p:spPr>
          <a:xfrm>
            <a:off x="3155040" y="4429080"/>
            <a:ext cx="1211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青春</a:t>
            </a:r>
            <a:r>
              <a:rPr b="1" lang="zh-CN" sz="18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=1+1=2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青春有可能是两个人走过的路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-57240" y="-47520"/>
            <a:ext cx="12385800" cy="7068960"/>
          </a:xfrm>
          <a:prstGeom prst="rect">
            <a:avLst/>
          </a:prstGeom>
          <a:solidFill>
            <a:srgbClr val="8b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5076720" y="2322360"/>
            <a:ext cx="1152720" cy="58284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6229440" y="2333520"/>
            <a:ext cx="1152360" cy="58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5397840" y="2292480"/>
            <a:ext cx="16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  <a:ea typeface="迷你简幼线"/>
              </a:rPr>
              <a:t>简 单 </a:t>
            </a:r>
            <a:r>
              <a:rPr b="1" lang="zh-CN" sz="3600" spc="-1" strike="noStrike">
                <a:solidFill>
                  <a:srgbClr val="ff5050"/>
                </a:solidFill>
                <a:latin typeface="Calibri"/>
                <a:ea typeface="迷你简幼线"/>
              </a:rPr>
              <a:t>青 春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 Box 6"/>
          <p:cNvSpPr/>
          <p:nvPr/>
        </p:nvSpPr>
        <p:spPr>
          <a:xfrm>
            <a:off x="4348440" y="294624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Luna Bar"/>
              </a:rPr>
              <a:t>l i f e   i s   s o   s i m p l e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-235080" y="-14400"/>
            <a:ext cx="12439800" cy="6210360"/>
          </a:xfrm>
          <a:prstGeom prst="rect">
            <a:avLst/>
          </a:prstGeom>
          <a:solidFill>
            <a:srgbClr val="8b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-266760" y="6086520"/>
            <a:ext cx="12739680" cy="11844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4" descr="玫瑰花"/>
          <p:cNvPicPr/>
          <p:nvPr/>
        </p:nvPicPr>
        <p:blipFill>
          <a:blip r:embed="rId1"/>
          <a:stretch/>
        </p:blipFill>
        <p:spPr>
          <a:xfrm>
            <a:off x="3328920" y="1805040"/>
            <a:ext cx="1841400" cy="253044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5"/>
          <p:cNvSpPr/>
          <p:nvPr/>
        </p:nvSpPr>
        <p:spPr>
          <a:xfrm>
            <a:off x="4622760" y="1920960"/>
            <a:ext cx="549360" cy="208584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4702680" y="1835280"/>
            <a:ext cx="39240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libri"/>
                <a:ea typeface="迷你简幼线"/>
              </a:rPr>
              <a:t>简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libri"/>
                <a:ea typeface="迷你简幼线"/>
              </a:rPr>
              <a:t>单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libri"/>
                <a:ea typeface="迷你简幼线"/>
              </a:rPr>
              <a:t>青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alibri"/>
                <a:ea typeface="迷你简幼线"/>
              </a:rPr>
              <a:t>春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6128280" y="1978200"/>
            <a:ext cx="2527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■</a:t>
            </a: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家和学校两点一线的生活以外</a:t>
            </a: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,</a:t>
            </a: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和朋友</a:t>
            </a: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KTV</a:t>
            </a: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、出游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打桌球、看电影，做一切自己想做的事。偶尔也会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安静的约人在图书馆看书。为某一新闻或小说而吵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得不可开交。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5050"/>
                </a:solidFill>
                <a:latin typeface="Calibri"/>
              </a:rPr>
              <a:t>■</a:t>
            </a: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最容易冲动、也会冷静下来开始故作清高的理智。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■</a:t>
            </a: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简单肆意、尽情嬉闹、这是青春给我们的最大权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5050"/>
                </a:solidFill>
                <a:latin typeface="迷你简幼线"/>
                <a:ea typeface="迷你简幼线"/>
              </a:rPr>
              <a:t>利。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8132760" y="6134040"/>
            <a:ext cx="2312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Luna Bar"/>
              </a:rPr>
              <a:t>b e   i n   f u l l   b l o s s o m </a:t>
            </a:r>
            <a:endParaRPr b="1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9" descr="meigui2"/>
          <p:cNvPicPr/>
          <p:nvPr/>
        </p:nvPicPr>
        <p:blipFill>
          <a:blip r:embed="rId2"/>
          <a:stretch/>
        </p:blipFill>
        <p:spPr>
          <a:xfrm>
            <a:off x="10574280" y="5197320"/>
            <a:ext cx="20368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4992840" y="2322360"/>
            <a:ext cx="1152360" cy="58284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143760" y="2320920"/>
            <a:ext cx="1153800" cy="582480"/>
          </a:xfrm>
          <a:prstGeom prst="rect">
            <a:avLst/>
          </a:prstGeom>
          <a:solidFill>
            <a:srgbClr val="8b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5313600" y="2292480"/>
            <a:ext cx="16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  <a:ea typeface="迷你简幼线"/>
              </a:rPr>
              <a:t>谢 谢 </a:t>
            </a:r>
            <a:r>
              <a:rPr b="1" lang="zh-CN" sz="3600" spc="-1" strike="noStrike">
                <a:solidFill>
                  <a:srgbClr val="ff5050"/>
                </a:solidFill>
                <a:latin typeface="Calibri"/>
                <a:ea typeface="迷你简幼线"/>
              </a:rPr>
              <a:t>观 赏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4641840" y="294336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050"/>
                </a:solidFill>
                <a:latin typeface="Luna Bar"/>
                <a:ea typeface="迷你简幼线"/>
              </a:rPr>
              <a:t>b e   i n   f u l l   b l o s s o m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6"/>
          <p:cNvSpPr/>
          <p:nvPr/>
        </p:nvSpPr>
        <p:spPr>
          <a:xfrm flipV="1">
            <a:off x="-293400" y="3420720"/>
            <a:ext cx="12573000" cy="3481200"/>
          </a:xfrm>
          <a:prstGeom prst="rect">
            <a:avLst/>
          </a:prstGeom>
          <a:solidFill>
            <a:srgbClr val="8b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82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77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8T04:47:33Z</dcterms:modified>
  <cp:revision>1</cp:revision>
  <dc:subject/>
  <dc:title>PowerPoint 演示文稿</dc:title>
</cp:coreProperties>
</file>