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F7C-0EE3-4156-8635-42E43F38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902-7A47-4635-98B7-1CF11FEC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D65-0E53-4DC9-B154-7F572510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5D9-D2B0-4F13-B324-10E096D6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175B-3E9D-4AFC-85D4-1B84E6EF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169D-B17F-422B-90C9-3BA54DC5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4DD6-C50C-4ECE-82B2-1B53BE19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FF84-9690-4C1F-9E4B-E725FD4B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D8CE-EDB8-467A-8C7F-35EC7EFB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E2C9-C0E6-472B-AA51-5CF66DD9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0E2A-BC90-43FE-94D8-B0D4F571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0FB-E417-4345-85B7-DB0E4D80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AF0A-400E-42EA-A7CE-84D11900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5C62-1C35-43D8-BD15-673F4E4F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4A8F-5C9E-41D0-B433-FBD1B300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C8C4-D955-4DDE-93BA-50A3ECBC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0CD7-F35E-4B4A-BACB-1A90B49C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CE8E0-1D92-4FA5-9556-A90A35D8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0D07-512E-423F-B317-7F3FBAD7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DA53-DC86-4C61-8B2B-5448947A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3F7A-EC86-47E4-A0E5-1FFB8E75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33F8-3242-440E-B72E-E341DABE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A30-245E-43B1-A03F-4C8F1AA1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4926-36C1-4E9A-8C91-AF113970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5367-50FB-4146-B30F-A1FD0659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E4C19-589F-4162-9FBB-458EEAB4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D1E5-7817-4A30-BF06-D1DDE05C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BF7D-C4E8-45D6-B319-D34169D5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647F-BAA7-4813-A9FF-2088AF59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76A5D-C24B-490D-B7A9-0E183C02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2D8-003D-4FBA-986D-4BA0563C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0FC-7509-4708-A6E1-4F44FCF9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BF9-E88D-4F57-9F0B-05812F72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777-C8A6-46FB-9F9D-D6DDEAC9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CF1-C847-4E5F-9311-E9D970CD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898-0C7E-4FA9-B8BF-F2BDE7CA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035C-7E0D-468D-9846-907D1B10C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939C-80B7-4AAC-9BFF-96F43E7DE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8A6C-80CD-41C2-B845-E9C52D58719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0319-F002-43A0-BE2C-1582257A20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440" y="3504960"/>
            <a:ext cx="5715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c785"/>
                </a:solidFill>
                <a:latin typeface="Times New Roman"/>
                <a:ea typeface="宋体"/>
              </a:rPr>
              <a:t>FUN FIFTYTW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971440" y="5028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971440" y="5181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RANSITIONAL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5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57200" y="1600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038480" y="22860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457200" y="40384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fun_fiftytwo_trs"/>
          <p:cNvPicPr/>
          <p:nvPr/>
        </p:nvPicPr>
        <p:blipFill>
          <a:blip r:embed="rId1"/>
          <a:stretch/>
        </p:blipFill>
        <p:spPr>
          <a:xfrm>
            <a:off x="3886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fun_fiftytwo_qx"/>
          <p:cNvPicPr/>
          <p:nvPr/>
        </p:nvPicPr>
        <p:blipFill>
          <a:blip r:embed="rId2"/>
          <a:stretch/>
        </p:blipFill>
        <p:spPr>
          <a:xfrm>
            <a:off x="457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fun_fiftytwo_sld"/>
          <p:cNvPicPr/>
          <p:nvPr/>
        </p:nvPicPr>
        <p:blipFill>
          <a:blip r:embed="rId3"/>
          <a:stretch/>
        </p:blipFill>
        <p:spPr>
          <a:xfrm>
            <a:off x="457200" y="4114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fun_fiftytwo_prt"/>
          <p:cNvPicPr/>
          <p:nvPr/>
        </p:nvPicPr>
        <p:blipFill>
          <a:blip r:embed="rId4"/>
          <a:stretch/>
        </p:blipFill>
        <p:spPr>
          <a:xfrm>
            <a:off x="388620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6:30:35Z</dcterms:created>
  <dc:creator>eclipse</dc:creator>
  <dc:description/>
  <dc:language>en-US</dc:language>
  <cp:lastModifiedBy>a</cp:lastModifiedBy>
  <dcterms:modified xsi:type="dcterms:W3CDTF">2015-01-13T17:49:05Z</dcterms:modified>
  <cp:revision>5</cp:revision>
  <dc:subject/>
  <dc:title>FUN FIFTYTW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