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0CF-7297-4B9B-88A7-B3C11599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883-8A38-4AC3-B6EA-E62C375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83A6B-C48C-42C5-B72C-F35FEA18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EE5AB-0981-40E8-94E3-9AA7BAD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41DCB-E4FA-482C-85D1-B393081F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E4F66-CF6F-4443-BAE5-261B6E3E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E092C-2239-4AF9-993C-0C9D19F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7D566-E211-49EA-AE4D-B36A329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A6582-8CE3-4898-B819-C0E676E7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EA0D9-1241-4E1F-8C8B-351CCA7C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69FEC-2AA7-4474-8032-03A59391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13408-43BD-4FBA-9737-A8C503FD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667-158E-4976-BEB5-6F0B248B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494D8-6197-4045-92D4-5A8C11E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91BBC-8757-41AE-9B7F-DB2F9D4F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92A26-C8C1-47E6-A1CA-9CF029A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49A44-65A7-452A-9695-CCF5E7A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023A5-6436-41EC-938D-36A9C092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DE9B6-1557-42F4-8C5E-059AEBF3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CF2B8-C885-4F73-9363-D819861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E908F-BEA6-4382-9236-AB13D40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776CB-2A1E-4C5A-9803-68E44D7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7F1E8-763F-46D9-94F0-33946D49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BAE-DF14-4501-884C-57E3B63C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178B0-16ED-43B1-99C2-894933E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0847F-FDD2-4CE3-B1D8-339F9AE8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A1C7-8BD7-449E-968D-97C8B6EE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3BD7-7005-4BF5-B6EA-3AA0D5CF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72D0E-D353-4DBC-9507-738337D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E767D-A961-4D08-9E41-E6D06FA6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84EF9-1F11-44CE-8711-315B1010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03261-C7C5-4E5C-8E2F-5604E26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1C84-849E-4502-B248-A64E485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DD68E-55BA-48CF-8E0D-DF401A9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628D-D925-4099-8E4B-ACB974F5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DE960-0D16-4BEE-8002-FD62DC7A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329EF-E415-48E8-ADE4-24F727B0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D01C6-4DC9-450A-80D1-6A6648A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44FBA-059A-4DF0-BBBF-EA7798CB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0AB53-6BAC-45B0-93BA-90EDC8F5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6C1A7-4573-4149-8FA3-F3ACD81B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61456-9A85-4FE5-BFBD-22CF420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E732A-4DA8-4112-B0DB-C49CAB20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BADE3-B37D-4FE5-98F6-A04C7FE0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3452C-E29F-4FC7-AF6D-E9CDA58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B798-E74C-4B19-855F-1260980C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64050-3242-42DA-9A95-6B02C9F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93EDD-14F6-4FB7-9D39-495541F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D10C3-0077-4769-853B-680F823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10038-AD24-47F3-A90D-D0411CFB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065C8-EE70-4971-A706-6D915CCD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E7D0A-2E6F-43D1-8D50-6C1D8FC2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C60BB-6FD4-4A75-AB82-E23AFE99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F667F-73BF-469F-850C-4E1C657D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E97E1-60C7-45EE-B359-C20270B8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E8AAA-070D-4398-B6ED-DF252EFF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1F42-A153-476B-84BD-B3A297FC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D531E-F828-4E40-86BB-087602A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2A13B-979E-413E-9167-20B9D9E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BF6C4-F8EA-4CE6-8D27-B365D0F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3E11C-AD5C-4720-B539-D86EC69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CBF1A-4329-43F2-8907-4B1B2BFB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A7D11-4138-49D8-B0E5-25B699FA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224CE-8EB7-4CF1-BEF1-7F477680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00B1C-EE9C-43AD-9B41-94C94CB6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57B79-99A8-4576-92B0-609A331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1F02B-5430-4F64-9CEA-A0C63502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827-8B6D-4C8B-A570-67300674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89726-C86D-475D-93B2-8D5C5FCB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7C863-D6EE-4DAD-8DE0-F617981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C0F75-515D-4597-B377-E524F7F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9D4F4-94A9-46D3-8AD5-256A065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947C1-422A-462C-B573-4057C9E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29BFA-E820-405D-A558-9666E23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990E9-90E7-4959-92F2-3957291F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3FD67-E2DB-43C8-AD55-6F3B6FE8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2FF85-8ABA-4E4B-BB54-263363CF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B71B-04CE-4241-A6E7-641B656C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9D9F-167D-462E-B163-206C9889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52D-8AA0-46C0-83DB-40F77FF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5CB-1647-4ACA-B740-A9BDF32F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B085-93A6-4464-8FA7-C3D9925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3D6-B49B-404E-835A-F470BFE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4F5-F899-44EF-9520-011373D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E88-EA93-423B-B098-6091EB48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EFE0-DFB6-4594-A6D5-4303005C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612E-AB45-4BE3-935E-E360F26D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B77F-B81B-4BC0-8281-7CC35CB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0351-B709-4D99-AD7F-C76EB23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4B92-8C6E-42EC-8CC3-261E4C94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D3EB-7D1F-4416-948C-A108E48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54F-74CC-4E37-A76B-210D79C6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6C57-9BE7-4047-84B9-420E74ED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D3B4-EEA4-488F-A62C-1BA23967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89EC-F1AA-4012-A68D-C017094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D4FD-59EB-4620-ACEE-5744120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C70D-FA86-4B66-BC46-6661C7C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2DA63-1A4C-4A81-9665-35E5FE83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BF19-B950-425F-B62C-8529EBA0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B009-9596-4968-8B40-EC49CCDC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E6E4-2F30-48C9-B4C8-361D36FF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FDEB-6291-4E54-9234-E8F9EA96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CBA-EDE0-458F-ADD2-512AFE95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6A98-BD34-4AAC-BECD-16545C88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4CC2-BAA0-45A5-80A7-529FA541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960C-1065-461E-B10F-D6E3439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6E1D-7062-4855-9F22-5D97B67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BBD1-F8C6-4A97-9CE9-AA1B406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F7CF-D630-4AA5-8189-2FF1F03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DE19-7AAD-4CCC-9E50-AADF79E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457A-8EFB-45E3-B94E-3B944942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3725-EA92-4D54-94FE-E2570736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8521-2F96-4322-AF90-4569C9A2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DCC-8AB5-4CA0-9929-7D9A1E4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7CB6-55D0-47EA-9E22-F6740493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DD54-F253-4E21-9EF9-2B57F7C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5ADD-B0A4-4157-B749-88B42F30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B74BA-461F-41FA-841E-571E063F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D514-9723-4CB5-A760-5F19268F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55E1-2F24-4CB0-AB34-653044F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6642-AD77-499F-BD8D-5622A1E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D105-7D9D-46F0-B839-36BCD5E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23CA-774B-453B-8B6E-111399F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0E2C0-29AE-43D7-80FD-8A88BA6C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3BC-DFF6-4ED0-99F4-74D0EE60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A239-471C-43EF-A689-E8A35012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CA4C-631C-489C-9679-26CDD7C5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C686-D66A-4F21-BB0F-E9A40BCF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CE30-C0BA-43CF-9F6F-B72C89DB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2BED7-909A-44C4-9856-1FAC61BB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9976-A75B-491C-9F71-E0C1A651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0DCC-02D5-4257-9BF7-D0B1D723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BDCA-C710-479E-9505-236482C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F90B-841C-4658-991F-67709C7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94C5-20F8-47C3-9D24-3867206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E4C-6B95-433F-A326-3B98750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83A2F-4B84-4786-B3A8-A2D3A800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8A5A-4947-4561-BE28-D131C35A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B8024-696A-4893-A0D2-71976137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46B08-E516-47F4-87EB-7B411201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C55E-E94A-40A2-91AC-AB307507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87DA0-16D6-4230-AA6C-D8993DBE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F34F-8AA2-4C04-A76B-918B0B1A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B18B-8854-4D94-AF89-0D906B1D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8D9D-4DEE-4F74-BD9B-66A015A4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8D8FF-C91A-4348-B9AE-51F7E19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FDC-FC10-4CD5-9905-8926A30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82E6-FA45-4E7D-9410-DD07B11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4F4E6-5749-4EE1-903D-66575755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BEF52-B0DA-48AA-86E5-2124079E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18D13-4F7F-40F0-BF74-A8E7DB0C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4A2A-3F05-481C-8636-1F78887F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6B1B6-E6C1-42CD-9B13-0157B1A8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9084-8D19-4FD6-80EE-3C276E5B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C0878-E352-4517-A2D3-66B48AE1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44C32-65B2-485A-90AB-E7E25074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35C77-51F0-4147-97B4-18395687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FC6-8D4E-4191-979A-3C0BDAE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CA1C-6852-4389-86A5-47C6EC91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D346D-498E-4580-BC69-4DA9DBB2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CC8E-C670-410A-A224-541C407C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976E-7680-4D30-81A3-2DCDB09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30C8-83F5-4E81-B869-761ECE6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3819-0557-4E07-A1E9-C934DA2E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A5073-B7A5-4376-9973-36156F33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1CE6-5C9B-4750-839E-66E81A5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AC879-8B7F-4A02-B5DC-D7FE21C3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1F540-E76E-4EFD-8136-A55A0FBA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42A-09CF-4443-8CB1-9F584F91544C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1DE0-1E9F-4FE7-8269-0C84CD48C2A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8AA4-25CA-47A7-A719-2058A1E3AA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AF7-9478-4775-84AD-DDA26848271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091D-F0AE-4FA1-9752-0038A28112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E13D-DCE2-4C1C-8C6B-C9FF4D570D1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F4D4-402A-4925-8413-44687DC685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791-189F-4863-8DD6-A69F91C38AD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8E4F-9983-4200-A0E8-22B28E8809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025A-1BDC-4EDE-BFC7-740DCAD77A9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555-68A2-48AE-ADE6-8CA06B061B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586F-2F78-44D2-8832-B0353234D32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541D-126D-42A2-82BE-2AE2DF1205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838-F328-47AD-992B-B3BFDF9ED995}" type="slidenum">
              <a:rPr b="0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298-891E-4E5D-9C4E-8BBE8E6C95C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607-790E-4657-AAB4-3F0FCF9CE1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03B0-226F-4851-9EBB-7836740A243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82F-3455-416B-896F-0AA8479DFC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BFDD-2F02-433A-A22D-C4FE87BAB35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A925-725B-469B-89CC-6EDCD25C88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04C1-69B1-4FE9-A8AE-1D1786AE9F8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F47-3896-4850-850F-85087E724D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26A-D8A7-44D6-AD48-B9C1BFE152B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D56-41AD-43D7-BEFA-E88B7DB759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0CF5-C1E9-4082-B131-7F0EC32E7E8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452-8DE9-41E0-949D-2D9DCED6B3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04760" y="3504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Eurostile"/>
                <a:ea typeface="宋体"/>
              </a:rPr>
              <a:t>Azure Soluti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944360" y="3962520"/>
            <a:ext cx="56754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Franklin Gothic Book"/>
                <a:ea typeface="宋体"/>
              </a:rPr>
              <a:t>Your Subtitle Goes Here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our subtopic goes here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04760" y="37335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944360" y="4190760"/>
            <a:ext cx="5675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>WPS Office</dc:creator>
  <dc:description>WPS Office</dc:description>
  <cp:keywords>WPS Office</cp:keywords>
  <dc:language>en-US</dc:language>
  <cp:lastModifiedBy>a</cp:lastModifiedBy>
  <dcterms:modified xsi:type="dcterms:W3CDTF">2014-08-03T07:40:01Z</dcterms:modified>
  <cp:revision>87</cp:revision>
  <dc:subject/>
  <dc:title>Azure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