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097A-7712-4A9B-8F1E-561D3E443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28AD-052A-4DD9-96C0-FCA31EC23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B956-8D0A-460F-B78E-2DA97E62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5EB1-D2A4-4EE4-B35D-081B15FEB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C348-5069-40D0-9BFE-A94B743BB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94EA-8CAB-4C53-87DB-9995DB6FE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882C2-13FA-4E83-9C4D-FB7FBAF64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D4A1-4B24-468D-945A-AC137D46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E1C32-71D9-4CDF-AB61-51AF16AA6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34EAA-6FB5-4F85-AD82-A4839410D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182E2-9360-4A31-93CE-7DBD07D32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5939-C22C-44C7-BB16-72027ED9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C2655-3D29-4C54-8F2E-8EBBF832E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9E2C0-CB94-480A-8316-EE682B63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F6A4F-4FCE-49AA-B1DB-6045B2E4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05671-A821-4F39-81FA-4B27CE67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85F73-DF51-44A8-A2FA-E275EA32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89478-CCB0-475E-A9FA-3008734ED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09FEB-19E2-4248-A6F4-77C579D4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28617-0819-4A46-A294-3B69FE86D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0FFB40-CC9B-4D3E-8D3A-427A75784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4A330-2ABF-424B-9770-248E022A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2682-754A-4B83-9993-69CD5138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20DBB-1EDD-471E-8305-0EBCD4D0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A37E1E-0467-4613-941C-2144C5A7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9491D-D457-46E7-A6D7-A8C4285B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BBE6F9-B35D-4694-BA02-B56FE79D1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769CA-763A-4E3E-910E-0D42FFE1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D7585-3DB0-4289-B90A-B9079A81D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1D5B5-D9F0-4979-B178-89BFAD388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78B-0F1D-4089-8033-5253A74D2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BE2F-273A-4B52-A634-6A787AA92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93AB-A5B7-4F03-8129-91A2BF51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BE93-62D0-4FB1-801C-97E8F0FFF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5CEF-989C-4491-ADE9-329509EA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0914-EED2-41BC-8D0B-8A9DBC0F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6"/>
          <p:cNvSpPr/>
          <p:nvPr/>
        </p:nvSpPr>
        <p:spPr>
          <a:xfrm>
            <a:off x="-4680" y="-3240"/>
            <a:ext cx="9158040" cy="1036800"/>
          </a:xfrm>
          <a:custGeom>
            <a:avLst/>
            <a:gdLst>
              <a:gd name="textAreaLeft" fmla="*/ 0 w 9158040"/>
              <a:gd name="textAreaRight" fmla="*/ 9158400 w 915804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b922d">
                  <a:alpha val="45098"/>
                </a:srgbClr>
              </a:gs>
              <a:gs pos="100000">
                <a:srgbClr val="bf662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Forme 7"/>
          <p:cNvGrpSpPr/>
          <p:nvPr/>
        </p:nvGrpSpPr>
        <p:grpSpPr>
          <a:xfrm>
            <a:off x="4383000" y="-4680"/>
            <a:ext cx="4760640" cy="601560"/>
            <a:chOff x="4383000" y="-4680"/>
            <a:chExt cx="4760640" cy="601560"/>
          </a:xfrm>
        </p:grpSpPr>
        <p:pic>
          <p:nvPicPr>
            <p:cNvPr id="2" name="Forme 7" descr=""/>
            <p:cNvPicPr/>
            <p:nvPr/>
          </p:nvPicPr>
          <p:blipFill>
            <a:blip r:embed="rId3"/>
            <a:stretch/>
          </p:blipFill>
          <p:spPr>
            <a:xfrm>
              <a:off x="4384080" y="-4680"/>
              <a:ext cx="475956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383000" y="-3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d1e1e3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1e1e3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77851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79b5b0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b4bc4c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b77851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776a5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6" name="Group 6"/>
          <p:cNvGrpSpPr/>
          <p:nvPr/>
        </p:nvGrpSpPr>
        <p:grpSpPr>
          <a:xfrm>
            <a:off x="-14400" y="203040"/>
            <a:ext cx="9176400" cy="648000"/>
            <a:chOff x="-14400" y="203040"/>
            <a:chExt cx="9176400" cy="648000"/>
          </a:xfrm>
        </p:grpSpPr>
        <p:grpSp>
          <p:nvGrpSpPr>
            <p:cNvPr id="7" name="Group 7"/>
            <p:cNvGrpSpPr/>
            <p:nvPr/>
          </p:nvGrpSpPr>
          <p:grpSpPr>
            <a:xfrm>
              <a:off x="-14400" y="203040"/>
              <a:ext cx="9158040" cy="648000"/>
              <a:chOff x="-14400" y="203040"/>
              <a:chExt cx="9158040" cy="648000"/>
            </a:xfrm>
          </p:grpSpPr>
          <p:pic>
            <p:nvPicPr>
              <p:cNvPr id="8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03040"/>
                <a:ext cx="91411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" name="Text Box 9"/>
              <p:cNvSpPr/>
              <p:nvPr/>
            </p:nvSpPr>
            <p:spPr>
              <a:xfrm rot="21435600">
                <a:off x="-1404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" name="Group 10"/>
            <p:cNvGrpSpPr/>
            <p:nvPr/>
          </p:nvGrpSpPr>
          <p:grpSpPr>
            <a:xfrm>
              <a:off x="-8280" y="248040"/>
              <a:ext cx="9170280" cy="561600"/>
              <a:chOff x="-8280" y="248040"/>
              <a:chExt cx="9170280" cy="561600"/>
            </a:xfrm>
          </p:grpSpPr>
          <p:pic>
            <p:nvPicPr>
              <p:cNvPr id="11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7200" y="248040"/>
                <a:ext cx="91548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" name="Text Box 12"/>
              <p:cNvSpPr/>
              <p:nvPr/>
            </p:nvSpPr>
            <p:spPr>
              <a:xfrm rot="21435600">
                <a:off x="-79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7d7d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D2147-47A2-45B1-9B61-0580C4134CB7}" type="datetime2">
              <a:rPr b="0" lang="en-US" sz="1200" spc="-1" strike="noStrike">
                <a:solidFill>
                  <a:srgbClr val="c7d7d9"/>
                </a:solidFill>
                <a:latin typeface="Constantia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7d7d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6A30C-B60A-4A7C-BD2A-3480D7B1CBE8}" type="slidenum">
              <a:rPr b="0" lang="en-US" sz="1200" spc="-1" strike="noStrike">
                <a:solidFill>
                  <a:srgbClr val="c7d7d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rme 6"/>
          <p:cNvSpPr/>
          <p:nvPr/>
        </p:nvSpPr>
        <p:spPr>
          <a:xfrm>
            <a:off x="-4680" y="-3240"/>
            <a:ext cx="9158040" cy="1036800"/>
          </a:xfrm>
          <a:custGeom>
            <a:avLst/>
            <a:gdLst>
              <a:gd name="textAreaLeft" fmla="*/ 0 w 9158040"/>
              <a:gd name="textAreaRight" fmla="*/ 9158400 w 9158040"/>
              <a:gd name="textAreaTop" fmla="*/ 0 h 1036800"/>
              <a:gd name="textAreaBottom" fmla="*/ 1037160 h 103680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8b922d">
                  <a:alpha val="45098"/>
                </a:srgbClr>
              </a:gs>
              <a:gs pos="100000">
                <a:srgbClr val="bf662f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Forme 7"/>
          <p:cNvGrpSpPr/>
          <p:nvPr/>
        </p:nvGrpSpPr>
        <p:grpSpPr>
          <a:xfrm>
            <a:off x="4383000" y="-4680"/>
            <a:ext cx="4760640" cy="601560"/>
            <a:chOff x="4383000" y="-4680"/>
            <a:chExt cx="4760640" cy="601560"/>
          </a:xfrm>
        </p:grpSpPr>
        <p:pic>
          <p:nvPicPr>
            <p:cNvPr id="54" name="Forme 7" descr=""/>
            <p:cNvPicPr/>
            <p:nvPr/>
          </p:nvPicPr>
          <p:blipFill>
            <a:blip r:embed="rId3"/>
            <a:stretch/>
          </p:blipFill>
          <p:spPr>
            <a:xfrm>
              <a:off x="4384080" y="-4680"/>
              <a:ext cx="475956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4383000" y="-32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marL="343080" indent="0">
              <a:buNone/>
              <a:tabLst>
                <a:tab algn="l" pos="0"/>
              </a:tabLst>
            </a:pPr>
            <a:r>
              <a:rPr b="0" lang="en-US" sz="5000" spc="-1" strike="noStrike">
                <a:solidFill>
                  <a:srgbClr val="4a606e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77851"/>
              </a:buClr>
              <a:buSzPct val="9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49"/>
              </a:spcBef>
              <a:buClr>
                <a:srgbClr val="79b5b0"/>
              </a:buClr>
              <a:buSzPct val="8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143000" indent="-228600">
              <a:spcBef>
                <a:spcPts val="649"/>
              </a:spcBef>
              <a:buClr>
                <a:srgbClr val="b4bc4c"/>
              </a:buClr>
              <a:buSzPct val="70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600200" indent="-228600">
              <a:spcBef>
                <a:spcPts val="649"/>
              </a:spcBef>
              <a:buClr>
                <a:srgbClr val="b77851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2057400" indent="-228600">
              <a:spcBef>
                <a:spcPts val="649"/>
              </a:spcBef>
              <a:buClr>
                <a:srgbClr val="776a5b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8" name="Group 6"/>
          <p:cNvGrpSpPr/>
          <p:nvPr/>
        </p:nvGrpSpPr>
        <p:grpSpPr>
          <a:xfrm>
            <a:off x="-14400" y="203040"/>
            <a:ext cx="9176400" cy="648000"/>
            <a:chOff x="-14400" y="203040"/>
            <a:chExt cx="9176400" cy="648000"/>
          </a:xfrm>
        </p:grpSpPr>
        <p:grpSp>
          <p:nvGrpSpPr>
            <p:cNvPr id="59" name="Group 7"/>
            <p:cNvGrpSpPr/>
            <p:nvPr/>
          </p:nvGrpSpPr>
          <p:grpSpPr>
            <a:xfrm>
              <a:off x="-14400" y="203040"/>
              <a:ext cx="9158040" cy="648000"/>
              <a:chOff x="-14400" y="203040"/>
              <a:chExt cx="9158040" cy="648000"/>
            </a:xfrm>
          </p:grpSpPr>
          <p:pic>
            <p:nvPicPr>
              <p:cNvPr id="60" name="Pictur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2520" y="203040"/>
                <a:ext cx="914112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9"/>
              <p:cNvSpPr/>
              <p:nvPr/>
            </p:nvSpPr>
            <p:spPr>
              <a:xfrm rot="21435600">
                <a:off x="-1404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10"/>
            <p:cNvGrpSpPr/>
            <p:nvPr/>
          </p:nvGrpSpPr>
          <p:grpSpPr>
            <a:xfrm>
              <a:off x="-8280" y="248040"/>
              <a:ext cx="9170280" cy="561600"/>
              <a:chOff x="-8280" y="248040"/>
              <a:chExt cx="9170280" cy="561600"/>
            </a:xfrm>
          </p:grpSpPr>
          <p:pic>
            <p:nvPicPr>
              <p:cNvPr id="63" name="Picture 11" descr=""/>
              <p:cNvPicPr/>
              <p:nvPr/>
            </p:nvPicPr>
            <p:blipFill>
              <a:blip r:embed="rId5"/>
              <a:stretch/>
            </p:blipFill>
            <p:spPr>
              <a:xfrm>
                <a:off x="7200" y="248040"/>
                <a:ext cx="915480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4" name="Text Box 12"/>
              <p:cNvSpPr/>
              <p:nvPr/>
            </p:nvSpPr>
            <p:spPr>
              <a:xfrm rot="21435600">
                <a:off x="-79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F6E05-A0EB-4A5D-BA4A-9A1A7B8DB9A5}" type="datetime2">
              <a:rPr b="0" lang="en-US" sz="1200" spc="-1" strike="noStrike">
                <a:solidFill>
                  <a:srgbClr val="465b69"/>
                </a:solidFill>
                <a:latin typeface="Constantia"/>
              </a:rPr>
              <a:t>Tuesday, July 28, 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25905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65b69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1A999-2977-4127-8EA2-75906172CB3D}" type="slidenum">
              <a:rPr b="0" lang="en-US" sz="1200" spc="-1" strike="noStrike">
                <a:solidFill>
                  <a:srgbClr val="465b69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5F2B6-30FB-4C64-8C88-E00D3CE272A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6509-DCB0-45E8-AB29-CB851BC16F8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1357200" y="2785680"/>
            <a:ext cx="3114720" cy="5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900" spc="-1" strike="noStrike">
                <a:solidFill>
                  <a:srgbClr val="ffffff"/>
                </a:solidFill>
                <a:latin typeface="Constantia"/>
              </a:rPr>
              <a:t>Company Name</a:t>
            </a:r>
            <a:endParaRPr b="0" lang="en-US" sz="2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1477080" y="3746520"/>
            <a:ext cx="49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7f8977"/>
                </a:solidFill>
                <a:latin typeface="Arial"/>
              </a:rPr>
              <a:t>Presentation Nam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8000" y="4428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5000" spc="-1" strike="noStrike">
                <a:solidFill>
                  <a:srgbClr val="4a606e"/>
                </a:solidFill>
                <a:latin typeface="Calibri"/>
              </a:rPr>
              <a:t>Title</a:t>
            </a:r>
            <a:endParaRPr b="0" lang="en-US" sz="5000" spc="-1" strike="noStrike">
              <a:solidFill>
                <a:srgbClr val="4a606e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b77851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Constantia"/>
              </a:rPr>
              <a:t>Conten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Forme 3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</a:tabLst>
            </a:pPr>
            <a:r>
              <a:rPr b="0" lang="fr-CA" sz="5000" spc="-1" strike="noStrike">
                <a:solidFill>
                  <a:srgbClr val="4a606e"/>
                </a:solidFill>
                <a:latin typeface="Calibri"/>
              </a:rPr>
              <a:t>Titl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Object 3" descr=""/>
          <p:cNvPicPr/>
          <p:nvPr/>
        </p:nvPicPr>
        <p:blipFill>
          <a:blip r:embed="rId2"/>
          <a:stretch/>
        </p:blipFill>
        <p:spPr>
          <a:xfrm>
            <a:off x="1592280" y="2139840"/>
            <a:ext cx="5981760" cy="39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5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7T18:10:29Z</dcterms:created>
  <dc:creator>Ric</dc:creator>
  <dc:description/>
  <dc:language>en-US</dc:language>
  <cp:lastModifiedBy>a</cp:lastModifiedBy>
  <dcterms:modified xsi:type="dcterms:W3CDTF">2015-01-14T05:58:43Z</dcterms:modified>
  <cp:revision>8</cp:revision>
  <dc:subject/>
  <dc:title>Presentation Nam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