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A03C-0110-4E88-BCAC-5E3EBD45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ACC-64BE-4CEC-A7EF-D9DA43DB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CB5A-191E-4C53-9756-76960077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866-05AC-4047-AAA4-4C00EF9F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070B-E33E-4F8D-9F4A-3747ED3E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28C3-499F-4B35-8B27-ABA91E6C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8C57-8437-494A-ADA4-869ED88B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794F-3003-45A7-A74A-886F3260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13D5-C822-4179-80CC-40084A03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2B94-2B39-4B98-8741-C687D1CA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1F42-7DBA-42AE-B280-A21AB112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154-0614-47C2-976C-8F865CE6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0B9E-306B-41B0-AD41-1882146E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F94F-C2DD-4D9A-B674-0C5136F5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F162-A863-428F-A798-2D8A301E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191E-6662-4C80-8D8C-5BA32F3D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DDA3-E7E6-4189-8D71-951A7662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43F-80C9-4C3B-B84B-44F35C2B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A278-C277-42D5-AEC3-ECFB3291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9C32-BEA9-468A-9E84-F6219DB6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0E3-648E-4EF9-8179-B393FC79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E91-AC8B-4B53-91FD-671F4FEA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EE4-3FD1-4F0A-8092-C330A2E8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AD7-43F7-4FCE-96C9-1073E64C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D350-F2CE-42F9-84E0-CC1FCBCAC4D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F1AF-3684-430B-894C-7335651A00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852E-D741-46FF-B6ED-D92D1B04584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F8A5-90E4-450F-B955-EE5978EFFB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2"/>
              </a:rPr>
              <a:t>免费PPT模板</a:t>
            </a:r>
            <a:r>
              <a:rPr b="1" lang="zh-CN" sz="1400" spc="-1" strike="noStrike">
                <a:solidFill>
                  <a:srgbClr val="0000ff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6:10:09Z</dcterms:created>
  <dc:creator>Administrator</dc:creator>
  <dc:description/>
  <dc:language>en-US</dc:language>
  <cp:lastModifiedBy>a</cp:lastModifiedBy>
  <dcterms:modified xsi:type="dcterms:W3CDTF">2015-01-14T06:04:18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