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A75-1213-4E65-8CA9-0FEEC6499F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A3F-2B26-4BC3-9F46-267A738A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750-8B0D-4362-B109-D662DAF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0E9-616D-416B-B418-DECDE70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F7B-0E2C-42BA-ABC5-8E7858A9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108-C516-4105-8CF7-46900C5D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47B-4E91-4097-A4CC-7A573FE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4B7C-B8AE-4D00-8D38-F18EF12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3EA-E45D-4FD3-A1ED-CCB756B6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353-6A5B-4431-B862-BDF8A792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E22-973C-43DA-815E-8957F55F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88B-116B-4FDF-ADC2-0A3AE22E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6FD-1189-44B1-AA46-E166222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1B69-9E90-4F09-B4F1-68D0F24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3764-2BC2-427D-ACC5-9639235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C454-F324-4E69-BDC6-38CB634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31C-44A8-4FF3-A28E-9BF274F6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20DD-232C-42BB-AF2A-FB339E08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7C58-B40D-4D6B-B07E-DCCD2E1D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9838-639B-4656-ADD0-E19CD9F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851C-7B34-4DB5-A85F-04AF04E0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DEBB-0A86-4B38-909C-DD1FE942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1161-6C4F-417F-A061-57735C4F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B6-0718-470D-BAF2-7767769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E348-4D9E-4A88-A204-ADEFE0F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2453-2196-48EC-BC4F-50BED183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0E14-7F27-4D44-8CB0-301833AA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144D-BF3D-432B-9104-253972E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C857-2A7A-4215-9061-77B97F7C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CDC8-7258-420B-93DC-ABC75197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3503-CE74-4364-9E74-AC3167A6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3A0-EF1D-4749-AFE6-FAE42FC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42F-4928-4B9E-9EB5-2028D73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67E-5D27-4408-A933-93543404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961-5B8E-4112-8251-E733562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5D9-7A1A-4966-8077-6217C79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19F-ACF7-4D3B-A062-C9E120B7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7310-778A-419A-AB36-01CEC516E63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C563-8921-43B1-85E3-FA98F646E5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0B78-B111-4DE6-BDAB-FE60AC3C4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02C-EE15-4892-8D94-55126187F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" Target="slide2.xm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目录牌子">
            <a:hlinkClick r:id="rId3" action="ppaction://hlinksldjump"/>
          </p:cNvPr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22669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目录牌子"/>
          <p:cNvPicPr/>
          <p:nvPr/>
        </p:nvPicPr>
        <p:blipFill>
          <a:blip r:embed="rId5"/>
          <a:srcRect l="45081" t="55486" r="44908" b="10721"/>
          <a:stretch/>
        </p:blipFill>
        <p:spPr>
          <a:xfrm>
            <a:off x="6116760" y="3805200"/>
            <a:ext cx="915840" cy="2317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rId6" action="ppaction://hlinksldjump"/>
          </p:cNvPr>
          <p:cNvSpPr/>
          <p:nvPr/>
        </p:nvSpPr>
        <p:spPr>
          <a:xfrm>
            <a:off x="198756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85920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84352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内容返回">
            <a:hlinkClick r:id="rId2" action="ppaction://hlinksldjump"/>
          </p:cNvPr>
          <p:cNvPicPr/>
          <p:nvPr/>
        </p:nvPicPr>
        <p:blipFill>
          <a:blip r:embed="rId3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过渡圈点"/>
          <p:cNvPicPr/>
          <p:nvPr/>
        </p:nvPicPr>
        <p:blipFill>
          <a:blip r:embed="rId4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过渡横条"/>
          <p:cNvPicPr/>
          <p:nvPr/>
        </p:nvPicPr>
        <p:blipFill>
          <a:blip r:embed="rId5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         </a:t>
            </a:r>
            <a:r>
              <a:rPr b="1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边框"/>
          <p:cNvPicPr/>
          <p:nvPr/>
        </p:nvPicPr>
        <p:blipFill>
          <a:blip r:embed="rId3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2d"/>
                </a:solidFill>
                <a:latin typeface="Arial"/>
                <a:ea typeface="方正隶书简体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隶书简体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结束返回">
            <a:hlinkClick r:id="rId6" action="ppaction://hlinksldjump"/>
          </p:cNvPr>
          <p:cNvPicPr/>
          <p:nvPr/>
        </p:nvPicPr>
        <p:blipFill>
          <a:blip r:embed="rId7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封面竖条"/>
          <p:cNvPicPr/>
          <p:nvPr/>
        </p:nvPicPr>
        <p:blipFill>
          <a:blip r:embed="rId8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968560" y="3573360"/>
            <a:ext cx="1521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50"/>
                </a:solidFill>
                <a:latin typeface="Arial"/>
                <a:ea typeface="方正隶书简体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0T08:01:41Z</dcterms:modified>
  <cp:revision>1</cp:revision>
  <dc:subject/>
  <dc:title>PowerPoint 演示文稿</dc:title>
</cp:coreProperties>
</file>