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3BF0-5899-4514-B309-9391BD86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201-50C6-4AC6-8291-76AEBA09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6C5-AD63-45AD-A2AF-DB98B30F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39E-0448-4761-8BA6-F60732A7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CD40-F476-4DD9-BF66-F759B480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E2A7-FE55-4C53-ACDB-A6702E71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57E3-11DA-4CEA-94F4-9D9A30AA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7099-7F38-466E-84C1-C787671D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61CD-4401-4D60-94AF-A3FCA7F5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7968-5CA0-422B-AC2C-78DCE981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85DC-7988-4285-B7A2-CCE1F80C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51F-2049-4397-BACB-4B855A9F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85BD-8198-4317-AD02-06DA8AFB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E869-683E-433E-91E4-59A0E071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CE37-845D-4F09-895C-0912CAD8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F149-C8C7-4DBE-AE9C-C8448471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AF8E-96C2-403B-9EA2-256011F8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A49-5351-4C1D-AA9C-6BE3EC65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C0A-2A55-4109-9639-A421174F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8E5-DDF2-44C4-9F2E-4A277190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556-A651-41B4-99A6-032671AF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44D-A725-43E3-953F-010983E2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D7D-624D-4632-AA65-A6A1E69D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637-08D9-4F83-B5C4-6B4C5027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8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E9AB-190D-4161-B5CA-655864B90E3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14E4-D3B7-4E46-967B-6CCD5D83D1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D695-474F-4282-9FA7-B4DBB61246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5A61-A2EB-4759-9FC5-9A97B0CE70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3903840" y="241308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摆渡</a:t>
            </a:r>
            <a:r>
              <a:rPr b="1" lang="zh-CN" sz="5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百度的海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10"/>
          <p:cNvSpPr/>
          <p:nvPr/>
        </p:nvSpPr>
        <p:spPr>
          <a:xfrm>
            <a:off x="4378320" y="2278080"/>
            <a:ext cx="3976560" cy="1440"/>
          </a:xfrm>
          <a:prstGeom prst="line">
            <a:avLst/>
          </a:prstGeom>
          <a:ln w="76320">
            <a:solidFill>
              <a:srgbClr val="479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378320" y="3421080"/>
            <a:ext cx="3976560" cy="2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4378320" y="3689280"/>
            <a:ext cx="3976560" cy="469800"/>
          </a:xfrm>
          <a:prstGeom prst="rect">
            <a:avLst/>
          </a:prstGeom>
          <a:solidFill>
            <a:srgbClr val="479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4"/>
          <p:cNvSpPr/>
          <p:nvPr/>
        </p:nvSpPr>
        <p:spPr>
          <a:xfrm>
            <a:off x="4378320" y="369576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王海洋的个人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7"/>
          <p:cNvGrpSpPr/>
          <p:nvPr/>
        </p:nvGrpSpPr>
        <p:grpSpPr>
          <a:xfrm>
            <a:off x="-1636560" y="3767040"/>
            <a:ext cx="5573520" cy="649440"/>
            <a:chOff x="-1636560" y="3767040"/>
            <a:chExt cx="5573520" cy="649440"/>
          </a:xfrm>
        </p:grpSpPr>
        <p:sp>
          <p:nvSpPr>
            <p:cNvPr id="88" name="直接连接符 15"/>
            <p:cNvSpPr/>
            <p:nvPr/>
          </p:nvSpPr>
          <p:spPr>
            <a:xfrm>
              <a:off x="-1048320" y="4157640"/>
              <a:ext cx="0" cy="0"/>
            </a:xfrm>
            <a:prstGeom prst="line">
              <a:avLst/>
            </a:prstGeom>
            <a:ln w="936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18"/>
            <p:cNvSpPr/>
            <p:nvPr/>
          </p:nvSpPr>
          <p:spPr>
            <a:xfrm>
              <a:off x="-1636560" y="4152240"/>
              <a:ext cx="3424320" cy="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21"/>
            <p:cNvSpPr/>
            <p:nvPr/>
          </p:nvSpPr>
          <p:spPr>
            <a:xfrm flipV="1">
              <a:off x="1787760" y="3767040"/>
              <a:ext cx="64440" cy="38520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29"/>
            <p:cNvSpPr/>
            <p:nvPr/>
          </p:nvSpPr>
          <p:spPr>
            <a:xfrm>
              <a:off x="1852200" y="3767040"/>
              <a:ext cx="108720" cy="64944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31"/>
            <p:cNvSpPr/>
            <p:nvPr/>
          </p:nvSpPr>
          <p:spPr>
            <a:xfrm flipV="1">
              <a:off x="1960920" y="4031280"/>
              <a:ext cx="64440" cy="38520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32"/>
            <p:cNvSpPr/>
            <p:nvPr/>
          </p:nvSpPr>
          <p:spPr>
            <a:xfrm flipH="1" flipV="1">
              <a:off x="2028960" y="4031280"/>
              <a:ext cx="21240" cy="12744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34"/>
            <p:cNvSpPr/>
            <p:nvPr/>
          </p:nvSpPr>
          <p:spPr>
            <a:xfrm>
              <a:off x="2050560" y="4152240"/>
              <a:ext cx="1886400" cy="684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4041720" y="3881520"/>
            <a:ext cx="182520" cy="274680"/>
            <a:chOff x="4041720" y="3881520"/>
            <a:chExt cx="182520" cy="274680"/>
          </a:xfrm>
        </p:grpSpPr>
        <p:sp>
          <p:nvSpPr>
            <p:cNvPr id="96" name="矩形 36"/>
            <p:cNvSpPr/>
            <p:nvPr/>
          </p:nvSpPr>
          <p:spPr>
            <a:xfrm>
              <a:off x="4179240" y="3881520"/>
              <a:ext cx="45000" cy="274680"/>
            </a:xfrm>
            <a:prstGeom prst="rect">
              <a:avLst/>
            </a:prstGeom>
            <a:solidFill>
              <a:srgbClr val="479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37"/>
            <p:cNvSpPr/>
            <p:nvPr/>
          </p:nvSpPr>
          <p:spPr>
            <a:xfrm>
              <a:off x="4041720" y="4035960"/>
              <a:ext cx="45360" cy="120240"/>
            </a:xfrm>
            <a:prstGeom prst="rect">
              <a:avLst/>
            </a:prstGeom>
            <a:solidFill>
              <a:srgbClr val="479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38"/>
            <p:cNvSpPr/>
            <p:nvPr/>
          </p:nvSpPr>
          <p:spPr>
            <a:xfrm>
              <a:off x="4110480" y="3953160"/>
              <a:ext cx="45360" cy="203040"/>
            </a:xfrm>
            <a:prstGeom prst="rect">
              <a:avLst/>
            </a:prstGeom>
            <a:solidFill>
              <a:srgbClr val="479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图片 39" descr=""/>
          <p:cNvPicPr/>
          <p:nvPr/>
        </p:nvPicPr>
        <p:blipFill>
          <a:blip r:embed="rId2"/>
          <a:stretch/>
        </p:blipFill>
        <p:spPr>
          <a:xfrm>
            <a:off x="4305240" y="1521000"/>
            <a:ext cx="172872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圆角矩形 15"/>
          <p:cNvSpPr/>
          <p:nvPr/>
        </p:nvSpPr>
        <p:spPr>
          <a:xfrm>
            <a:off x="314280" y="1270080"/>
            <a:ext cx="8515440" cy="4497480"/>
          </a:xfrm>
          <a:prstGeom prst="roundRect">
            <a:avLst>
              <a:gd name="adj" fmla="val 4606"/>
            </a:avLst>
          </a:prstGeom>
          <a:noFill/>
          <a:ln w="57240">
            <a:solidFill>
              <a:srgbClr val="479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2" descr=""/>
          <p:cNvPicPr/>
          <p:nvPr/>
        </p:nvPicPr>
        <p:blipFill>
          <a:blip r:embed="rId1"/>
          <a:stretch/>
        </p:blipFill>
        <p:spPr>
          <a:xfrm>
            <a:off x="6556320" y="522360"/>
            <a:ext cx="1517760" cy="1519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4"/>
          <p:cNvSpPr/>
          <p:nvPr/>
        </p:nvSpPr>
        <p:spPr>
          <a:xfrm>
            <a:off x="1042920" y="1441440"/>
            <a:ext cx="18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阅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85720" y="165420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2570040" y="165420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3087720" y="1441440"/>
            <a:ext cx="180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游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584280" y="215892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我的名字注定了与水结缘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585720" y="28224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左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1327320" y="2629080"/>
            <a:ext cx="38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微博运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3733920" y="28386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右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4471920" y="2629080"/>
            <a:ext cx="38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贴吧词汇教科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584280" y="348624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两手都要抓，两手都要硬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585720" y="41403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快发动技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2300400" y="3984480"/>
            <a:ext cx="134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GT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3676680" y="4133880"/>
            <a:ext cx="52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生活就是刷技能，你不认真对待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608040" y="4943520"/>
            <a:ext cx="41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795b9"/>
                </a:solidFill>
                <a:latin typeface="微软雅黑"/>
                <a:ea typeface="微软雅黑"/>
              </a:rPr>
              <a:t>它就开挂把你刷，你好，我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4718160" y="4737240"/>
            <a:ext cx="18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王海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34"/>
          <p:cNvSpPr/>
          <p:nvPr/>
        </p:nvSpPr>
        <p:spPr>
          <a:xfrm flipV="1">
            <a:off x="3130560" y="-360"/>
            <a:ext cx="1440" cy="1235160"/>
          </a:xfrm>
          <a:prstGeom prst="line">
            <a:avLst/>
          </a:prstGeom>
          <a:ln w="6480">
            <a:solidFill>
              <a:srgbClr val="4795b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35"/>
          <p:cNvSpPr/>
          <p:nvPr/>
        </p:nvSpPr>
        <p:spPr>
          <a:xfrm flipV="1">
            <a:off x="6000840" y="-360"/>
            <a:ext cx="1440" cy="1235160"/>
          </a:xfrm>
          <a:prstGeom prst="line">
            <a:avLst/>
          </a:prstGeom>
          <a:ln w="6480">
            <a:solidFill>
              <a:srgbClr val="4795b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直接连接符 2"/>
          <p:cNvSpPr/>
          <p:nvPr/>
        </p:nvSpPr>
        <p:spPr>
          <a:xfrm>
            <a:off x="825480" y="-506520"/>
            <a:ext cx="1440" cy="7804080"/>
          </a:xfrm>
          <a:prstGeom prst="line">
            <a:avLst/>
          </a:prstGeom>
          <a:ln w="38160">
            <a:solidFill>
              <a:srgbClr val="479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479520" y="3675240"/>
            <a:ext cx="691920" cy="691920"/>
            <a:chOff x="479520" y="3675240"/>
            <a:chExt cx="691920" cy="691920"/>
          </a:xfrm>
        </p:grpSpPr>
        <p:sp>
          <p:nvSpPr>
            <p:cNvPr id="121" name="椭圆 7"/>
            <p:cNvSpPr/>
            <p:nvPr/>
          </p:nvSpPr>
          <p:spPr>
            <a:xfrm>
              <a:off x="479520" y="3675240"/>
              <a:ext cx="691920" cy="6919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8"/>
            <p:cNvSpPr/>
            <p:nvPr/>
          </p:nvSpPr>
          <p:spPr>
            <a:xfrm>
              <a:off x="555480" y="3751200"/>
              <a:ext cx="539640" cy="539640"/>
            </a:xfrm>
            <a:prstGeom prst="ellipse">
              <a:avLst/>
            </a:prstGeom>
            <a:solidFill>
              <a:srgbClr val="479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6"/>
          <p:cNvGrpSpPr/>
          <p:nvPr/>
        </p:nvGrpSpPr>
        <p:grpSpPr>
          <a:xfrm>
            <a:off x="479520" y="4994280"/>
            <a:ext cx="691920" cy="692280"/>
            <a:chOff x="479520" y="4994280"/>
            <a:chExt cx="691920" cy="692280"/>
          </a:xfrm>
        </p:grpSpPr>
        <p:sp>
          <p:nvSpPr>
            <p:cNvPr id="124" name="椭圆 9"/>
            <p:cNvSpPr/>
            <p:nvPr/>
          </p:nvSpPr>
          <p:spPr>
            <a:xfrm>
              <a:off x="479520" y="4994280"/>
              <a:ext cx="691920" cy="692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0"/>
            <p:cNvSpPr/>
            <p:nvPr/>
          </p:nvSpPr>
          <p:spPr>
            <a:xfrm>
              <a:off x="555480" y="5070240"/>
              <a:ext cx="539640" cy="540000"/>
            </a:xfrm>
            <a:prstGeom prst="ellipse">
              <a:avLst/>
            </a:prstGeom>
            <a:solidFill>
              <a:srgbClr val="479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9"/>
          <p:cNvGrpSpPr/>
          <p:nvPr/>
        </p:nvGrpSpPr>
        <p:grpSpPr>
          <a:xfrm>
            <a:off x="479520" y="792000"/>
            <a:ext cx="8615160" cy="1130400"/>
            <a:chOff x="479520" y="792000"/>
            <a:chExt cx="8615160" cy="1130400"/>
          </a:xfrm>
        </p:grpSpPr>
        <p:grpSp>
          <p:nvGrpSpPr>
            <p:cNvPr id="127" name="Group 10"/>
            <p:cNvGrpSpPr/>
            <p:nvPr/>
          </p:nvGrpSpPr>
          <p:grpSpPr>
            <a:xfrm>
              <a:off x="479520" y="1045800"/>
              <a:ext cx="691920" cy="692280"/>
              <a:chOff x="479520" y="1045800"/>
              <a:chExt cx="691920" cy="692280"/>
            </a:xfrm>
          </p:grpSpPr>
          <p:sp>
            <p:nvSpPr>
              <p:cNvPr id="128" name="椭圆 3"/>
              <p:cNvSpPr/>
              <p:nvPr/>
            </p:nvSpPr>
            <p:spPr>
              <a:xfrm>
                <a:off x="479520" y="1045800"/>
                <a:ext cx="691920" cy="692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椭圆 4"/>
              <p:cNvSpPr/>
              <p:nvPr/>
            </p:nvSpPr>
            <p:spPr>
              <a:xfrm>
                <a:off x="555480" y="1121760"/>
                <a:ext cx="539640" cy="540000"/>
              </a:xfrm>
              <a:prstGeom prst="ellipse">
                <a:avLst/>
              </a:prstGeom>
              <a:solidFill>
                <a:srgbClr val="4795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Box 3"/>
            <p:cNvSpPr/>
            <p:nvPr/>
          </p:nvSpPr>
          <p:spPr>
            <a:xfrm>
              <a:off x="1416240" y="853560"/>
              <a:ext cx="668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软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合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30"/>
            <p:cNvSpPr/>
            <p:nvPr/>
          </p:nvSpPr>
          <p:spPr>
            <a:xfrm>
              <a:off x="2253240" y="792000"/>
              <a:ext cx="684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795b9"/>
                  </a:solidFill>
                  <a:latin typeface="微软雅黑"/>
                  <a:ea typeface="微软雅黑"/>
                </a:rPr>
                <a:t>只要您是软件作者、软件公司，您可以申请参与百度工具栏和地址栏产品合作、百度浏览器产品合作以及软件直接调用搜索合作等合作方式，在为您的软件用户提供高质量搜索服务的同时，您也可获得百度推广分成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3"/>
          <p:cNvSpPr/>
          <p:nvPr/>
        </p:nvSpPr>
        <p:spPr>
          <a:xfrm>
            <a:off x="1749600" y="1461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类型业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479520" y="2085840"/>
            <a:ext cx="8435880" cy="1068840"/>
            <a:chOff x="479520" y="2085840"/>
            <a:chExt cx="8435880" cy="1068840"/>
          </a:xfrm>
        </p:grpSpPr>
        <p:grpSp>
          <p:nvGrpSpPr>
            <p:cNvPr id="134" name="Group 17"/>
            <p:cNvGrpSpPr/>
            <p:nvPr/>
          </p:nvGrpSpPr>
          <p:grpSpPr>
            <a:xfrm>
              <a:off x="479520" y="2278080"/>
              <a:ext cx="691920" cy="691560"/>
              <a:chOff x="479520" y="2278080"/>
              <a:chExt cx="691920" cy="691560"/>
            </a:xfrm>
          </p:grpSpPr>
          <p:sp>
            <p:nvSpPr>
              <p:cNvPr id="135" name="椭圆 5"/>
              <p:cNvSpPr/>
              <p:nvPr/>
            </p:nvSpPr>
            <p:spPr>
              <a:xfrm>
                <a:off x="479520" y="2278080"/>
                <a:ext cx="691920" cy="6915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椭圆 6"/>
              <p:cNvSpPr/>
              <p:nvPr/>
            </p:nvSpPr>
            <p:spPr>
              <a:xfrm>
                <a:off x="555480" y="2354040"/>
                <a:ext cx="539640" cy="539280"/>
              </a:xfrm>
              <a:prstGeom prst="ellipse">
                <a:avLst/>
              </a:prstGeom>
              <a:solidFill>
                <a:srgbClr val="4795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Box 3"/>
            <p:cNvSpPr/>
            <p:nvPr/>
          </p:nvSpPr>
          <p:spPr>
            <a:xfrm>
              <a:off x="1416240" y="2085840"/>
              <a:ext cx="668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网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合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30"/>
            <p:cNvSpPr/>
            <p:nvPr/>
          </p:nvSpPr>
          <p:spPr>
            <a:xfrm>
              <a:off x="2253240" y="2208600"/>
              <a:ext cx="6662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795b9"/>
                  </a:solidFill>
                  <a:latin typeface="微软雅黑"/>
                  <a:ea typeface="微软雅黑"/>
                </a:rPr>
                <a:t>如果您拥有网站，您可申请网站搜索合作，通过调用百度搜索结果，可以向 用户提供搜索功能，并获得百度推广分成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3"/>
          <p:cNvSpPr/>
          <p:nvPr/>
        </p:nvSpPr>
        <p:spPr>
          <a:xfrm>
            <a:off x="1416600" y="34830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网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合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0"/>
          <p:cNvSpPr/>
          <p:nvPr/>
        </p:nvSpPr>
        <p:spPr>
          <a:xfrm>
            <a:off x="2254320" y="3605040"/>
            <a:ext cx="66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795b9"/>
                </a:solidFill>
                <a:latin typeface="微软雅黑"/>
                <a:ea typeface="微软雅黑"/>
              </a:rPr>
              <a:t>如果您是网吧软件提供商，可以通过设置浏览器首页为百度、百度地址栏合作和添加百度搜索桌面快捷等方式与百度展开合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1247760" y="4879800"/>
            <a:ext cx="101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其他合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0"/>
          <p:cNvSpPr/>
          <p:nvPr/>
        </p:nvSpPr>
        <p:spPr>
          <a:xfrm>
            <a:off x="2268360" y="4959360"/>
            <a:ext cx="666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795b9"/>
                </a:solidFill>
                <a:latin typeface="微软雅黑"/>
                <a:ea typeface="微软雅黑"/>
              </a:rPr>
              <a:t>我们与联通、电信、移动、手持设备，电脑终端等运营商有不同层次的战略或业务合作，为细分到地市区县的用户服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6"/>
          <p:cNvGrpSpPr/>
          <p:nvPr/>
        </p:nvGrpSpPr>
        <p:grpSpPr>
          <a:xfrm>
            <a:off x="1020600" y="1755720"/>
            <a:ext cx="8247240" cy="263520"/>
            <a:chOff x="1020600" y="1755720"/>
            <a:chExt cx="8247240" cy="263520"/>
          </a:xfrm>
        </p:grpSpPr>
        <p:sp>
          <p:nvSpPr>
            <p:cNvPr id="144" name="直接连接符 27"/>
            <p:cNvSpPr/>
            <p:nvPr/>
          </p:nvSpPr>
          <p:spPr>
            <a:xfrm>
              <a:off x="1020600" y="1755720"/>
              <a:ext cx="345960" cy="255240"/>
            </a:xfrm>
            <a:prstGeom prst="line">
              <a:avLst/>
            </a:prstGeom>
            <a:ln w="6480">
              <a:solidFill>
                <a:srgbClr val="7f7f7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31"/>
            <p:cNvSpPr/>
            <p:nvPr/>
          </p:nvSpPr>
          <p:spPr>
            <a:xfrm>
              <a:off x="1366560" y="2019240"/>
              <a:ext cx="7901280" cy="0"/>
            </a:xfrm>
            <a:prstGeom prst="line">
              <a:avLst/>
            </a:prstGeom>
            <a:ln w="6480">
              <a:solidFill>
                <a:srgbClr val="7f7f7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9"/>
          <p:cNvGrpSpPr/>
          <p:nvPr/>
        </p:nvGrpSpPr>
        <p:grpSpPr>
          <a:xfrm>
            <a:off x="968400" y="2998800"/>
            <a:ext cx="8245440" cy="262080"/>
            <a:chOff x="968400" y="2998800"/>
            <a:chExt cx="8245440" cy="262080"/>
          </a:xfrm>
        </p:grpSpPr>
        <p:sp>
          <p:nvSpPr>
            <p:cNvPr id="147" name="直接连接符 34"/>
            <p:cNvSpPr/>
            <p:nvPr/>
          </p:nvSpPr>
          <p:spPr>
            <a:xfrm>
              <a:off x="968400" y="2998800"/>
              <a:ext cx="345960" cy="253800"/>
            </a:xfrm>
            <a:prstGeom prst="line">
              <a:avLst/>
            </a:prstGeom>
            <a:ln w="6480">
              <a:solidFill>
                <a:srgbClr val="7f7f7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35"/>
            <p:cNvSpPr/>
            <p:nvPr/>
          </p:nvSpPr>
          <p:spPr>
            <a:xfrm>
              <a:off x="1314360" y="3260880"/>
              <a:ext cx="7899480" cy="0"/>
            </a:xfrm>
            <a:prstGeom prst="line">
              <a:avLst/>
            </a:prstGeom>
            <a:ln w="6480">
              <a:solidFill>
                <a:srgbClr val="7f7f7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32"/>
          <p:cNvGrpSpPr/>
          <p:nvPr/>
        </p:nvGrpSpPr>
        <p:grpSpPr>
          <a:xfrm>
            <a:off x="968400" y="4419720"/>
            <a:ext cx="8245440" cy="263520"/>
            <a:chOff x="968400" y="4419720"/>
            <a:chExt cx="8245440" cy="263520"/>
          </a:xfrm>
        </p:grpSpPr>
        <p:sp>
          <p:nvSpPr>
            <p:cNvPr id="150" name="直接连接符 37"/>
            <p:cNvSpPr/>
            <p:nvPr/>
          </p:nvSpPr>
          <p:spPr>
            <a:xfrm>
              <a:off x="968400" y="4419720"/>
              <a:ext cx="345960" cy="255240"/>
            </a:xfrm>
            <a:prstGeom prst="line">
              <a:avLst/>
            </a:prstGeom>
            <a:ln w="6480">
              <a:solidFill>
                <a:srgbClr val="7f7f7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38"/>
            <p:cNvSpPr/>
            <p:nvPr/>
          </p:nvSpPr>
          <p:spPr>
            <a:xfrm>
              <a:off x="1314360" y="4683240"/>
              <a:ext cx="7899480" cy="0"/>
            </a:xfrm>
            <a:prstGeom prst="line">
              <a:avLst/>
            </a:prstGeom>
            <a:ln w="6480">
              <a:solidFill>
                <a:srgbClr val="7f7f7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35"/>
          <p:cNvGrpSpPr/>
          <p:nvPr/>
        </p:nvGrpSpPr>
        <p:grpSpPr>
          <a:xfrm>
            <a:off x="965160" y="5699160"/>
            <a:ext cx="8247240" cy="263520"/>
            <a:chOff x="965160" y="5699160"/>
            <a:chExt cx="8247240" cy="263520"/>
          </a:xfrm>
        </p:grpSpPr>
        <p:sp>
          <p:nvSpPr>
            <p:cNvPr id="153" name="直接连接符 40"/>
            <p:cNvSpPr/>
            <p:nvPr/>
          </p:nvSpPr>
          <p:spPr>
            <a:xfrm>
              <a:off x="965160" y="5699160"/>
              <a:ext cx="345960" cy="255240"/>
            </a:xfrm>
            <a:prstGeom prst="line">
              <a:avLst/>
            </a:prstGeom>
            <a:ln w="6480">
              <a:solidFill>
                <a:srgbClr val="7f7f7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41"/>
            <p:cNvSpPr/>
            <p:nvPr/>
          </p:nvSpPr>
          <p:spPr>
            <a:xfrm>
              <a:off x="1311120" y="5962680"/>
              <a:ext cx="7901280" cy="0"/>
            </a:xfrm>
            <a:prstGeom prst="line">
              <a:avLst/>
            </a:prstGeom>
            <a:ln w="6480">
              <a:solidFill>
                <a:srgbClr val="7f7f7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30"/>
          <p:cNvSpPr/>
          <p:nvPr/>
        </p:nvSpPr>
        <p:spPr>
          <a:xfrm>
            <a:off x="2254320" y="5900760"/>
            <a:ext cx="6535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795b9"/>
                </a:solidFill>
                <a:latin typeface="微软雅黑"/>
                <a:ea typeface="微软雅黑"/>
              </a:rPr>
              <a:t>初始分成比例是</a:t>
            </a:r>
            <a:r>
              <a:rPr b="1" lang="en-US" sz="2800" spc="-1" strike="noStrike">
                <a:solidFill>
                  <a:srgbClr val="e98472"/>
                </a:solidFill>
                <a:latin typeface="微软雅黑"/>
                <a:ea typeface="微软雅黑"/>
              </a:rPr>
              <a:t>30%</a:t>
            </a:r>
            <a:r>
              <a:rPr b="1" lang="zh-CN" sz="1800" spc="-1" strike="noStrike">
                <a:solidFill>
                  <a:srgbClr val="4795b9"/>
                </a:solidFill>
                <a:latin typeface="微软雅黑"/>
                <a:ea typeface="微软雅黑"/>
              </a:rPr>
              <a:t>，长期合作最高可达</a:t>
            </a:r>
            <a:r>
              <a:rPr b="1" lang="en-US" sz="2800" spc="-1" strike="noStrike">
                <a:solidFill>
                  <a:srgbClr val="e98472"/>
                </a:solidFill>
                <a:latin typeface="微软雅黑"/>
                <a:ea typeface="微软雅黑"/>
              </a:rPr>
              <a:t>50%</a:t>
            </a:r>
            <a:r>
              <a:rPr b="1" lang="zh-CN" sz="1800" spc="-1" strike="noStrike">
                <a:solidFill>
                  <a:srgbClr val="4795b9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2809800" y="4994280"/>
            <a:ext cx="3524400" cy="984240"/>
            <a:chOff x="2809800" y="4994280"/>
            <a:chExt cx="3524400" cy="984240"/>
          </a:xfrm>
        </p:grpSpPr>
        <p:sp>
          <p:nvSpPr>
            <p:cNvPr id="157" name="圆角矩形 2"/>
            <p:cNvSpPr/>
            <p:nvPr/>
          </p:nvSpPr>
          <p:spPr>
            <a:xfrm>
              <a:off x="2809800" y="4994280"/>
              <a:ext cx="3524400" cy="984240"/>
            </a:xfrm>
            <a:prstGeom prst="roundRect">
              <a:avLst>
                <a:gd name="adj" fmla="val 16667"/>
              </a:avLst>
            </a:prstGeom>
            <a:solidFill>
              <a:srgbClr val="ece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3"/>
            <p:cNvSpPr/>
            <p:nvPr/>
          </p:nvSpPr>
          <p:spPr>
            <a:xfrm>
              <a:off x="3506040" y="519408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795b9"/>
                  </a:solidFill>
                  <a:latin typeface="微软雅黑"/>
                  <a:ea typeface="微软雅黑"/>
                </a:rPr>
                <a:t>引爆点流行三法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椭圆 5"/>
          <p:cNvSpPr/>
          <p:nvPr/>
        </p:nvSpPr>
        <p:spPr>
          <a:xfrm>
            <a:off x="1136520" y="1565280"/>
            <a:ext cx="1702080" cy="1701720"/>
          </a:xfrm>
          <a:prstGeom prst="ellipse">
            <a:avLst/>
          </a:prstGeom>
          <a:solidFill>
            <a:srgbClr val="ece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6"/>
          <p:cNvSpPr/>
          <p:nvPr/>
        </p:nvSpPr>
        <p:spPr>
          <a:xfrm>
            <a:off x="3720960" y="1565280"/>
            <a:ext cx="1702080" cy="1701720"/>
          </a:xfrm>
          <a:prstGeom prst="ellipse">
            <a:avLst/>
          </a:prstGeom>
          <a:solidFill>
            <a:srgbClr val="ece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7"/>
          <p:cNvSpPr/>
          <p:nvPr/>
        </p:nvSpPr>
        <p:spPr>
          <a:xfrm>
            <a:off x="6305400" y="1565280"/>
            <a:ext cx="1702080" cy="1701720"/>
          </a:xfrm>
          <a:prstGeom prst="ellipse">
            <a:avLst/>
          </a:prstGeom>
          <a:solidFill>
            <a:srgbClr val="ece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8"/>
          <p:cNvGrpSpPr/>
          <p:nvPr/>
        </p:nvGrpSpPr>
        <p:grpSpPr>
          <a:xfrm>
            <a:off x="1574640" y="2001960"/>
            <a:ext cx="825840" cy="826920"/>
            <a:chOff x="1574640" y="2001960"/>
            <a:chExt cx="825840" cy="826920"/>
          </a:xfrm>
        </p:grpSpPr>
        <p:sp>
          <p:nvSpPr>
            <p:cNvPr id="163" name="椭圆 8"/>
            <p:cNvSpPr/>
            <p:nvPr/>
          </p:nvSpPr>
          <p:spPr>
            <a:xfrm>
              <a:off x="1574640" y="2001960"/>
              <a:ext cx="825840" cy="826920"/>
            </a:xfrm>
            <a:prstGeom prst="ellipse">
              <a:avLst/>
            </a:prstGeom>
            <a:noFill/>
            <a:ln w="8892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1"/>
          <p:cNvGrpSpPr/>
          <p:nvPr/>
        </p:nvGrpSpPr>
        <p:grpSpPr>
          <a:xfrm>
            <a:off x="4159080" y="2001960"/>
            <a:ext cx="825840" cy="826920"/>
            <a:chOff x="4159080" y="2001960"/>
            <a:chExt cx="825840" cy="826920"/>
          </a:xfrm>
        </p:grpSpPr>
        <p:sp>
          <p:nvSpPr>
            <p:cNvPr id="165" name="椭圆 12"/>
            <p:cNvSpPr/>
            <p:nvPr/>
          </p:nvSpPr>
          <p:spPr>
            <a:xfrm>
              <a:off x="4159080" y="2001960"/>
              <a:ext cx="825840" cy="826920"/>
            </a:xfrm>
            <a:prstGeom prst="ellipse">
              <a:avLst/>
            </a:prstGeom>
            <a:noFill/>
            <a:ln w="8892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6743880" y="2001960"/>
            <a:ext cx="825480" cy="826920"/>
            <a:chOff x="6743880" y="2001960"/>
            <a:chExt cx="825480" cy="826920"/>
          </a:xfrm>
        </p:grpSpPr>
        <p:sp>
          <p:nvSpPr>
            <p:cNvPr id="167" name="椭圆 16"/>
            <p:cNvSpPr/>
            <p:nvPr/>
          </p:nvSpPr>
          <p:spPr>
            <a:xfrm>
              <a:off x="6743880" y="2001960"/>
              <a:ext cx="825480" cy="826920"/>
            </a:xfrm>
            <a:prstGeom prst="ellipse">
              <a:avLst/>
            </a:prstGeom>
            <a:noFill/>
            <a:ln w="8892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3"/>
          <p:cNvSpPr/>
          <p:nvPr/>
        </p:nvSpPr>
        <p:spPr>
          <a:xfrm>
            <a:off x="1257120" y="34545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别人物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734640" y="34545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着力因素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6426000" y="34545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威力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260280" y="174600"/>
            <a:ext cx="1765440" cy="1765440"/>
            <a:chOff x="260280" y="174600"/>
            <a:chExt cx="1765440" cy="1765440"/>
          </a:xfrm>
        </p:grpSpPr>
        <p:grpSp>
          <p:nvGrpSpPr>
            <p:cNvPr id="172" name="Group 3"/>
            <p:cNvGrpSpPr/>
            <p:nvPr/>
          </p:nvGrpSpPr>
          <p:grpSpPr>
            <a:xfrm>
              <a:off x="260280" y="174600"/>
              <a:ext cx="1765440" cy="1765440"/>
              <a:chOff x="260280" y="174600"/>
              <a:chExt cx="1765440" cy="1765440"/>
            </a:xfrm>
          </p:grpSpPr>
          <p:sp>
            <p:nvSpPr>
              <p:cNvPr id="173" name="椭圆 1"/>
              <p:cNvSpPr/>
              <p:nvPr/>
            </p:nvSpPr>
            <p:spPr>
              <a:xfrm rot="20700000">
                <a:off x="421920" y="336240"/>
                <a:ext cx="1441440" cy="1441440"/>
              </a:xfrm>
              <a:prstGeom prst="ellipse">
                <a:avLst/>
              </a:prstGeom>
              <a:solidFill>
                <a:srgbClr val="4795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三十二角星 2"/>
              <p:cNvSpPr/>
              <p:nvPr/>
            </p:nvSpPr>
            <p:spPr>
              <a:xfrm rot="20700000">
                <a:off x="526680" y="441360"/>
                <a:ext cx="1231560" cy="1231560"/>
              </a:xfrm>
              <a:custGeom>
                <a:avLst/>
                <a:gdLst>
                  <a:gd name="textAreaLeft" fmla="*/ 210960 w 1231560"/>
                  <a:gd name="textAreaRight" fmla="*/ 1020600 w 1231560"/>
                  <a:gd name="textAreaTop" fmla="*/ 210960 h 1231560"/>
                  <a:gd name="textAreaBottom" fmla="*/ 1020600 h 123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0" y="11675"/>
                    </a:lnTo>
                    <a:lnTo>
                      <a:pt x="198" y="12861"/>
                    </a:lnTo>
                    <a:lnTo>
                      <a:pt x="1151" y="13567"/>
                    </a:lnTo>
                    <a:lnTo>
                      <a:pt x="786" y="14846"/>
                    </a:lnTo>
                    <a:lnTo>
                      <a:pt x="1937" y="15513"/>
                    </a:lnTo>
                    <a:lnTo>
                      <a:pt x="1742" y="16682"/>
                    </a:lnTo>
                    <a:lnTo>
                      <a:pt x="2999" y="17117"/>
                    </a:lnTo>
                    <a:lnTo>
                      <a:pt x="3163" y="18437"/>
                    </a:lnTo>
                    <a:lnTo>
                      <a:pt x="4348" y="18490"/>
                    </a:lnTo>
                    <a:lnTo>
                      <a:pt x="4761" y="19754"/>
                    </a:lnTo>
                    <a:lnTo>
                      <a:pt x="5933" y="19579"/>
                    </a:lnTo>
                    <a:lnTo>
                      <a:pt x="6580" y="20741"/>
                    </a:lnTo>
                    <a:lnTo>
                      <a:pt x="7865" y="20399"/>
                    </a:lnTo>
                    <a:lnTo>
                      <a:pt x="8555" y="21364"/>
                    </a:lnTo>
                    <a:lnTo>
                      <a:pt x="9751" y="20783"/>
                    </a:lnTo>
                    <a:lnTo>
                      <a:pt x="10800" y="21600"/>
                    </a:lnTo>
                    <a:lnTo>
                      <a:pt x="11675" y="20800"/>
                    </a:lnTo>
                    <a:lnTo>
                      <a:pt x="12861" y="21402"/>
                    </a:lnTo>
                    <a:lnTo>
                      <a:pt x="13567" y="20449"/>
                    </a:lnTo>
                    <a:lnTo>
                      <a:pt x="14846" y="20814"/>
                    </a:lnTo>
                    <a:lnTo>
                      <a:pt x="15513" y="19663"/>
                    </a:lnTo>
                    <a:lnTo>
                      <a:pt x="16682" y="19858"/>
                    </a:lnTo>
                    <a:lnTo>
                      <a:pt x="17117" y="18601"/>
                    </a:lnTo>
                    <a:lnTo>
                      <a:pt x="18437" y="18437"/>
                    </a:lnTo>
                    <a:lnTo>
                      <a:pt x="18490" y="17252"/>
                    </a:lnTo>
                    <a:lnTo>
                      <a:pt x="19754" y="16839"/>
                    </a:lnTo>
                    <a:lnTo>
                      <a:pt x="19579" y="15667"/>
                    </a:lnTo>
                    <a:lnTo>
                      <a:pt x="20741" y="15020"/>
                    </a:lnTo>
                    <a:lnTo>
                      <a:pt x="20399" y="13735"/>
                    </a:lnTo>
                    <a:lnTo>
                      <a:pt x="21364" y="13045"/>
                    </a:lnTo>
                    <a:lnTo>
                      <a:pt x="20783" y="11849"/>
                    </a:lnTo>
                    <a:lnTo>
                      <a:pt x="21600" y="10800"/>
                    </a:lnTo>
                    <a:lnTo>
                      <a:pt x="20800" y="9925"/>
                    </a:lnTo>
                    <a:lnTo>
                      <a:pt x="21402" y="8739"/>
                    </a:lnTo>
                    <a:lnTo>
                      <a:pt x="20449" y="8033"/>
                    </a:lnTo>
                    <a:lnTo>
                      <a:pt x="20814" y="6754"/>
                    </a:lnTo>
                    <a:lnTo>
                      <a:pt x="19663" y="6087"/>
                    </a:lnTo>
                    <a:lnTo>
                      <a:pt x="19858" y="4918"/>
                    </a:lnTo>
                    <a:lnTo>
                      <a:pt x="18601" y="4483"/>
                    </a:lnTo>
                    <a:lnTo>
                      <a:pt x="18437" y="3163"/>
                    </a:lnTo>
                    <a:lnTo>
                      <a:pt x="17252" y="3110"/>
                    </a:lnTo>
                    <a:lnTo>
                      <a:pt x="16839" y="1846"/>
                    </a:lnTo>
                    <a:lnTo>
                      <a:pt x="15667" y="2021"/>
                    </a:lnTo>
                    <a:lnTo>
                      <a:pt x="15020" y="859"/>
                    </a:lnTo>
                    <a:lnTo>
                      <a:pt x="13735" y="1201"/>
                    </a:lnTo>
                    <a:lnTo>
                      <a:pt x="13045" y="236"/>
                    </a:lnTo>
                    <a:lnTo>
                      <a:pt x="11849" y="817"/>
                    </a:lnTo>
                    <a:lnTo>
                      <a:pt x="10800" y="0"/>
                    </a:lnTo>
                    <a:lnTo>
                      <a:pt x="9925" y="800"/>
                    </a:lnTo>
                    <a:lnTo>
                      <a:pt x="8739" y="198"/>
                    </a:lnTo>
                    <a:lnTo>
                      <a:pt x="8033" y="1151"/>
                    </a:lnTo>
                    <a:lnTo>
                      <a:pt x="6754" y="786"/>
                    </a:lnTo>
                    <a:lnTo>
                      <a:pt x="6087" y="1937"/>
                    </a:lnTo>
                    <a:lnTo>
                      <a:pt x="4918" y="1742"/>
                    </a:lnTo>
                    <a:lnTo>
                      <a:pt x="4483" y="2999"/>
                    </a:lnTo>
                    <a:lnTo>
                      <a:pt x="3163" y="3163"/>
                    </a:lnTo>
                    <a:lnTo>
                      <a:pt x="3110" y="4348"/>
                    </a:lnTo>
                    <a:lnTo>
                      <a:pt x="1846" y="4761"/>
                    </a:lnTo>
                    <a:lnTo>
                      <a:pt x="2021" y="5933"/>
                    </a:lnTo>
                    <a:lnTo>
                      <a:pt x="859" y="6580"/>
                    </a:lnTo>
                    <a:lnTo>
                      <a:pt x="1201" y="7865"/>
                    </a:lnTo>
                    <a:lnTo>
                      <a:pt x="236" y="8555"/>
                    </a:lnTo>
                    <a:lnTo>
                      <a:pt x="817" y="9751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Box 3"/>
            <p:cNvSpPr/>
            <p:nvPr/>
          </p:nvSpPr>
          <p:spPr>
            <a:xfrm rot="20700000">
              <a:off x="838080" y="57996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Box 3"/>
          <p:cNvSpPr/>
          <p:nvPr/>
        </p:nvSpPr>
        <p:spPr>
          <a:xfrm>
            <a:off x="2553480" y="480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3151440" y="1112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122720" y="588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5930280" y="673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8472"/>
                </a:solidFill>
                <a:latin typeface="微软雅黑"/>
                <a:ea typeface="微软雅黑"/>
              </a:rPr>
              <a:t>找对人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1"/>
          <p:cNvGrpSpPr/>
          <p:nvPr/>
        </p:nvGrpSpPr>
        <p:grpSpPr>
          <a:xfrm>
            <a:off x="949320" y="2282760"/>
            <a:ext cx="8815320" cy="974880"/>
            <a:chOff x="949320" y="2282760"/>
            <a:chExt cx="8815320" cy="974880"/>
          </a:xfrm>
        </p:grpSpPr>
        <p:grpSp>
          <p:nvGrpSpPr>
            <p:cNvPr id="181" name="Group 12"/>
            <p:cNvGrpSpPr/>
            <p:nvPr/>
          </p:nvGrpSpPr>
          <p:grpSpPr>
            <a:xfrm>
              <a:off x="949320" y="2282760"/>
              <a:ext cx="388080" cy="651600"/>
              <a:chOff x="949320" y="2282760"/>
              <a:chExt cx="388080" cy="651600"/>
            </a:xfrm>
          </p:grpSpPr>
          <p:sp>
            <p:nvSpPr>
              <p:cNvPr id="182" name="椭圆 10"/>
              <p:cNvSpPr/>
              <p:nvPr/>
            </p:nvSpPr>
            <p:spPr>
              <a:xfrm>
                <a:off x="949320" y="2282760"/>
                <a:ext cx="388080" cy="65160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0 h 651600"/>
                  <a:gd name="textAreaBottom" fmla="*/ 651960 h 651600"/>
                </a:gdLst>
                <a:ahLst/>
                <a:rect l="textAreaLeft" t="textAreaTop" r="textAreaRight" b="textAreaBottom"/>
                <a:pathLst>
                  <a:path w="388308" h="651476">
                    <a:moveTo>
                      <a:pt x="0" y="194154"/>
                    </a:moveTo>
                    <a:cubicBezTo>
                      <a:pt x="0" y="85575"/>
                      <a:pt x="86926" y="0"/>
                      <a:pt x="194154" y="0"/>
                    </a:cubicBezTo>
                    <a:cubicBezTo>
                      <a:pt x="301382" y="0"/>
                      <a:pt x="388308" y="86926"/>
                      <a:pt x="388308" y="194154"/>
                    </a:cubicBezTo>
                    <a:cubicBezTo>
                      <a:pt x="388308" y="301382"/>
                      <a:pt x="301382" y="651476"/>
                      <a:pt x="194154" y="651476"/>
                    </a:cubicBezTo>
                    <a:cubicBezTo>
                      <a:pt x="86926" y="651476"/>
                      <a:pt x="0" y="302733"/>
                      <a:pt x="0" y="194154"/>
                    </a:cubicBezTo>
                    <a:close/>
                  </a:path>
                </a:pathLst>
              </a:custGeom>
              <a:solidFill>
                <a:srgbClr val="4795b9"/>
              </a:solidFill>
              <a:ln w="12600">
                <a:solidFill>
                  <a:srgbClr val="ece8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椭圆 11"/>
              <p:cNvSpPr/>
              <p:nvPr/>
            </p:nvSpPr>
            <p:spPr>
              <a:xfrm>
                <a:off x="1018440" y="2358720"/>
                <a:ext cx="249840" cy="249840"/>
              </a:xfrm>
              <a:prstGeom prst="ellipse">
                <a:avLst/>
              </a:prstGeom>
              <a:solidFill>
                <a:srgbClr val="ece8e5"/>
              </a:solidFill>
              <a:ln w="12600">
                <a:solidFill>
                  <a:srgbClr val="ece8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15"/>
            <p:cNvGrpSpPr/>
            <p:nvPr/>
          </p:nvGrpSpPr>
          <p:grpSpPr>
            <a:xfrm>
              <a:off x="1143360" y="2608200"/>
              <a:ext cx="3688920" cy="649440"/>
              <a:chOff x="1143360" y="2608200"/>
              <a:chExt cx="3688920" cy="649440"/>
            </a:xfrm>
          </p:grpSpPr>
          <p:sp>
            <p:nvSpPr>
              <p:cNvPr id="185" name="直接连接符 14"/>
              <p:cNvSpPr/>
              <p:nvPr/>
            </p:nvSpPr>
            <p:spPr>
              <a:xfrm>
                <a:off x="1731600" y="2998800"/>
                <a:ext cx="0" cy="0"/>
              </a:xfrm>
              <a:prstGeom prst="line">
                <a:avLst/>
              </a:prstGeom>
              <a:ln w="936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直接连接符 15"/>
              <p:cNvSpPr/>
              <p:nvPr/>
            </p:nvSpPr>
            <p:spPr>
              <a:xfrm>
                <a:off x="1143360" y="2993400"/>
                <a:ext cx="3426120" cy="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直接连接符 16"/>
              <p:cNvSpPr/>
              <p:nvPr/>
            </p:nvSpPr>
            <p:spPr>
              <a:xfrm flipV="1">
                <a:off x="4569480" y="2608200"/>
                <a:ext cx="64440" cy="3848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直接连接符 17"/>
              <p:cNvSpPr/>
              <p:nvPr/>
            </p:nvSpPr>
            <p:spPr>
              <a:xfrm>
                <a:off x="4634280" y="2608560"/>
                <a:ext cx="108720" cy="64908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直接连接符 18"/>
              <p:cNvSpPr/>
              <p:nvPr/>
            </p:nvSpPr>
            <p:spPr>
              <a:xfrm flipV="1">
                <a:off x="4743000" y="2872440"/>
                <a:ext cx="64440" cy="3848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直接连接符 19"/>
              <p:cNvSpPr/>
              <p:nvPr/>
            </p:nvSpPr>
            <p:spPr>
              <a:xfrm flipH="1" flipV="1">
                <a:off x="4811040" y="2872800"/>
                <a:ext cx="21240" cy="1274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TextBox 3"/>
            <p:cNvSpPr/>
            <p:nvPr/>
          </p:nvSpPr>
          <p:spPr>
            <a:xfrm>
              <a:off x="1982160" y="229860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什么是对的人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22"/>
            <p:cNvSpPr/>
            <p:nvPr/>
          </p:nvSpPr>
          <p:spPr>
            <a:xfrm>
              <a:off x="4832640" y="3000240"/>
              <a:ext cx="4932000" cy="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3"/>
          <p:cNvSpPr/>
          <p:nvPr/>
        </p:nvSpPr>
        <p:spPr>
          <a:xfrm>
            <a:off x="5020200" y="4002120"/>
            <a:ext cx="24865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很多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这些人有影响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某一个领域有所建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27" descr=""/>
          <p:cNvPicPr/>
          <p:nvPr/>
        </p:nvPicPr>
        <p:blipFill>
          <a:blip r:embed="rId1"/>
          <a:srcRect l="41425" t="0" r="0" b="0"/>
          <a:stretch/>
        </p:blipFill>
        <p:spPr>
          <a:xfrm>
            <a:off x="711360" y="3228840"/>
            <a:ext cx="318132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260280" y="174600"/>
            <a:ext cx="1765440" cy="1765440"/>
            <a:chOff x="260280" y="174600"/>
            <a:chExt cx="1765440" cy="1765440"/>
          </a:xfrm>
        </p:grpSpPr>
        <p:grpSp>
          <p:nvGrpSpPr>
            <p:cNvPr id="196" name="Group 3"/>
            <p:cNvGrpSpPr/>
            <p:nvPr/>
          </p:nvGrpSpPr>
          <p:grpSpPr>
            <a:xfrm>
              <a:off x="260280" y="174600"/>
              <a:ext cx="1765440" cy="1765440"/>
              <a:chOff x="260280" y="174600"/>
              <a:chExt cx="1765440" cy="1765440"/>
            </a:xfrm>
          </p:grpSpPr>
          <p:sp>
            <p:nvSpPr>
              <p:cNvPr id="197" name="椭圆 1"/>
              <p:cNvSpPr/>
              <p:nvPr/>
            </p:nvSpPr>
            <p:spPr>
              <a:xfrm rot="20700000">
                <a:off x="421920" y="336240"/>
                <a:ext cx="1441440" cy="1441440"/>
              </a:xfrm>
              <a:prstGeom prst="ellipse">
                <a:avLst/>
              </a:prstGeom>
              <a:solidFill>
                <a:srgbClr val="4795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三十二角星 2"/>
              <p:cNvSpPr/>
              <p:nvPr/>
            </p:nvSpPr>
            <p:spPr>
              <a:xfrm rot="20700000">
                <a:off x="526680" y="441360"/>
                <a:ext cx="1231560" cy="1231560"/>
              </a:xfrm>
              <a:custGeom>
                <a:avLst/>
                <a:gdLst>
                  <a:gd name="textAreaLeft" fmla="*/ 210960 w 1231560"/>
                  <a:gd name="textAreaRight" fmla="*/ 1020600 w 1231560"/>
                  <a:gd name="textAreaTop" fmla="*/ 210960 h 1231560"/>
                  <a:gd name="textAreaBottom" fmla="*/ 1020600 h 123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0" y="11675"/>
                    </a:lnTo>
                    <a:lnTo>
                      <a:pt x="198" y="12861"/>
                    </a:lnTo>
                    <a:lnTo>
                      <a:pt x="1151" y="13567"/>
                    </a:lnTo>
                    <a:lnTo>
                      <a:pt x="786" y="14846"/>
                    </a:lnTo>
                    <a:lnTo>
                      <a:pt x="1937" y="15513"/>
                    </a:lnTo>
                    <a:lnTo>
                      <a:pt x="1742" y="16682"/>
                    </a:lnTo>
                    <a:lnTo>
                      <a:pt x="2999" y="17117"/>
                    </a:lnTo>
                    <a:lnTo>
                      <a:pt x="3163" y="18437"/>
                    </a:lnTo>
                    <a:lnTo>
                      <a:pt x="4348" y="18490"/>
                    </a:lnTo>
                    <a:lnTo>
                      <a:pt x="4761" y="19754"/>
                    </a:lnTo>
                    <a:lnTo>
                      <a:pt x="5933" y="19579"/>
                    </a:lnTo>
                    <a:lnTo>
                      <a:pt x="6580" y="20741"/>
                    </a:lnTo>
                    <a:lnTo>
                      <a:pt x="7865" y="20399"/>
                    </a:lnTo>
                    <a:lnTo>
                      <a:pt x="8555" y="21364"/>
                    </a:lnTo>
                    <a:lnTo>
                      <a:pt x="9751" y="20783"/>
                    </a:lnTo>
                    <a:lnTo>
                      <a:pt x="10800" y="21600"/>
                    </a:lnTo>
                    <a:lnTo>
                      <a:pt x="11675" y="20800"/>
                    </a:lnTo>
                    <a:lnTo>
                      <a:pt x="12861" y="21402"/>
                    </a:lnTo>
                    <a:lnTo>
                      <a:pt x="13567" y="20449"/>
                    </a:lnTo>
                    <a:lnTo>
                      <a:pt x="14846" y="20814"/>
                    </a:lnTo>
                    <a:lnTo>
                      <a:pt x="15513" y="19663"/>
                    </a:lnTo>
                    <a:lnTo>
                      <a:pt x="16682" y="19858"/>
                    </a:lnTo>
                    <a:lnTo>
                      <a:pt x="17117" y="18601"/>
                    </a:lnTo>
                    <a:lnTo>
                      <a:pt x="18437" y="18437"/>
                    </a:lnTo>
                    <a:lnTo>
                      <a:pt x="18490" y="17252"/>
                    </a:lnTo>
                    <a:lnTo>
                      <a:pt x="19754" y="16839"/>
                    </a:lnTo>
                    <a:lnTo>
                      <a:pt x="19579" y="15667"/>
                    </a:lnTo>
                    <a:lnTo>
                      <a:pt x="20741" y="15020"/>
                    </a:lnTo>
                    <a:lnTo>
                      <a:pt x="20399" y="13735"/>
                    </a:lnTo>
                    <a:lnTo>
                      <a:pt x="21364" y="13045"/>
                    </a:lnTo>
                    <a:lnTo>
                      <a:pt x="20783" y="11849"/>
                    </a:lnTo>
                    <a:lnTo>
                      <a:pt x="21600" y="10800"/>
                    </a:lnTo>
                    <a:lnTo>
                      <a:pt x="20800" y="9925"/>
                    </a:lnTo>
                    <a:lnTo>
                      <a:pt x="21402" y="8739"/>
                    </a:lnTo>
                    <a:lnTo>
                      <a:pt x="20449" y="8033"/>
                    </a:lnTo>
                    <a:lnTo>
                      <a:pt x="20814" y="6754"/>
                    </a:lnTo>
                    <a:lnTo>
                      <a:pt x="19663" y="6087"/>
                    </a:lnTo>
                    <a:lnTo>
                      <a:pt x="19858" y="4918"/>
                    </a:lnTo>
                    <a:lnTo>
                      <a:pt x="18601" y="4483"/>
                    </a:lnTo>
                    <a:lnTo>
                      <a:pt x="18437" y="3163"/>
                    </a:lnTo>
                    <a:lnTo>
                      <a:pt x="17252" y="3110"/>
                    </a:lnTo>
                    <a:lnTo>
                      <a:pt x="16839" y="1846"/>
                    </a:lnTo>
                    <a:lnTo>
                      <a:pt x="15667" y="2021"/>
                    </a:lnTo>
                    <a:lnTo>
                      <a:pt x="15020" y="859"/>
                    </a:lnTo>
                    <a:lnTo>
                      <a:pt x="13735" y="1201"/>
                    </a:lnTo>
                    <a:lnTo>
                      <a:pt x="13045" y="236"/>
                    </a:lnTo>
                    <a:lnTo>
                      <a:pt x="11849" y="817"/>
                    </a:lnTo>
                    <a:lnTo>
                      <a:pt x="10800" y="0"/>
                    </a:lnTo>
                    <a:lnTo>
                      <a:pt x="9925" y="800"/>
                    </a:lnTo>
                    <a:lnTo>
                      <a:pt x="8739" y="198"/>
                    </a:lnTo>
                    <a:lnTo>
                      <a:pt x="8033" y="1151"/>
                    </a:lnTo>
                    <a:lnTo>
                      <a:pt x="6754" y="786"/>
                    </a:lnTo>
                    <a:lnTo>
                      <a:pt x="6087" y="1937"/>
                    </a:lnTo>
                    <a:lnTo>
                      <a:pt x="4918" y="1742"/>
                    </a:lnTo>
                    <a:lnTo>
                      <a:pt x="4483" y="2999"/>
                    </a:lnTo>
                    <a:lnTo>
                      <a:pt x="3163" y="3163"/>
                    </a:lnTo>
                    <a:lnTo>
                      <a:pt x="3110" y="4348"/>
                    </a:lnTo>
                    <a:lnTo>
                      <a:pt x="1846" y="4761"/>
                    </a:lnTo>
                    <a:lnTo>
                      <a:pt x="2021" y="5933"/>
                    </a:lnTo>
                    <a:lnTo>
                      <a:pt x="859" y="6580"/>
                    </a:lnTo>
                    <a:lnTo>
                      <a:pt x="1201" y="7865"/>
                    </a:lnTo>
                    <a:lnTo>
                      <a:pt x="236" y="8555"/>
                    </a:lnTo>
                    <a:lnTo>
                      <a:pt x="817" y="9751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Box 3"/>
            <p:cNvSpPr/>
            <p:nvPr/>
          </p:nvSpPr>
          <p:spPr>
            <a:xfrm rot="20700000">
              <a:off x="838080" y="57996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附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因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3"/>
          <p:cNvSpPr/>
          <p:nvPr/>
        </p:nvSpPr>
        <p:spPr>
          <a:xfrm>
            <a:off x="2553480" y="480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触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151440" y="1112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4229280" y="588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5930280" y="673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8472"/>
                </a:solidFill>
                <a:latin typeface="微软雅黑"/>
                <a:ea typeface="微软雅黑"/>
              </a:rPr>
              <a:t>有态度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1"/>
          <p:cNvGrpSpPr/>
          <p:nvPr/>
        </p:nvGrpSpPr>
        <p:grpSpPr>
          <a:xfrm>
            <a:off x="949320" y="2282760"/>
            <a:ext cx="8815320" cy="974880"/>
            <a:chOff x="949320" y="2282760"/>
            <a:chExt cx="8815320" cy="974880"/>
          </a:xfrm>
        </p:grpSpPr>
        <p:grpSp>
          <p:nvGrpSpPr>
            <p:cNvPr id="205" name="Group 12"/>
            <p:cNvGrpSpPr/>
            <p:nvPr/>
          </p:nvGrpSpPr>
          <p:grpSpPr>
            <a:xfrm>
              <a:off x="949320" y="2282760"/>
              <a:ext cx="388080" cy="651600"/>
              <a:chOff x="949320" y="2282760"/>
              <a:chExt cx="388080" cy="651600"/>
            </a:xfrm>
          </p:grpSpPr>
          <p:sp>
            <p:nvSpPr>
              <p:cNvPr id="206" name="椭圆 10"/>
              <p:cNvSpPr/>
              <p:nvPr/>
            </p:nvSpPr>
            <p:spPr>
              <a:xfrm>
                <a:off x="949320" y="2282760"/>
                <a:ext cx="388080" cy="65160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0 h 651600"/>
                  <a:gd name="textAreaBottom" fmla="*/ 651960 h 651600"/>
                </a:gdLst>
                <a:ahLst/>
                <a:rect l="textAreaLeft" t="textAreaTop" r="textAreaRight" b="textAreaBottom"/>
                <a:pathLst>
                  <a:path w="388308" h="651476">
                    <a:moveTo>
                      <a:pt x="0" y="194154"/>
                    </a:moveTo>
                    <a:cubicBezTo>
                      <a:pt x="0" y="85575"/>
                      <a:pt x="86926" y="0"/>
                      <a:pt x="194154" y="0"/>
                    </a:cubicBezTo>
                    <a:cubicBezTo>
                      <a:pt x="301382" y="0"/>
                      <a:pt x="388308" y="86926"/>
                      <a:pt x="388308" y="194154"/>
                    </a:cubicBezTo>
                    <a:cubicBezTo>
                      <a:pt x="388308" y="301382"/>
                      <a:pt x="301382" y="651476"/>
                      <a:pt x="194154" y="651476"/>
                    </a:cubicBezTo>
                    <a:cubicBezTo>
                      <a:pt x="86926" y="651476"/>
                      <a:pt x="0" y="302733"/>
                      <a:pt x="0" y="194154"/>
                    </a:cubicBezTo>
                    <a:close/>
                  </a:path>
                </a:pathLst>
              </a:custGeom>
              <a:solidFill>
                <a:srgbClr val="4795b9"/>
              </a:solidFill>
              <a:ln w="12600">
                <a:solidFill>
                  <a:srgbClr val="ece8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椭圆 11"/>
              <p:cNvSpPr/>
              <p:nvPr/>
            </p:nvSpPr>
            <p:spPr>
              <a:xfrm>
                <a:off x="1018440" y="2358720"/>
                <a:ext cx="249840" cy="249840"/>
              </a:xfrm>
              <a:prstGeom prst="ellipse">
                <a:avLst/>
              </a:prstGeom>
              <a:solidFill>
                <a:srgbClr val="ece8e5"/>
              </a:solidFill>
              <a:ln w="12600">
                <a:solidFill>
                  <a:srgbClr val="ece8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5"/>
            <p:cNvGrpSpPr/>
            <p:nvPr/>
          </p:nvGrpSpPr>
          <p:grpSpPr>
            <a:xfrm>
              <a:off x="1143360" y="2608200"/>
              <a:ext cx="3688920" cy="649440"/>
              <a:chOff x="1143360" y="2608200"/>
              <a:chExt cx="3688920" cy="649440"/>
            </a:xfrm>
          </p:grpSpPr>
          <p:sp>
            <p:nvSpPr>
              <p:cNvPr id="209" name="直接连接符 14"/>
              <p:cNvSpPr/>
              <p:nvPr/>
            </p:nvSpPr>
            <p:spPr>
              <a:xfrm>
                <a:off x="1731600" y="2998800"/>
                <a:ext cx="0" cy="0"/>
              </a:xfrm>
              <a:prstGeom prst="line">
                <a:avLst/>
              </a:prstGeom>
              <a:ln w="936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直接连接符 15"/>
              <p:cNvSpPr/>
              <p:nvPr/>
            </p:nvSpPr>
            <p:spPr>
              <a:xfrm>
                <a:off x="1143360" y="2993400"/>
                <a:ext cx="3426120" cy="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直接连接符 16"/>
              <p:cNvSpPr/>
              <p:nvPr/>
            </p:nvSpPr>
            <p:spPr>
              <a:xfrm flipV="1">
                <a:off x="4569480" y="2608200"/>
                <a:ext cx="64440" cy="3848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直接连接符 17"/>
              <p:cNvSpPr/>
              <p:nvPr/>
            </p:nvSpPr>
            <p:spPr>
              <a:xfrm>
                <a:off x="4634280" y="2608560"/>
                <a:ext cx="108720" cy="64908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直接连接符 18"/>
              <p:cNvSpPr/>
              <p:nvPr/>
            </p:nvSpPr>
            <p:spPr>
              <a:xfrm flipV="1">
                <a:off x="4743000" y="2872440"/>
                <a:ext cx="64440" cy="3848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直接连接符 19"/>
              <p:cNvSpPr/>
              <p:nvPr/>
            </p:nvSpPr>
            <p:spPr>
              <a:xfrm flipH="1" flipV="1">
                <a:off x="4811040" y="2872800"/>
                <a:ext cx="21240" cy="1274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TextBox 3"/>
            <p:cNvSpPr/>
            <p:nvPr/>
          </p:nvSpPr>
          <p:spPr>
            <a:xfrm>
              <a:off x="1461240" y="2285280"/>
              <a:ext cx="337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如何有态度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22"/>
            <p:cNvSpPr/>
            <p:nvPr/>
          </p:nvSpPr>
          <p:spPr>
            <a:xfrm>
              <a:off x="4832640" y="3000240"/>
              <a:ext cx="4932000" cy="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Box 3"/>
          <p:cNvSpPr/>
          <p:nvPr/>
        </p:nvSpPr>
        <p:spPr>
          <a:xfrm>
            <a:off x="4902480" y="3440160"/>
            <a:ext cx="20599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面面俱到，针对某一类人群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鲜明的观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20" descr=""/>
          <p:cNvPicPr/>
          <p:nvPr/>
        </p:nvPicPr>
        <p:blipFill>
          <a:blip r:embed="rId1"/>
          <a:stretch/>
        </p:blipFill>
        <p:spPr>
          <a:xfrm>
            <a:off x="200160" y="3581280"/>
            <a:ext cx="4913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260280" y="174600"/>
            <a:ext cx="1765440" cy="1765440"/>
            <a:chOff x="260280" y="174600"/>
            <a:chExt cx="1765440" cy="1765440"/>
          </a:xfrm>
        </p:grpSpPr>
        <p:grpSp>
          <p:nvGrpSpPr>
            <p:cNvPr id="220" name="Group 3"/>
            <p:cNvGrpSpPr/>
            <p:nvPr/>
          </p:nvGrpSpPr>
          <p:grpSpPr>
            <a:xfrm>
              <a:off x="260280" y="174600"/>
              <a:ext cx="1765440" cy="1765440"/>
              <a:chOff x="260280" y="174600"/>
              <a:chExt cx="1765440" cy="1765440"/>
            </a:xfrm>
          </p:grpSpPr>
          <p:sp>
            <p:nvSpPr>
              <p:cNvPr id="221" name="椭圆 1"/>
              <p:cNvSpPr/>
              <p:nvPr/>
            </p:nvSpPr>
            <p:spPr>
              <a:xfrm rot="20700000">
                <a:off x="421920" y="336240"/>
                <a:ext cx="1441440" cy="1441440"/>
              </a:xfrm>
              <a:prstGeom prst="ellipse">
                <a:avLst/>
              </a:prstGeom>
              <a:solidFill>
                <a:srgbClr val="4795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三十二角星 2"/>
              <p:cNvSpPr/>
              <p:nvPr/>
            </p:nvSpPr>
            <p:spPr>
              <a:xfrm rot="20700000">
                <a:off x="526680" y="441360"/>
                <a:ext cx="1231560" cy="1231560"/>
              </a:xfrm>
              <a:custGeom>
                <a:avLst/>
                <a:gdLst>
                  <a:gd name="textAreaLeft" fmla="*/ 210960 w 1231560"/>
                  <a:gd name="textAreaRight" fmla="*/ 1020600 w 1231560"/>
                  <a:gd name="textAreaTop" fmla="*/ 210960 h 1231560"/>
                  <a:gd name="textAreaBottom" fmla="*/ 1020600 h 123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0" y="11675"/>
                    </a:lnTo>
                    <a:lnTo>
                      <a:pt x="198" y="12861"/>
                    </a:lnTo>
                    <a:lnTo>
                      <a:pt x="1151" y="13567"/>
                    </a:lnTo>
                    <a:lnTo>
                      <a:pt x="786" y="14846"/>
                    </a:lnTo>
                    <a:lnTo>
                      <a:pt x="1937" y="15513"/>
                    </a:lnTo>
                    <a:lnTo>
                      <a:pt x="1742" y="16682"/>
                    </a:lnTo>
                    <a:lnTo>
                      <a:pt x="2999" y="17117"/>
                    </a:lnTo>
                    <a:lnTo>
                      <a:pt x="3163" y="18437"/>
                    </a:lnTo>
                    <a:lnTo>
                      <a:pt x="4348" y="18490"/>
                    </a:lnTo>
                    <a:lnTo>
                      <a:pt x="4761" y="19754"/>
                    </a:lnTo>
                    <a:lnTo>
                      <a:pt x="5933" y="19579"/>
                    </a:lnTo>
                    <a:lnTo>
                      <a:pt x="6580" y="20741"/>
                    </a:lnTo>
                    <a:lnTo>
                      <a:pt x="7865" y="20399"/>
                    </a:lnTo>
                    <a:lnTo>
                      <a:pt x="8555" y="21364"/>
                    </a:lnTo>
                    <a:lnTo>
                      <a:pt x="9751" y="20783"/>
                    </a:lnTo>
                    <a:lnTo>
                      <a:pt x="10800" y="21600"/>
                    </a:lnTo>
                    <a:lnTo>
                      <a:pt x="11675" y="20800"/>
                    </a:lnTo>
                    <a:lnTo>
                      <a:pt x="12861" y="21402"/>
                    </a:lnTo>
                    <a:lnTo>
                      <a:pt x="13567" y="20449"/>
                    </a:lnTo>
                    <a:lnTo>
                      <a:pt x="14846" y="20814"/>
                    </a:lnTo>
                    <a:lnTo>
                      <a:pt x="15513" y="19663"/>
                    </a:lnTo>
                    <a:lnTo>
                      <a:pt x="16682" y="19858"/>
                    </a:lnTo>
                    <a:lnTo>
                      <a:pt x="17117" y="18601"/>
                    </a:lnTo>
                    <a:lnTo>
                      <a:pt x="18437" y="18437"/>
                    </a:lnTo>
                    <a:lnTo>
                      <a:pt x="18490" y="17252"/>
                    </a:lnTo>
                    <a:lnTo>
                      <a:pt x="19754" y="16839"/>
                    </a:lnTo>
                    <a:lnTo>
                      <a:pt x="19579" y="15667"/>
                    </a:lnTo>
                    <a:lnTo>
                      <a:pt x="20741" y="15020"/>
                    </a:lnTo>
                    <a:lnTo>
                      <a:pt x="20399" y="13735"/>
                    </a:lnTo>
                    <a:lnTo>
                      <a:pt x="21364" y="13045"/>
                    </a:lnTo>
                    <a:lnTo>
                      <a:pt x="20783" y="11849"/>
                    </a:lnTo>
                    <a:lnTo>
                      <a:pt x="21600" y="10800"/>
                    </a:lnTo>
                    <a:lnTo>
                      <a:pt x="20800" y="9925"/>
                    </a:lnTo>
                    <a:lnTo>
                      <a:pt x="21402" y="8739"/>
                    </a:lnTo>
                    <a:lnTo>
                      <a:pt x="20449" y="8033"/>
                    </a:lnTo>
                    <a:lnTo>
                      <a:pt x="20814" y="6754"/>
                    </a:lnTo>
                    <a:lnTo>
                      <a:pt x="19663" y="6087"/>
                    </a:lnTo>
                    <a:lnTo>
                      <a:pt x="19858" y="4918"/>
                    </a:lnTo>
                    <a:lnTo>
                      <a:pt x="18601" y="4483"/>
                    </a:lnTo>
                    <a:lnTo>
                      <a:pt x="18437" y="3163"/>
                    </a:lnTo>
                    <a:lnTo>
                      <a:pt x="17252" y="3110"/>
                    </a:lnTo>
                    <a:lnTo>
                      <a:pt x="16839" y="1846"/>
                    </a:lnTo>
                    <a:lnTo>
                      <a:pt x="15667" y="2021"/>
                    </a:lnTo>
                    <a:lnTo>
                      <a:pt x="15020" y="859"/>
                    </a:lnTo>
                    <a:lnTo>
                      <a:pt x="13735" y="1201"/>
                    </a:lnTo>
                    <a:lnTo>
                      <a:pt x="13045" y="236"/>
                    </a:lnTo>
                    <a:lnTo>
                      <a:pt x="11849" y="817"/>
                    </a:lnTo>
                    <a:lnTo>
                      <a:pt x="10800" y="0"/>
                    </a:lnTo>
                    <a:lnTo>
                      <a:pt x="9925" y="800"/>
                    </a:lnTo>
                    <a:lnTo>
                      <a:pt x="8739" y="198"/>
                    </a:lnTo>
                    <a:lnTo>
                      <a:pt x="8033" y="1151"/>
                    </a:lnTo>
                    <a:lnTo>
                      <a:pt x="6754" y="786"/>
                    </a:lnTo>
                    <a:lnTo>
                      <a:pt x="6087" y="1937"/>
                    </a:lnTo>
                    <a:lnTo>
                      <a:pt x="4918" y="1742"/>
                    </a:lnTo>
                    <a:lnTo>
                      <a:pt x="4483" y="2999"/>
                    </a:lnTo>
                    <a:lnTo>
                      <a:pt x="3163" y="3163"/>
                    </a:lnTo>
                    <a:lnTo>
                      <a:pt x="3110" y="4348"/>
                    </a:lnTo>
                    <a:lnTo>
                      <a:pt x="1846" y="4761"/>
                    </a:lnTo>
                    <a:lnTo>
                      <a:pt x="2021" y="5933"/>
                    </a:lnTo>
                    <a:lnTo>
                      <a:pt x="859" y="6580"/>
                    </a:lnTo>
                    <a:lnTo>
                      <a:pt x="1201" y="7865"/>
                    </a:lnTo>
                    <a:lnTo>
                      <a:pt x="236" y="8555"/>
                    </a:lnTo>
                    <a:lnTo>
                      <a:pt x="817" y="9751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TextBox 3"/>
            <p:cNvSpPr/>
            <p:nvPr/>
          </p:nvSpPr>
          <p:spPr>
            <a:xfrm rot="20700000">
              <a:off x="838080" y="57996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环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威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3"/>
          <p:cNvSpPr/>
          <p:nvPr/>
        </p:nvSpPr>
        <p:spPr>
          <a:xfrm>
            <a:off x="2446560" y="480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破窗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3662640" y="1297080"/>
            <a:ext cx="13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0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762520" y="6732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8472"/>
                </a:solidFill>
                <a:latin typeface="微软雅黑"/>
                <a:ea typeface="微软雅黑"/>
              </a:rPr>
              <a:t>顺势而为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0"/>
          <p:cNvGrpSpPr/>
          <p:nvPr/>
        </p:nvGrpSpPr>
        <p:grpSpPr>
          <a:xfrm>
            <a:off x="949320" y="2282760"/>
            <a:ext cx="8815320" cy="974880"/>
            <a:chOff x="949320" y="2282760"/>
            <a:chExt cx="8815320" cy="974880"/>
          </a:xfrm>
        </p:grpSpPr>
        <p:grpSp>
          <p:nvGrpSpPr>
            <p:cNvPr id="228" name="Group 11"/>
            <p:cNvGrpSpPr/>
            <p:nvPr/>
          </p:nvGrpSpPr>
          <p:grpSpPr>
            <a:xfrm>
              <a:off x="949320" y="2282760"/>
              <a:ext cx="388080" cy="651600"/>
              <a:chOff x="949320" y="2282760"/>
              <a:chExt cx="388080" cy="651600"/>
            </a:xfrm>
          </p:grpSpPr>
          <p:sp>
            <p:nvSpPr>
              <p:cNvPr id="229" name="椭圆 10"/>
              <p:cNvSpPr/>
              <p:nvPr/>
            </p:nvSpPr>
            <p:spPr>
              <a:xfrm>
                <a:off x="949320" y="2282760"/>
                <a:ext cx="388080" cy="65160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0 h 651600"/>
                  <a:gd name="textAreaBottom" fmla="*/ 651960 h 651600"/>
                </a:gdLst>
                <a:ahLst/>
                <a:rect l="textAreaLeft" t="textAreaTop" r="textAreaRight" b="textAreaBottom"/>
                <a:pathLst>
                  <a:path w="388308" h="651476">
                    <a:moveTo>
                      <a:pt x="0" y="194154"/>
                    </a:moveTo>
                    <a:cubicBezTo>
                      <a:pt x="0" y="85575"/>
                      <a:pt x="86926" y="0"/>
                      <a:pt x="194154" y="0"/>
                    </a:cubicBezTo>
                    <a:cubicBezTo>
                      <a:pt x="301382" y="0"/>
                      <a:pt x="388308" y="86926"/>
                      <a:pt x="388308" y="194154"/>
                    </a:cubicBezTo>
                    <a:cubicBezTo>
                      <a:pt x="388308" y="301382"/>
                      <a:pt x="301382" y="651476"/>
                      <a:pt x="194154" y="651476"/>
                    </a:cubicBezTo>
                    <a:cubicBezTo>
                      <a:pt x="86926" y="651476"/>
                      <a:pt x="0" y="302733"/>
                      <a:pt x="0" y="194154"/>
                    </a:cubicBezTo>
                    <a:close/>
                  </a:path>
                </a:pathLst>
              </a:custGeom>
              <a:solidFill>
                <a:srgbClr val="4795b9"/>
              </a:solidFill>
              <a:ln w="12600">
                <a:solidFill>
                  <a:srgbClr val="ece8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椭圆 11"/>
              <p:cNvSpPr/>
              <p:nvPr/>
            </p:nvSpPr>
            <p:spPr>
              <a:xfrm>
                <a:off x="1018440" y="2358720"/>
                <a:ext cx="249840" cy="249840"/>
              </a:xfrm>
              <a:prstGeom prst="ellipse">
                <a:avLst/>
              </a:prstGeom>
              <a:solidFill>
                <a:srgbClr val="ece8e5"/>
              </a:solidFill>
              <a:ln w="12600">
                <a:solidFill>
                  <a:srgbClr val="ece8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4"/>
            <p:cNvGrpSpPr/>
            <p:nvPr/>
          </p:nvGrpSpPr>
          <p:grpSpPr>
            <a:xfrm>
              <a:off x="1143360" y="2608200"/>
              <a:ext cx="3688920" cy="649440"/>
              <a:chOff x="1143360" y="2608200"/>
              <a:chExt cx="3688920" cy="649440"/>
            </a:xfrm>
          </p:grpSpPr>
          <p:sp>
            <p:nvSpPr>
              <p:cNvPr id="232" name="直接连接符 14"/>
              <p:cNvSpPr/>
              <p:nvPr/>
            </p:nvSpPr>
            <p:spPr>
              <a:xfrm>
                <a:off x="1731600" y="2998800"/>
                <a:ext cx="0" cy="0"/>
              </a:xfrm>
              <a:prstGeom prst="line">
                <a:avLst/>
              </a:prstGeom>
              <a:ln w="936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15"/>
              <p:cNvSpPr/>
              <p:nvPr/>
            </p:nvSpPr>
            <p:spPr>
              <a:xfrm>
                <a:off x="1143360" y="2993400"/>
                <a:ext cx="3426120" cy="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16"/>
              <p:cNvSpPr/>
              <p:nvPr/>
            </p:nvSpPr>
            <p:spPr>
              <a:xfrm flipV="1">
                <a:off x="4569480" y="2608200"/>
                <a:ext cx="64440" cy="3848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17"/>
              <p:cNvSpPr/>
              <p:nvPr/>
            </p:nvSpPr>
            <p:spPr>
              <a:xfrm>
                <a:off x="4634280" y="2608560"/>
                <a:ext cx="108720" cy="64908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18"/>
              <p:cNvSpPr/>
              <p:nvPr/>
            </p:nvSpPr>
            <p:spPr>
              <a:xfrm flipV="1">
                <a:off x="4743000" y="2872440"/>
                <a:ext cx="64440" cy="3848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19"/>
              <p:cNvSpPr/>
              <p:nvPr/>
            </p:nvSpPr>
            <p:spPr>
              <a:xfrm flipH="1" flipV="1">
                <a:off x="4811040" y="2872800"/>
                <a:ext cx="21240" cy="127440"/>
              </a:xfrm>
              <a:prstGeom prst="line">
                <a:avLst/>
              </a:prstGeom>
              <a:ln w="12600">
                <a:solidFill>
                  <a:srgbClr val="4795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TextBox 3"/>
            <p:cNvSpPr/>
            <p:nvPr/>
          </p:nvSpPr>
          <p:spPr>
            <a:xfrm>
              <a:off x="1461240" y="2285280"/>
              <a:ext cx="337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什么是“势”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22"/>
            <p:cNvSpPr/>
            <p:nvPr/>
          </p:nvSpPr>
          <p:spPr>
            <a:xfrm>
              <a:off x="4832640" y="3000240"/>
              <a:ext cx="4932000" cy="0"/>
            </a:xfrm>
            <a:prstGeom prst="line">
              <a:avLst/>
            </a:prstGeom>
            <a:ln w="12600">
              <a:solidFill>
                <a:srgbClr val="4795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图片 23" descr=""/>
          <p:cNvPicPr/>
          <p:nvPr/>
        </p:nvPicPr>
        <p:blipFill>
          <a:blip r:embed="rId1"/>
          <a:stretch/>
        </p:blipFill>
        <p:spPr>
          <a:xfrm>
            <a:off x="2568600" y="3238560"/>
            <a:ext cx="3709800" cy="55609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"/>
          <p:cNvSpPr/>
          <p:nvPr/>
        </p:nvSpPr>
        <p:spPr>
          <a:xfrm>
            <a:off x="1758240" y="4581360"/>
            <a:ext cx="1206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效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6129360" y="4506840"/>
            <a:ext cx="2059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本身的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21:01:00Z</dcterms:created>
  <dc:creator>dandoliya</dc:creator>
  <dc:description/>
  <cp:keywords/>
  <dc:language>en-US</dc:language>
  <cp:lastModifiedBy>a</cp:lastModifiedBy>
  <dcterms:modified xsi:type="dcterms:W3CDTF">2014-07-22T02:54:38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