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267D-AD0E-4AE0-8513-8FAE8659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BD2-AEC6-4450-89A1-8DD742C6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48D-3F67-4943-950B-ED3917CB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7ACA-4671-4B0E-A85D-8EDDCB89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4B08-BB9E-4714-8051-CEDCF7EC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5BF0-1ECB-4169-84A8-0DED9213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DC2B-D8B4-4B4D-B711-B2868127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AB7A-4C91-4DBF-8883-636225F8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CFAA-E15D-4D1A-9195-3AD678FF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22EB-0E64-4CA7-9E4B-E335296E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AD61-4300-4781-82D4-D82965B7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8A3-0591-440A-A419-F1104528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C991-661E-48DD-9082-11B798C6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26B6-9306-4B21-B583-97AEBD8B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9E16-D660-4F9E-AF25-895C47C1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2A10-4A9F-4631-9077-025F643A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3108-63F8-42B7-9DC1-E9409DE3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4A92-9FA4-410C-AE82-FECFD372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20F00-CD69-4A36-A424-7011CE03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2CB25-29F4-4F3F-A447-01A465AE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79A48-0512-4121-9339-F7775A47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CF0DB-655C-4D14-874D-B8E7305C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E4D-F686-46A2-AE59-0A74122A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C865B-174F-4535-94BD-D474F975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1B749-A49D-423A-AA18-FF7B097B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5F6E-7598-4DA4-9B49-DD3FC379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AA838-E703-4A13-8053-112E33B7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9D565-C635-40D0-BE08-023AC80F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070B1-8A77-425A-99C4-830B9144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B764C-CAE4-4EE5-A430-6AD682B4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29C4E-6E80-4C59-944B-98B0320F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1EBD9-F729-4F15-AA56-E3293B62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95B7D-C1BA-408B-9CE8-F80EBC5C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023-8CDB-4355-B653-C987317E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BDE58-D994-492E-9074-F1FCD14D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640F3-ACD6-4D7B-AB4E-1E7A103F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0A532-7C5D-43B8-913C-52E08A3B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B6665-FD0D-4AA2-8C4B-36427F9D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614D7-221D-4936-9914-9C928E5C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8B417-89EE-42F4-884E-FA81CACB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728C8-07AF-4EF1-88AF-23A34B31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88C38-13D2-44B7-84FC-89BED4EA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0F06D-E79C-4730-8EDB-A1240064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AE52-C0E0-46E6-95C6-7092DB43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9B6-B978-40AC-B6FE-B824F2D7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1E4-3999-4D31-B140-D05D6F60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47AD-BC79-4122-B085-E1887355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59C-3835-41B3-9FC0-4E7E6166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3E6D-FD16-442A-8D8D-7773262F099A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F463-440B-4977-AA06-831A497A29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8908-8F5C-43BD-BF09-7FA38F3EE1A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CE60-F56B-4B40-955E-636089C2A8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C397-211C-4522-AC09-47A2C20395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:\Program Files\Microsoft Office\OFFICE11\MSOHTMED.EXE" TargetMode="External"/><Relationship Id="rId2" Type="http://schemas.openxmlformats.org/officeDocument/2006/relationships/hyperlink" Target="C:\Program Files\Microsoft Office\OFFICE11\MSOHTMED.EXE" TargetMode="External"/><Relationship Id="rId3" Type="http://schemas.openxmlformats.org/officeDocument/2006/relationships/hyperlink" Target="C:\Program Files\Microsoft Office\OFFICE11\MSOHTMED.EXE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Oval 2">
            <a:hlinkClick r:id="rId1"/>
          </p:cNvPr>
          <p:cNvSpPr/>
          <p:nvPr/>
        </p:nvSpPr>
        <p:spPr>
          <a:xfrm>
            <a:off x="1979640" y="-204840"/>
            <a:ext cx="689040" cy="681120"/>
          </a:xfrm>
          <a:prstGeom prst="ellipse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">
            <a:hlinkClick r:id="rId2"/>
          </p:cNvPr>
          <p:cNvSpPr/>
          <p:nvPr/>
        </p:nvSpPr>
        <p:spPr>
          <a:xfrm>
            <a:off x="-598320" y="-204840"/>
            <a:ext cx="6541920" cy="6545160"/>
          </a:xfrm>
          <a:prstGeom prst="ellipse">
            <a:avLst/>
          </a:prstGeom>
          <a:solidFill>
            <a:srgbClr val="55b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">
            <a:hlinkClick r:id="rId3"/>
          </p:cNvPr>
          <p:cNvSpPr/>
          <p:nvPr/>
        </p:nvSpPr>
        <p:spPr>
          <a:xfrm>
            <a:off x="8245440" y="1300320"/>
            <a:ext cx="1224000" cy="1223640"/>
          </a:xfrm>
          <a:prstGeom prst="ellipse">
            <a:avLst/>
          </a:prstGeom>
          <a:solidFill>
            <a:srgbClr val="a7b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209680" y="172728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2"/>
          <p:cNvPicPr/>
          <p:nvPr/>
        </p:nvPicPr>
        <p:blipFill>
          <a:blip r:embed="rId4"/>
          <a:stretch/>
        </p:blipFill>
        <p:spPr>
          <a:xfrm>
            <a:off x="6012000" y="3429000"/>
            <a:ext cx="2622240" cy="266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图片1副本"/>
          <p:cNvPicPr/>
          <p:nvPr/>
        </p:nvPicPr>
        <p:blipFill>
          <a:blip r:embed="rId5"/>
          <a:stretch/>
        </p:blipFill>
        <p:spPr>
          <a:xfrm>
            <a:off x="922320" y="476280"/>
            <a:ext cx="3505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5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73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3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31">
                                          <p:stCondLst>
                                            <p:cond delay="631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16">
                                          <p:stCondLst>
                                            <p:cond delay="125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6">
                                          <p:stCondLst>
                                            <p:cond delay="1573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5" fill="hold">
                                          <p:stCondLst>
                                            <p:cond delay="617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58" fill="hold">
                                          <p:stCondLst>
                                            <p:cond delay="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5" fill="hold">
                                          <p:stCondLst>
                                            <p:cond delay="1247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58" fill="hold">
                                          <p:stCondLst>
                                            <p:cond delay="1271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5" fill="hold">
                                          <p:stCondLst>
                                            <p:cond delay="156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58" fill="hold">
                                          <p:stCondLst>
                                            <p:cond delay="158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5" fill="hold">
                                          <p:stCondLst>
                                            <p:cond delay="1717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58" fill="hold">
                                          <p:stCondLst>
                                            <p:cond delay="17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34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9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98">
                                          <p:stCondLst>
                                            <p:cond delay="39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99">
                                          <p:stCondLst>
                                            <p:cond delay="79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8">
                                          <p:stCondLst>
                                            <p:cond delay="99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16" fill="hold">
                                          <p:stCondLst>
                                            <p:cond delay="39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00" fill="hold">
                                          <p:stCondLst>
                                            <p:cond delay="40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16" fill="hold">
                                          <p:stCondLst>
                                            <p:cond delay="78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00" fill="hold">
                                          <p:stCondLst>
                                            <p:cond delay="803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6" fill="hold">
                                          <p:stCondLst>
                                            <p:cond delay="98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6" fill="hold">
                                          <p:stCondLst>
                                            <p:cond delay="108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00" fill="hold">
                                          <p:stCondLst>
                                            <p:cond delay="11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58 -0.280709 C -0.006357 -0.304128 0.047896 -0.327526 0.067272 -0.327526 C 0.187403 -0.327526 0.311409 0.038297 0.311409 0.404097 C 0.311409 0.219727 0.373413 0.038275 0.431541 0.038275 C 0.493544 0.038275 0.551672 0.222646 0.551672 0.404097 C 0.551672 0.313383 0.582674 0.219727 0.613675 0.219727 C 0.644677 0.219727 0.675679 0.310441 0.675679 0.404097 C 0.675679 0.35728 0.691179 0.313383 0.70668 0.313383 C 0.722181 0.313383 0.737682 0.3602 0.737682 0.404097 C 0.737682 0.380678 0.745431 0.35728 0.753182 0.35728 C 0.757058 0.35728 0.768682 0.3807 0.768682 0.404097 C 0.768682 0.392399 0.772559 0.380678 0.776434 0.380678 C 0.776434 0.383597 0.784184 0.392377 0.784184 0.404097 C 0.784184 0.398237 0.784184 0.392399 0.788058 0.392399 C 0.788058 0.395318 0.791935 0.398259 0.791935 0.404097 C 0.791935 0.401178 0.791935 0.398237 0.791935 0.395318 C 0.79581 0.395318 0.79581 0.398237 0.79581 0.401178 C 0.799685 0.401178 0.799685 0.398259 0.799685 0.395318 C 0.803559 0.395318 0.803559 0.398237 0.803559 0.401178 E">
                                      <p:cBhvr>
                                        <p:cTn id="57" dur="33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 rot="562200">
            <a:off x="1589400" y="3071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57a2f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 rot="20521800">
            <a:off x="3458880" y="1334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8583"/>
                </a:solidFill>
                <a:latin typeface="黑体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 rot="330000">
            <a:off x="8071560" y="3071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6345d"/>
                </a:solidFill>
                <a:latin typeface="黑体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 flipH="1">
            <a:off x="7740720" y="5734080"/>
            <a:ext cx="1403280" cy="574560"/>
          </a:xfrm>
          <a:custGeom>
            <a:avLst/>
            <a:gdLst>
              <a:gd name="textAreaLeft" fmla="*/ 360 w 1403280"/>
              <a:gd name="textAreaRight" fmla="*/ 1404000 w 140328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59040" y="3519000"/>
            <a:ext cx="3893400" cy="3056760"/>
            <a:chOff x="59040" y="3519000"/>
            <a:chExt cx="3893400" cy="3056760"/>
          </a:xfrm>
        </p:grpSpPr>
        <p:pic>
          <p:nvPicPr>
            <p:cNvPr id="175" name="Picture 7" descr="6"/>
            <p:cNvPicPr/>
            <p:nvPr/>
          </p:nvPicPr>
          <p:blipFill>
            <a:blip r:embed="rId1"/>
            <a:stretch/>
          </p:blipFill>
          <p:spPr>
            <a:xfrm rot="16440000">
              <a:off x="603000" y="3193920"/>
              <a:ext cx="2805120" cy="370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8" descr="2"/>
            <p:cNvPicPr/>
            <p:nvPr/>
          </p:nvPicPr>
          <p:blipFill>
            <a:blip r:embed="rId2"/>
            <a:stretch/>
          </p:blipFill>
          <p:spPr>
            <a:xfrm>
              <a:off x="152280" y="4133160"/>
              <a:ext cx="3482280" cy="21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Group 9"/>
          <p:cNvGrpSpPr/>
          <p:nvPr/>
        </p:nvGrpSpPr>
        <p:grpSpPr>
          <a:xfrm>
            <a:off x="5181480" y="283680"/>
            <a:ext cx="3897000" cy="3691800"/>
            <a:chOff x="5181480" y="283680"/>
            <a:chExt cx="3897000" cy="3691800"/>
          </a:xfrm>
        </p:grpSpPr>
        <p:pic>
          <p:nvPicPr>
            <p:cNvPr id="178" name="Picture 10" descr="14"/>
            <p:cNvPicPr/>
            <p:nvPr/>
          </p:nvPicPr>
          <p:blipFill>
            <a:blip r:embed="rId3">
              <a:lum contrast="12000"/>
            </a:blip>
            <a:srcRect l="0" t="0" r="-394" b="-130"/>
            <a:stretch/>
          </p:blipFill>
          <p:spPr>
            <a:xfrm rot="6720000">
              <a:off x="5765400" y="579240"/>
              <a:ext cx="2729160" cy="31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1" descr="3"/>
            <p:cNvPicPr/>
            <p:nvPr/>
          </p:nvPicPr>
          <p:blipFill>
            <a:blip r:embed="rId4"/>
            <a:stretch/>
          </p:blipFill>
          <p:spPr>
            <a:xfrm rot="600000">
              <a:off x="5723280" y="1384560"/>
              <a:ext cx="2808360" cy="175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Group 12"/>
          <p:cNvGrpSpPr/>
          <p:nvPr/>
        </p:nvGrpSpPr>
        <p:grpSpPr>
          <a:xfrm>
            <a:off x="2529720" y="1199880"/>
            <a:ext cx="3908520" cy="3956760"/>
            <a:chOff x="2529720" y="1199880"/>
            <a:chExt cx="3908520" cy="3956760"/>
          </a:xfrm>
        </p:grpSpPr>
        <p:pic>
          <p:nvPicPr>
            <p:cNvPr id="181" name="Picture 13" descr="8"/>
            <p:cNvPicPr/>
            <p:nvPr/>
          </p:nvPicPr>
          <p:blipFill>
            <a:blip r:embed="rId5"/>
            <a:stretch/>
          </p:blipFill>
          <p:spPr>
            <a:xfrm rot="21300000">
              <a:off x="2836080" y="1343160"/>
              <a:ext cx="3448800" cy="36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4" descr="1"/>
            <p:cNvPicPr/>
            <p:nvPr/>
          </p:nvPicPr>
          <p:blipFill>
            <a:blip r:embed="rId6"/>
            <a:stretch/>
          </p:blipFill>
          <p:spPr>
            <a:xfrm rot="20940000">
              <a:off x="2700360" y="2365560"/>
              <a:ext cx="3383280" cy="211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9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9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7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7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9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9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uanqibazuo副本"/>
          <p:cNvPicPr/>
          <p:nvPr/>
        </p:nvPicPr>
        <p:blipFill>
          <a:blip r:embed="rId1"/>
          <a:stretch/>
        </p:blipFill>
        <p:spPr>
          <a:xfrm>
            <a:off x="539640" y="-595440"/>
            <a:ext cx="7758360" cy="5824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4"/>
          <p:cNvPicPr/>
          <p:nvPr/>
        </p:nvPicPr>
        <p:blipFill>
          <a:blip r:embed="rId2"/>
          <a:stretch/>
        </p:blipFill>
        <p:spPr>
          <a:xfrm>
            <a:off x="684360" y="1197000"/>
            <a:ext cx="792000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11"/>
          <p:cNvPicPr/>
          <p:nvPr/>
        </p:nvPicPr>
        <p:blipFill>
          <a:blip r:embed="rId1"/>
          <a:stretch/>
        </p:blipFill>
        <p:spPr>
          <a:xfrm>
            <a:off x="431640" y="333360"/>
            <a:ext cx="8604360" cy="6270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7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57120" y="393840"/>
            <a:ext cx="8636040" cy="649116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4"/>
          <p:cNvGrpSpPr/>
          <p:nvPr/>
        </p:nvGrpSpPr>
        <p:grpSpPr>
          <a:xfrm>
            <a:off x="1187280" y="1008000"/>
            <a:ext cx="3313440" cy="1916280"/>
            <a:chOff x="1187280" y="1008000"/>
            <a:chExt cx="3313440" cy="1916280"/>
          </a:xfrm>
        </p:grpSpPr>
        <p:sp>
          <p:nvSpPr>
            <p:cNvPr id="188" name="AutoShape 5"/>
            <p:cNvSpPr/>
            <p:nvPr/>
          </p:nvSpPr>
          <p:spPr>
            <a:xfrm>
              <a:off x="1187280" y="1008000"/>
              <a:ext cx="3313440" cy="1557360"/>
            </a:xfrm>
            <a:prstGeom prst="roundRect">
              <a:avLst>
                <a:gd name="adj" fmla="val 16667"/>
              </a:avLst>
            </a:prstGeom>
            <a:solidFill>
              <a:srgbClr val="54cbd8">
                <a:alpha val="60000"/>
              </a:srgbClr>
            </a:solidFill>
            <a:ln w="28440">
              <a:solidFill>
                <a:srgbClr val="8c2c6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6" descr="a4"/>
            <p:cNvPicPr/>
            <p:nvPr/>
          </p:nvPicPr>
          <p:blipFill>
            <a:blip r:embed="rId3"/>
            <a:srcRect l="0" t="73330" r="4827" b="7218"/>
            <a:stretch/>
          </p:blipFill>
          <p:spPr>
            <a:xfrm>
              <a:off x="1402920" y="2534400"/>
              <a:ext cx="2819520" cy="38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Group 7"/>
          <p:cNvGrpSpPr/>
          <p:nvPr/>
        </p:nvGrpSpPr>
        <p:grpSpPr>
          <a:xfrm>
            <a:off x="3706920" y="3216240"/>
            <a:ext cx="4897080" cy="2590560"/>
            <a:chOff x="3706920" y="3216240"/>
            <a:chExt cx="4897080" cy="2590560"/>
          </a:xfrm>
        </p:grpSpPr>
        <p:sp>
          <p:nvSpPr>
            <p:cNvPr id="191" name="AutoShape 8"/>
            <p:cNvSpPr/>
            <p:nvPr/>
          </p:nvSpPr>
          <p:spPr>
            <a:xfrm>
              <a:off x="3706920" y="3935880"/>
              <a:ext cx="4824000" cy="1870920"/>
            </a:xfrm>
            <a:prstGeom prst="roundRect">
              <a:avLst>
                <a:gd name="adj" fmla="val 16667"/>
              </a:avLst>
            </a:prstGeom>
            <a:solidFill>
              <a:srgbClr val="ffb89b">
                <a:alpha val="80000"/>
              </a:srgbClr>
            </a:solidFill>
            <a:ln w="28440">
              <a:solidFill>
                <a:srgbClr val="be1481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9" descr="a1"/>
            <p:cNvPicPr/>
            <p:nvPr/>
          </p:nvPicPr>
          <p:blipFill>
            <a:blip r:embed="rId4"/>
            <a:srcRect l="3775" t="0" r="0" b="74338"/>
            <a:stretch/>
          </p:blipFill>
          <p:spPr>
            <a:xfrm>
              <a:off x="3781440" y="3216240"/>
              <a:ext cx="4822560" cy="72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Group 10"/>
          <p:cNvGrpSpPr/>
          <p:nvPr/>
        </p:nvGrpSpPr>
        <p:grpSpPr>
          <a:xfrm>
            <a:off x="539640" y="3718080"/>
            <a:ext cx="2664000" cy="1655640"/>
            <a:chOff x="539640" y="3718080"/>
            <a:chExt cx="2664000" cy="1655640"/>
          </a:xfrm>
        </p:grpSpPr>
        <p:sp>
          <p:nvSpPr>
            <p:cNvPr id="194" name="AutoShape 11"/>
            <p:cNvSpPr/>
            <p:nvPr/>
          </p:nvSpPr>
          <p:spPr>
            <a:xfrm>
              <a:off x="539640" y="4220280"/>
              <a:ext cx="2663640" cy="1153440"/>
            </a:xfrm>
            <a:prstGeom prst="roundRect">
              <a:avLst>
                <a:gd name="adj" fmla="val 16667"/>
              </a:avLst>
            </a:prstGeom>
            <a:solidFill>
              <a:srgbClr val="ccff66"/>
            </a:solidFill>
            <a:ln w="28440">
              <a:solidFill>
                <a:srgbClr val="7b276b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12" descr="a2"/>
            <p:cNvPicPr/>
            <p:nvPr/>
          </p:nvPicPr>
          <p:blipFill>
            <a:blip r:embed="rId5"/>
            <a:srcRect l="0" t="0" r="0" b="66048"/>
            <a:stretch/>
          </p:blipFill>
          <p:spPr>
            <a:xfrm>
              <a:off x="540000" y="3718080"/>
              <a:ext cx="2663640" cy="52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Group 13"/>
          <p:cNvGrpSpPr/>
          <p:nvPr/>
        </p:nvGrpSpPr>
        <p:grpSpPr>
          <a:xfrm>
            <a:off x="5148360" y="1125360"/>
            <a:ext cx="2952720" cy="1749600"/>
            <a:chOff x="5148360" y="1125360"/>
            <a:chExt cx="2952720" cy="1749600"/>
          </a:xfrm>
        </p:grpSpPr>
        <p:sp>
          <p:nvSpPr>
            <p:cNvPr id="197" name="AutoShape 14"/>
            <p:cNvSpPr/>
            <p:nvPr/>
          </p:nvSpPr>
          <p:spPr>
            <a:xfrm>
              <a:off x="5148360" y="1125360"/>
              <a:ext cx="2952720" cy="1150920"/>
            </a:xfrm>
            <a:prstGeom prst="roundRect">
              <a:avLst>
                <a:gd name="adj" fmla="val 16667"/>
              </a:avLst>
            </a:prstGeom>
            <a:solidFill>
              <a:srgbClr val="fdfa6a">
                <a:alpha val="60000"/>
              </a:srgbClr>
            </a:solidFill>
            <a:ln w="28440">
              <a:solidFill>
                <a:srgbClr val="be1481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Picture 15" descr="a3"/>
            <p:cNvPicPr/>
            <p:nvPr/>
          </p:nvPicPr>
          <p:blipFill>
            <a:blip r:embed="rId6"/>
            <a:srcRect l="7630" t="71671" r="8197" b="0"/>
            <a:stretch/>
          </p:blipFill>
          <p:spPr>
            <a:xfrm>
              <a:off x="5219280" y="2255400"/>
              <a:ext cx="2590920" cy="61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1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9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66667E-006 1.85185E-006 L 1.66667E-006 -0.02107 E">
                                      <p:cBhvr>
                                        <p:cTn id="114" dur="8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图片1"/>
          <p:cNvPicPr/>
          <p:nvPr/>
        </p:nvPicPr>
        <p:blipFill>
          <a:blip r:embed="rId1"/>
          <a:stretch/>
        </p:blipFill>
        <p:spPr>
          <a:xfrm>
            <a:off x="3348000" y="3313080"/>
            <a:ext cx="2955960" cy="3645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图片1副本"/>
          <p:cNvPicPr/>
          <p:nvPr/>
        </p:nvPicPr>
        <p:blipFill>
          <a:blip r:embed="rId2"/>
          <a:srcRect l="0" t="24897" r="0" b="60752"/>
          <a:stretch/>
        </p:blipFill>
        <p:spPr>
          <a:xfrm>
            <a:off x="2728800" y="1673280"/>
            <a:ext cx="421956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9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201"/>
                            </p:stCondLst>
                            <p:childTnLst>
                              <p:par>
                                <p:cTn id="141" nodeType="afterEffect" fill="hold" presetClass="exit" presetID="1">
                                  <p:stCondLst>
                                    <p:cond delay="799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9T06:51:51Z</dcterms:modified>
  <cp:revision>1</cp:revision>
  <dc:subject/>
  <dc:title>PowerPoint 演示文稿</dc:title>
</cp:coreProperties>
</file>