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00F-8731-45DD-AF6D-8796EFB1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64D-3508-4E0A-837C-653CA400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ABF5C-E90C-41E8-A843-70AA480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034C5-7F2D-4A15-96FE-185EBF1A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BB87D-4197-4B04-8D51-1E972344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164E1-096E-4012-94F1-FBBD818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4D21E-C7C8-4CC8-A8CC-1B6029D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D7FE0-970F-4319-80FF-58C3B05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A5144-887A-429E-8E75-FA05EB74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F16F9-FE92-4DD0-85FF-8A5B4DE7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38AA7-B4BF-44F9-A00B-A0EF8467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9FB15-95CC-4D29-8C58-5894F4A8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3AF-1326-4648-849D-E305070A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E3EF6-F03F-497B-B83D-3555A5E5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7ACC1-7BFA-42B5-86F2-AD90FDE9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C1CB7-30DA-4C2C-A72B-FE981486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D6032-8945-415B-9F0D-DB8D5FB7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F565D-8D68-4507-B3D9-6BECECE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DB746-B7CB-424A-90BD-0C548EB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1471-4DB3-4FA1-BD99-6D3B2CF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A4729-88A2-48BB-8919-FE9C72D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20D77-D98D-4D4F-AB73-8D9A9FD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9A5C9-3688-4FD7-A426-576488B3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A53-ABCB-471D-AB77-BADA80B7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8776A-FEFC-4C0A-8F0B-56378C02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80A1A-A34C-4C11-9A3B-2663CC70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A5080-8817-41B3-8B75-4B709C3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7E065-59D7-454E-9C57-D090F9A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80F9D-D026-4E84-9CB6-B81D0322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206A-C64F-4589-B189-85855E7C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3F687-1AF4-40A3-AE23-892A47BD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F2F7F-3865-4F25-AFE3-83AE9D06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1546F-EBD1-4F62-983A-2F9C91C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C751-0478-424D-BFB5-C7C0C347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A841-60FD-4F87-962A-F61E9766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FC2B2-3E12-40AB-9F39-4163C54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68942-80DB-47C9-9970-16318AFA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9AE7-AF87-4BE8-8835-345ECE15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D52BD-D2F7-4D0E-B5E8-5F54D30E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E4CF5-8218-4EA6-8E9D-29CE18D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2E6E1-D310-4A79-93C4-F0B3F21C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C26DC-84E5-4E02-A78D-2A4E01A2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4026A-D272-4191-BEB6-DCA84CC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6707F-3CE3-4ADB-8B20-EDD7938D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8DC91-2B5A-4C13-9430-7E2EE0A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74AB-34E3-4D70-B42A-0EFD3D4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8991-2167-4DDC-846E-CB5685B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00B1F-FBB2-4878-B355-7D21CCE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6D27B-FF2B-49C3-9225-B40F51A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97072-8B50-438D-938D-10CC8C51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63209-43C2-4094-A720-727E60EC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B5DFA-80A0-47E8-816F-EA3554F1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2AB37-7130-4A10-B0B5-1F5CC8F4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1AA68-CE9E-40A5-AF97-C725C33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99DF9-094D-49EA-BF19-29A32F65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DE9E6-DF4A-4729-B17C-B6DC66CA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3DF0-68F7-4ED5-8640-3AD0808F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31050-49BF-4993-A1D7-87C9E6F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7F703-3DEC-47F6-A879-85DE15B2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ECEB8-BB81-4BBE-A0C8-F1FF09A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E1E74-6A95-4EE0-B7D8-A3F691D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88D94-C084-41C3-9E68-F64AF64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5296F-FF52-493D-A70F-3F7AF6A3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DC6A0-FDC7-4FA3-9801-EEDD58E8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7366-3407-4310-9F97-0EA4BAFA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C2A5-165E-4F4F-A3A4-079CE5E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230-9DB2-4EF7-9CFC-B011842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21A-EE5B-4713-90F4-94729DA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CDD-F013-4DCC-A40B-3DA2CFF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BD30-FC86-4ED0-BF23-76AD70A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5090-E419-442F-BA21-5A936C9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B3D5-77D9-4B71-96F7-0FE80C6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433D-AA50-48BA-AAC1-E59970FD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91B-A9B4-4E80-B796-15FE1EFA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B0D6-2A75-4FD2-B4F8-E8669626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9E0A-FEF2-4B5E-BE9D-871FAEAF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C006-AFC5-4A9A-BA5A-CE02A7CF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9117-B7F8-429F-801C-DEB1CD1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5D10-33ED-4A4D-BB19-BA39819F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690-18A5-4D6E-BF35-CB4A301D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AC43-10F5-433C-92F0-CDD69B0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ED58-7434-436E-A4AF-4AF39321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B83E-C08A-41D1-AEAE-A06509EA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D0D8-B4E9-48C3-828B-BE7DEC3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0DB1-3A5A-4BDE-BD47-636803B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C453-82D9-45FD-8450-0D7BFF8C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5D39-6FD1-4F89-B89C-97CD94BA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ADFA-0E39-415A-9192-6112AEBF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54E0-09DD-4DF9-9F10-E266216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42EE-D4A3-44FB-9F2C-5795423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8D3-E0A0-4EE1-9FE4-BEDA5179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65F9-50B1-4EE3-BF89-58F64FD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08FF-133F-4D34-A83B-12D4E54E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3A6F-020A-4C00-A6FF-8CE5E28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1724-FAAB-4567-85B6-239EFE8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6EBC-F5A2-469A-9E76-A75509D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7D6E-4EC6-4CEE-99AC-1B50369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2C41-747A-43ED-9B1C-32A53491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09AF-0916-4F88-962C-20111931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0BBC-E401-47BA-A031-D14AE3C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0CCD-8FB0-458E-A391-AAD1530C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D3B-559C-4295-8B68-36ED606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CB5D-C539-4C07-AEC0-B00A4F34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389C-1E9F-4EE6-A21F-E63F521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A1A8-4AC2-47AF-85AA-D55D570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6A35-2CCA-471D-BEAB-B8CC636E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480A-9591-44DE-8325-277A12A0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4235-80A6-4CCC-93BE-BA408B7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92FF-8680-4424-A350-7FCC0AA9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3BF90-B27F-4CC7-A615-A2449DC2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D1DD-75E6-48B6-8867-385F958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8873-F50D-4FE0-A899-8DF9994E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9A2-7745-468E-A029-C22AE41F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2D61-BB1B-4E24-B756-EA47EA32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4471-3281-4058-A253-6A92C360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DBBA-FB3F-4A5D-8CCB-9EEEDFD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C65B-5D0C-4D32-8C77-D8C7275A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B54B-3843-4C8A-9A54-450DE89C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EB8B-4D60-4116-AA9F-B9594FAD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B79F-8C55-4DF7-B9B8-85F896A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B89A-77D0-42EE-8DA6-B7282CE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638A-813E-4569-944A-104C39E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7C78-2C72-4FB9-AF9B-85FEB80C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281-2CE3-453B-934F-F6468BB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20C6-3548-4E55-828F-7EBC936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03C1-7BA2-4E6C-BBAB-E7385E42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3CF2-4312-4C0D-90A3-3CC88F9A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ED25-AA86-487F-B3C9-7EBF344C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ECFD-72D4-4CD8-B19A-5B3736B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9AFA-7E6D-4BA1-9D42-A8FC371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A9F62-040D-4999-A930-6712FD4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FC8A-67C0-4282-A675-4E5A13C7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EBD1-2330-4837-97DF-610FE9D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BA1B-B19E-4908-9EF2-B05484BA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36A-F2D9-4395-AFDB-744E930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4D841-E431-4BD3-AD7C-E77A0FC4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3E9D-73C4-492E-BB1C-5885E49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36B9D-B465-4BF6-A613-D61FD099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9749-6881-476C-8787-69F87FFE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D679F-5F79-4FED-80BA-220FB558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818B-834A-4454-B4F1-570C1C8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906EC-9BCA-483D-B768-0AC14CA1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558FD-E16E-477B-8732-E006A6B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338E-DC95-4F7C-96E9-FB271C5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63A8A-07E2-4A50-949D-7D6BEF7B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BE6-9DA9-4663-8C26-5CBDAE9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26366-0591-432C-9CDF-11ED4FE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FA06-E0EF-4E87-9593-266D7CD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C0E8-6D79-4728-85BE-A7B06CC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69AE7-F4B9-4090-B384-DAEB504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5A357-00AD-4ACB-BF42-9ECEB1A9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24C46-67C3-420D-BC8B-D4211BD2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82AE5-2E2D-4EC8-9826-EF9A2F07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E2466-5210-4553-9ABC-FAC7F8F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70573-5A0B-45A8-8F1D-5F075B4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A7CCD-38CD-44C3-AC43-281B15F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930-99A4-4FE9-8E43-521C10823F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ED24-71C5-4E25-890A-B065C7EA679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5D62-F906-4BC9-8DD7-75C7753C5BB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C1D2-5846-4B1A-889E-55BE1961D0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7950-93D8-43AD-AF8C-D0BE6925F9A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909-1ADC-435F-B4E2-28A1A799BB2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48EF-21C3-411C-BA64-8747842F3A7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955A-8C0E-41B9-8A40-2E271BB7721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24F1-85E5-4018-9C5A-AB9EEA7F4E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954A-AFBD-4B34-A3DF-ECC78CC84E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BD5-EC3D-4C8A-9856-6A69630C74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8B3-0623-4469-8936-DCA8A597CB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869-9D5C-451F-9E7B-B56C7D962D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DB60-C9AD-40EC-A5F2-A58E8C6BCB9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4207-5EA5-4775-A52A-1C9BF92A09D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37C3-FAFA-4869-B97E-BB48A66CFA5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54B-D6B6-4757-9374-14249654F36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CF62-376E-4ABD-A6D6-63CF09DD1B7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A669-BAAD-48F4-960B-FC3F0C0727E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3C7-0052-4C94-B044-637671F9712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C5FD-CB08-4964-9612-7CD32F5FB2A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6595-7D4A-4DBB-8CBC-3EE28E456EC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9981-A612-41D7-A803-7FD6F986BD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347-16E3-4688-97B4-13F28D3D3E8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9361-9ABE-4052-BAEA-C24E842962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左上蓝云"/>
          <p:cNvPicPr/>
          <p:nvPr/>
        </p:nvPicPr>
        <p:blipFill>
          <a:blip r:embed="rId1"/>
          <a:stretch/>
        </p:blipFill>
        <p:spPr>
          <a:xfrm>
            <a:off x="4680" y="228600"/>
            <a:ext cx="7742160" cy="1276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左上黄云"/>
          <p:cNvPicPr/>
          <p:nvPr/>
        </p:nvPicPr>
        <p:blipFill>
          <a:blip r:embed="rId2"/>
          <a:stretch/>
        </p:blipFill>
        <p:spPr>
          <a:xfrm>
            <a:off x="4680" y="4680"/>
            <a:ext cx="8390160" cy="1266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style"/>
          <p:cNvPicPr/>
          <p:nvPr/>
        </p:nvPicPr>
        <p:blipFill>
          <a:blip r:embed="rId3"/>
          <a:stretch/>
        </p:blipFill>
        <p:spPr>
          <a:xfrm>
            <a:off x="2614680" y="876240"/>
            <a:ext cx="6757920" cy="5964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江南"/>
          <p:cNvPicPr/>
          <p:nvPr/>
        </p:nvPicPr>
        <p:blipFill>
          <a:blip r:embed="rId4"/>
          <a:stretch/>
        </p:blipFill>
        <p:spPr>
          <a:xfrm>
            <a:off x="5343480" y="1353960"/>
            <a:ext cx="2559240" cy="1968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右下圆角"/>
          <p:cNvPicPr/>
          <p:nvPr/>
        </p:nvPicPr>
        <p:blipFill>
          <a:blip r:embed="rId5"/>
          <a:stretch/>
        </p:blipFill>
        <p:spPr>
          <a:xfrm>
            <a:off x="9887040" y="4238640"/>
            <a:ext cx="2334960" cy="26449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7"/>
          <p:cNvSpPr/>
          <p:nvPr/>
        </p:nvSpPr>
        <p:spPr>
          <a:xfrm>
            <a:off x="10631520" y="5238720"/>
            <a:ext cx="16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What Is thi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8" descr="鸟叔"/>
          <p:cNvPicPr/>
          <p:nvPr/>
        </p:nvPicPr>
        <p:blipFill>
          <a:blip r:embed="rId6"/>
          <a:stretch/>
        </p:blipFill>
        <p:spPr>
          <a:xfrm>
            <a:off x="7915320" y="1362240"/>
            <a:ext cx="1428840" cy="2209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抖动"/>
          <p:cNvPicPr/>
          <p:nvPr/>
        </p:nvPicPr>
        <p:blipFill>
          <a:blip r:embed="rId7"/>
          <a:stretch/>
        </p:blipFill>
        <p:spPr>
          <a:xfrm>
            <a:off x="7920000" y="2900520"/>
            <a:ext cx="185724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2800" cy="1276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conbg"/>
          <p:cNvPicPr/>
          <p:nvPr/>
        </p:nvPicPr>
        <p:blipFill>
          <a:blip r:embed="rId3"/>
          <a:stretch/>
        </p:blipFill>
        <p:spPr>
          <a:xfrm>
            <a:off x="-11160" y="1450800"/>
            <a:ext cx="12246120" cy="53708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5"/>
          <p:cNvSpPr/>
          <p:nvPr/>
        </p:nvSpPr>
        <p:spPr>
          <a:xfrm>
            <a:off x="1401480" y="17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你是什么范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6" descr="leg"/>
          <p:cNvPicPr/>
          <p:nvPr/>
        </p:nvPicPr>
        <p:blipFill>
          <a:blip r:embed="rId4"/>
          <a:stretch/>
        </p:blipFill>
        <p:spPr>
          <a:xfrm>
            <a:off x="-49320" y="4433760"/>
            <a:ext cx="1630440" cy="1685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7"/>
          <p:cNvSpPr/>
          <p:nvPr/>
        </p:nvSpPr>
        <p:spPr>
          <a:xfrm>
            <a:off x="293760" y="19033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很明显。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2752560" y="1865160"/>
            <a:ext cx="23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哥是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2211120" y="30448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alibri"/>
              </a:rPr>
              <a:t>江南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10"/>
          <p:cNvSpPr/>
          <p:nvPr/>
        </p:nvSpPr>
        <p:spPr>
          <a:xfrm rot="19380000">
            <a:off x="3608640" y="3168360"/>
            <a:ext cx="491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21"/>
                </a:solidFill>
                <a:latin typeface="Calibri"/>
              </a:rPr>
              <a:t>范！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左下蓝云"/>
          <p:cNvPicPr/>
          <p:nvPr/>
        </p:nvPicPr>
        <p:blipFill>
          <a:blip r:embed="rId1"/>
          <a:stretch/>
        </p:blipFill>
        <p:spPr>
          <a:xfrm>
            <a:off x="-34920" y="5472000"/>
            <a:ext cx="7772400" cy="1324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左下黄云"/>
          <p:cNvPicPr/>
          <p:nvPr/>
        </p:nvPicPr>
        <p:blipFill>
          <a:blip r:embed="rId2"/>
          <a:stretch/>
        </p:blipFill>
        <p:spPr>
          <a:xfrm>
            <a:off x="-25560" y="5719680"/>
            <a:ext cx="8496360" cy="1190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3q"/>
          <p:cNvPicPr/>
          <p:nvPr/>
        </p:nvPicPr>
        <p:blipFill>
          <a:blip r:embed="rId3"/>
          <a:stretch/>
        </p:blipFill>
        <p:spPr>
          <a:xfrm>
            <a:off x="1362240" y="604800"/>
            <a:ext cx="943272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左侧目录背景"/>
          <p:cNvPicPr/>
          <p:nvPr/>
        </p:nvPicPr>
        <p:blipFill>
          <a:blip r:embed="rId1"/>
          <a:stretch/>
        </p:blipFill>
        <p:spPr>
          <a:xfrm>
            <a:off x="-11160" y="0"/>
            <a:ext cx="3692520" cy="32162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692280" y="641520"/>
            <a:ext cx="227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4" descr="左下蓝云"/>
          <p:cNvPicPr/>
          <p:nvPr/>
        </p:nvPicPr>
        <p:blipFill>
          <a:blip r:embed="rId2"/>
          <a:stretch/>
        </p:blipFill>
        <p:spPr>
          <a:xfrm>
            <a:off x="4680" y="5910120"/>
            <a:ext cx="6402600" cy="108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左下黄云"/>
          <p:cNvPicPr/>
          <p:nvPr/>
        </p:nvPicPr>
        <p:blipFill>
          <a:blip r:embed="rId3"/>
          <a:stretch/>
        </p:blipFill>
        <p:spPr>
          <a:xfrm>
            <a:off x="0" y="5977080"/>
            <a:ext cx="6416640" cy="90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每条栏目背景"/>
          <p:cNvPicPr/>
          <p:nvPr/>
        </p:nvPicPr>
        <p:blipFill>
          <a:blip r:embed="rId4"/>
          <a:stretch/>
        </p:blipFill>
        <p:spPr>
          <a:xfrm>
            <a:off x="7840800" y="447840"/>
            <a:ext cx="5141880" cy="93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8258040" y="703440"/>
            <a:ext cx="4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8916840" y="5778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神曲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9" descr="每条栏目背景"/>
          <p:cNvPicPr/>
          <p:nvPr/>
        </p:nvPicPr>
        <p:blipFill>
          <a:blip r:embed="rId5"/>
          <a:stretch/>
        </p:blipFill>
        <p:spPr>
          <a:xfrm>
            <a:off x="8405640" y="1593720"/>
            <a:ext cx="5142240" cy="938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"/>
          <p:cNvSpPr/>
          <p:nvPr/>
        </p:nvSpPr>
        <p:spPr>
          <a:xfrm>
            <a:off x="8823240" y="184932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9462960" y="1733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神曲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12" descr="每条栏目背景"/>
          <p:cNvPicPr/>
          <p:nvPr/>
        </p:nvPicPr>
        <p:blipFill>
          <a:blip r:embed="rId6"/>
          <a:stretch/>
        </p:blipFill>
        <p:spPr>
          <a:xfrm>
            <a:off x="8132760" y="2727360"/>
            <a:ext cx="5141880" cy="9381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3"/>
          <p:cNvSpPr/>
          <p:nvPr/>
        </p:nvSpPr>
        <p:spPr>
          <a:xfrm>
            <a:off x="8559720" y="301464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199440" y="28605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争相模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15" descr="每条栏目背景"/>
          <p:cNvPicPr/>
          <p:nvPr/>
        </p:nvPicPr>
        <p:blipFill>
          <a:blip r:embed="rId7"/>
          <a:stretch/>
        </p:blipFill>
        <p:spPr>
          <a:xfrm>
            <a:off x="7478640" y="3873600"/>
            <a:ext cx="5141880" cy="9381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6"/>
          <p:cNvSpPr/>
          <p:nvPr/>
        </p:nvSpPr>
        <p:spPr>
          <a:xfrm>
            <a:off x="7886880" y="415116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8545680" y="4016520"/>
            <a:ext cx="37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你是什么范儿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82240" cy="12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9680" cy="76215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6"/>
          <p:cNvSpPr/>
          <p:nvPr/>
        </p:nvSpPr>
        <p:spPr>
          <a:xfrm rot="20040000">
            <a:off x="4324680" y="2400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神曲介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/>
          <p:nvPr/>
        </p:nvSpPr>
        <p:spPr>
          <a:xfrm>
            <a:off x="9872640" y="61959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4600" cy="127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conbg"/>
          <p:cNvPicPr/>
          <p:nvPr/>
        </p:nvPicPr>
        <p:blipFill>
          <a:blip r:embed="rId3"/>
          <a:stretch/>
        </p:blipFill>
        <p:spPr>
          <a:xfrm>
            <a:off x="-11160" y="1469880"/>
            <a:ext cx="12246120" cy="5370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1591200" y="2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神曲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6" descr="psyimg"/>
          <p:cNvPicPr/>
          <p:nvPr/>
        </p:nvPicPr>
        <p:blipFill>
          <a:blip r:embed="rId4"/>
          <a:stretch/>
        </p:blipFill>
        <p:spPr>
          <a:xfrm>
            <a:off x="142920" y="1895400"/>
            <a:ext cx="3352680" cy="436248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7"/>
          <p:cNvGrpSpPr/>
          <p:nvPr/>
        </p:nvGrpSpPr>
        <p:grpSpPr>
          <a:xfrm>
            <a:off x="3836880" y="2187720"/>
            <a:ext cx="8067960" cy="1783800"/>
            <a:chOff x="3836880" y="2187720"/>
            <a:chExt cx="8067960" cy="1783800"/>
          </a:xfrm>
        </p:grpSpPr>
        <p:sp>
          <p:nvSpPr>
            <p:cNvPr id="569" name="Text Box 8"/>
            <p:cNvSpPr/>
            <p:nvPr/>
          </p:nvSpPr>
          <p:spPr>
            <a:xfrm>
              <a:off x="3836880" y="2187720"/>
              <a:ext cx="80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江南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style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，（朝鲜语：강남 스타일，英语：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Gangnam Style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）是韩国歌手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PSY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的一首单曲，于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年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月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日发布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Text Box 9"/>
            <p:cNvSpPr/>
            <p:nvPr/>
          </p:nvSpPr>
          <p:spPr>
            <a:xfrm>
              <a:off x="3941640" y="3054600"/>
              <a:ext cx="787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歌名“江南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style”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来自韩国俚语，指首都首尔一个象征着富裕与时尚的上流社会聚集的地区——江南区豪华奢靡的生活方式。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PSY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在音乐影片中跳着模仿骑马动作的滑稽舞步，取景都在江南区的各处地点，例如桑拿室、马房、旅游巴士等。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MV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由卢洪哲、刘在石、泫雅出演，延续了鸟叔的幽默风格，舞蹈也颇有亮点。即使歌曲取材自韩国的本土文化，对其文化背景不熟识的西方国家亦越来越流行，并引起了国际媒体关注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80440" cy="1258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9680" cy="76215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6"/>
          <p:cNvSpPr/>
          <p:nvPr/>
        </p:nvSpPr>
        <p:spPr>
          <a:xfrm rot="20040000">
            <a:off x="4324680" y="2400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神曲背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4600" cy="12762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onbg"/>
          <p:cNvPicPr/>
          <p:nvPr/>
        </p:nvPicPr>
        <p:blipFill>
          <a:blip r:embed="rId3"/>
          <a:stretch/>
        </p:blipFill>
        <p:spPr>
          <a:xfrm>
            <a:off x="-11160" y="1469880"/>
            <a:ext cx="12246120" cy="53704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1591200" y="2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神曲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6" descr="F:\MyPsd\WPS主题PPT设计大赛20121029\xy.pngxy"/>
          <p:cNvPicPr/>
          <p:nvPr/>
        </p:nvPicPr>
        <p:blipFill>
          <a:blip r:embed="rId4"/>
          <a:stretch/>
        </p:blipFill>
        <p:spPr>
          <a:xfrm>
            <a:off x="142920" y="1995480"/>
            <a:ext cx="3352680" cy="41608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7"/>
          <p:cNvSpPr/>
          <p:nvPr/>
        </p:nvSpPr>
        <p:spPr>
          <a:xfrm>
            <a:off x="3684600" y="2120760"/>
            <a:ext cx="81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韩国首都首尔的江南区，是当地人眼中的富人聚集区，许多有钱人和社会名流在此居住，并且象征着“时尚”和“富裕”。而在《江南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》的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MV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中，大部分的外景都取自于位于江南区的桑拿房、马厩、游艇、海滩、旅游巴士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MV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由卢洪哲、刘在石、泫雅出演，延续了鸟叔的幽默风格，舞蹈也颇有亮点。江南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其实反映的就是当今韩国上流社会的风格，通俗的说就是高富帅的奢靡生活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80440" cy="1258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8240" cy="76215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6"/>
          <p:cNvSpPr/>
          <p:nvPr/>
        </p:nvSpPr>
        <p:spPr>
          <a:xfrm rot="20040000">
            <a:off x="4324680" y="2400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争相模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2800" cy="12762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conbg"/>
          <p:cNvPicPr/>
          <p:nvPr/>
        </p:nvPicPr>
        <p:blipFill>
          <a:blip r:embed="rId3"/>
          <a:stretch/>
        </p:blipFill>
        <p:spPr>
          <a:xfrm>
            <a:off x="-11160" y="1469880"/>
            <a:ext cx="12246120" cy="53704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5"/>
          <p:cNvSpPr/>
          <p:nvPr/>
        </p:nvSpPr>
        <p:spPr>
          <a:xfrm>
            <a:off x="1591200" y="2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争相模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6" descr="F:\MyPsd\WPS主题PPT设计大赛20121029\zx.pngzx"/>
          <p:cNvPicPr/>
          <p:nvPr/>
        </p:nvPicPr>
        <p:blipFill>
          <a:blip r:embed="rId4"/>
          <a:stretch/>
        </p:blipFill>
        <p:spPr>
          <a:xfrm>
            <a:off x="142920" y="3112920"/>
            <a:ext cx="3352680" cy="19256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3684600" y="2120760"/>
            <a:ext cx="81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MV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中 “简单、明快”的骑马舞步，让全世界的网友“癫狂”，引发了从名人到老百姓争相模仿的热潮。在美国有“小甜甜”布兰妮、“大力水手”罗宾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威廉姆斯都在学跳歌曲中的舞蹈，而汤姆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克鲁斯则在自己的主页上专门推荐了这首歌。亚洲的神话组合、张东健、李东赫都模仿过《江南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》的舞步。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792600" y="3905280"/>
            <a:ext cx="81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在明星模仿的引领下，短短三个月时间就引来了上千个版本的模仿，游戏界有“魔兽版”、“植物大战僵尸版”，电影版的剪辑包含了惊悚、喜剧、恐怖多个片种，还有母子版、萝莉版、红军版、韩国警察版、美国海军版等各个版本，《江南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》正像病毒一样快速蔓延。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79000" cy="1258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8240" cy="76215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6"/>
          <p:cNvSpPr/>
          <p:nvPr/>
        </p:nvSpPr>
        <p:spPr>
          <a:xfrm rot="20040000">
            <a:off x="4221000" y="1949040"/>
            <a:ext cx="616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你是什么范儿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4T06:13:2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