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11AFE-4E98-4B36-AA2C-7D4323A9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29986-D60B-4438-B629-F3153B3F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CCB1E-B281-417B-9BE4-BC24555A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4C5E8-2112-4E18-AB6F-0016F41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F6F26-3C47-4996-912B-727C5967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A64FB-6E26-4C97-93F1-F23062CE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95558-4F17-4882-B31D-82464F36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B5364-8870-4E0F-9997-726323D3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FB822-1EB2-463D-9629-54C8D5D8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46A66-C598-45F7-A8FC-3EADF299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6C0A5-3826-4FE7-9CA2-83E6DD2B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2654C-01EA-448A-8025-66BD03C1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F17DD-F92E-42CC-A746-E29C7674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671D6-5B09-4FB1-A6C4-8E983531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C7478-CD78-46A1-9A68-76BED88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DF0DE-BA91-49E0-8AC9-65F83F1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64EF3-5462-4BCF-B4E2-F3BAB219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FB731-15F8-47E1-BFCA-8928A6C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5D4A7-78BA-41C4-92E4-32457EC2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52F9B-8B5C-4497-AC52-1D7E266A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3146F-8D7D-4448-9863-C9721897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FF9F84-5A39-42B5-B200-665133EC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273DDC-3D28-484B-A9B6-BCBE0EF9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7B1992-9892-4016-B3C9-3A774AB2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C01878-AEAD-4E82-A246-A4D8A2FB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23F133-3AAF-4024-BE55-6E31EEC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94418E-DC9C-4D2E-8C00-51125222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8B6765-2D90-475D-9B8F-2512621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E9EEFC-E95E-4111-B201-B035DF0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54BCB2-53E9-4958-8EEA-930CAC9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2CC36-399E-4CF6-A41B-8217FE0F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E8A21C-C33A-4943-8F3B-F7F5280E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63BD35-97A9-41B6-8603-CE079BD2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4929C4-65A4-40A3-AC46-29B78B95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47A0D-1629-4663-B211-E4D44108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F52E4-3F0E-4695-A35D-17A4C3DD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DA56E-D65C-4F59-92B2-7F0FA27F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886F5-983F-4AEB-B813-744E9155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F3E01-8DC2-43DF-965F-EC86DA78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77F12-744B-4CDF-98F7-4E48A01F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4EE3A-DE6A-4B34-A388-FE664881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85E58-8BA0-4404-ADD2-FCC630C0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A10B7-2BB2-4463-8374-22507CE1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125B9-535A-40D5-A35A-A337B28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6E6E2-159F-4098-8E62-C7F5615F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F670E-815B-4E61-8F5D-431426BB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03306-0E1C-44AF-B7A5-003B1304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7532FC-3DBE-42EC-A653-9AA48BC8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59D430-CBAA-431E-9F07-7926AB05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5B8703-D413-454A-8221-F7C65BDC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7F76D7-F42A-4D9F-86F3-3BC0F6E8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704CC9-4BCE-4643-95F7-8CC8A3BF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C01F2-708D-44D9-8052-B622E23B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13D9DF-4B0E-4F2D-BDA3-58362B0B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A3BE75-8478-4C6A-9E52-11F5F825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C9CBF9-3C1E-4665-91D0-0EFA754A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BA4EE2-C124-4881-B54A-BACCD19E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FA01FD-BF4F-42C6-90CD-7D3B7C89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FF80A7-06BA-4309-80AA-EDD2C5C4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977E3C-124A-4705-B8AF-F9969F38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F4C9F-C38F-472C-AB4C-FC94AFBB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8CE6C-4A4A-40C6-9FF1-75D6458D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BB33B-7211-483D-A967-BA06EAC3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87028-CB38-4408-AE43-BFBE5394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FCC2C-BAF9-4B5C-A9FD-AE12E561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1B225-7AAA-422C-8491-B2F0862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2FE1-A7DF-4E04-BAD5-FD5F603E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24E89-62A3-40A3-AAAD-12A77521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657C6-018C-4546-9090-F98A7FB9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72C9BD-1310-40D9-AD59-6877C950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39249-B11E-4216-AA8F-12658274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DCCFE-0933-4CE1-844E-F95A947E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43195-910B-4885-992D-12E32749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0C869-574F-46C6-896F-759F4388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F1CDA-03F4-4F0D-AC6F-A0CD061C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FAC02-CC0A-477F-BD43-023984E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26797-ED7E-4FDC-A71D-4B331A93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4F2C1-D054-4909-9352-2B1D6B95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CB731-C5B8-4D16-84A7-65A79627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B613F-ACCB-4A20-9E8C-436B08F7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7C641-4266-4888-BF2D-5E05E2E8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330A2-3BAF-49FE-A4CB-8873C5C1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29025-CCED-4DB1-981B-0C0FEF41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D557B-4AFC-4E1B-83D2-67D0709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38FB1-7043-4D6E-8FA0-5B6A45EF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37E09-9277-434A-9064-0BFCB7D3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9E4AE-5F23-4032-884D-998D94E4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0D26D-75EB-430D-8D31-FAB556B9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D8A370-FA97-4489-8AAD-5C34B23C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CDE42-5062-4C54-A824-64CB599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67417-CF30-4308-BDDC-3AA3A3D1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38D36-D303-436B-B931-E737B2F8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62751C-CB86-4EF7-BA07-062F1666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B66B6E-9760-4CC8-B274-FB241A26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3EAB79-5356-48D1-8993-314BFE52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A58DC-A4FD-4F5A-91AA-DD60B2A8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825562-182B-4F80-B274-19053671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134A9-190B-4B08-8BC8-490F203F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2617D5-4C7F-4288-91EA-C52DF0CB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BB29DF-F7A1-4EC3-A7EC-A6DB3089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B90543-21F6-43EE-A43F-7958C724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276F05-338E-414B-B189-CDF64CFC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8EEFC0-471E-48AB-A983-8C902FC6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072C14-33BA-47A2-AEF3-532E3A00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433F78-2EB1-4446-92F8-0DED073C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3EF838-BB26-438A-8CEB-EE06BA40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53F4A9-6A1F-4989-9B1B-CA6300BB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BAE02A-51FE-4D2E-B9D4-1E6558DB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1741CC-BCDA-4399-AE87-EB3261C7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A174A1-A316-4BA3-99A7-2D5D21C4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1903AD-0DD0-4DB7-ABD9-52FC0956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EADDD9-6F71-4287-86C7-3161E76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2C9A80-65B6-4D01-8B7A-2649F737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7F56FA-5FA0-4F41-A3C2-AEA6B3C3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1970C-1056-4399-8E78-FD70EEF7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1C1206-E716-4A58-B072-DC6A9C94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83DEF8-307C-4E1F-97EF-A35D46F9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A2F2A6-D62F-4D1D-887C-31A3F857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1DC490-C4D2-4CE5-BFEB-5E7EA294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5595B0-B304-4D23-AFA2-B69A926F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3B2539-D07D-420F-80AB-D5334C49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FE262C-1740-4961-8FD7-428787B7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5483DB-5EB2-42D4-A09B-ACE512C6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845D24-CBB8-4A17-A285-0F810567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532CB0-9ABF-4C8D-9048-DE6EEA68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0FF049-9466-4DD6-ADE6-41EFC768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08112-8809-48B9-97C3-2B8F9A67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502F08-C9B2-44B9-9108-CCDEE405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081D70-D963-49C0-927A-812945E9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0DC180-53A1-4C05-9930-D48C7AAE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538BA6-5B69-4EF6-AB3D-7534C2D0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EC7059-36D2-4BC6-955B-C62C651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735915-81F7-4E1A-A5EA-F7D0457E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74AC3-31BC-4AFD-8734-0DB068D7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231BE6-BE37-4A3E-BD26-40157F94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E4D9AB-8ED5-42E1-B0B6-6CD9A4C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F0F8BB-5EF0-4658-AA74-C8DCB38C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0502FB-2EB7-4BE6-93FA-CF87F14A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1963B8-A550-4AF6-98A9-7D233A3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EE1B73-5B8D-4684-83BB-FF6172DD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A8D71A-4A5B-41F8-8426-F1503CC3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0F938-DAAE-48AC-B9E2-BE5FCC5E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94C97-D09A-425A-952E-051C3029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EF4DA-ACB9-4B0E-822B-B1AC44B7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1440" y="6514920"/>
            <a:ext cx="3860640" cy="153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zh-CN" sz="1000" spc="-1" strike="noStrike">
                <a:solidFill>
                  <a:srgbClr val="939598"/>
                </a:solidFill>
                <a:latin typeface="Arial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000" spc="-1" strike="noStrike">
                <a:solidFill>
                  <a:srgbClr val="939598"/>
                </a:solidFill>
                <a:latin typeface="Arial"/>
                <a:ea typeface="MS PGothic"/>
              </a:rPr>
              <a:t>2013 LENOVO INTERNAL.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6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F889B9D-0839-4566-89B6-E9F88524134C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7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8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7E3C9C7-8E88-4069-BE88-048E4826521E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9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E28C53E-851F-4C02-999A-B72B066F2ECD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30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1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BF9FEC2-8A96-43D0-A68D-DBDAAC16D96C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2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7DAF849-1DFB-4FF9-9508-B402BB17A53D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3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4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A90E30A-4422-4B7B-8674-07C0C36D2FF4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5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23AD27C-F438-4EA7-9D84-7D1C8CCB5568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6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7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D4963D8-3034-455F-94F9-3FFC57B4263B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2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A7D4-7874-47F6-96CA-F15AA2AD75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3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4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C9F3-7B00-45AA-8C74-D67EC4B89C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5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3B1E065-7872-4054-92D6-3784A384467C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6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7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D8B0FE9-D344-4AA0-9899-0F71F1EFEF22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8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7C51D20-C9C4-4F14-BDE1-A1657EA1D6AC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9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10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13A2489-4A93-4155-8F83-397CB7A38D23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1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164FA76-135B-4D25-9999-704949C1D2CB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2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3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13CE467-B85E-4F22-B681-C08FDFBED79A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4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80030F7-E71F-4CB4-A9BA-39C437288C69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5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6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240BC46-15DB-4A4E-91CB-043BB985490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7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106EDE5-2D37-4159-83DF-A9F7F521BEA2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8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9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26F616B-7471-41F8-A5D8-D2846640015B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20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8B70320-303D-4C4E-9D74-A4395D4220D1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1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2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8805497-6A4D-4376-93D1-CFBE0B93576D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3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91E115F-D304-4AE8-A047-1706F402D0B1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4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5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EE2E59E-BBFF-4F10-B1F4-24E11B73D4A3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3"/>
          <p:cNvSpPr/>
          <p:nvPr/>
        </p:nvSpPr>
        <p:spPr>
          <a:xfrm>
            <a:off x="541440" y="6515640"/>
            <a:ext cx="38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000" spc="-1" strike="noStrike">
                <a:solidFill>
                  <a:srgbClr val="939598"/>
                </a:solidFill>
                <a:latin typeface="Arial"/>
                <a:ea typeface="MS PGothic"/>
              </a:rPr>
              <a:t>2013 LENOVO INTERNAL.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9"/>
          <p:cNvSpPr/>
          <p:nvPr/>
        </p:nvSpPr>
        <p:spPr>
          <a:xfrm>
            <a:off x="0" y="0"/>
            <a:ext cx="12188880" cy="6856560"/>
          </a:xfrm>
          <a:prstGeom prst="rect">
            <a:avLst/>
          </a:prstGeom>
          <a:solidFill>
            <a:srgbClr val="7f7f7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0" descr="title-back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47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7" descr="Kickoff2013-POS-Color.png"/>
          <p:cNvPicPr/>
          <p:nvPr/>
        </p:nvPicPr>
        <p:blipFill>
          <a:blip r:embed="rId2"/>
          <a:stretch/>
        </p:blipFill>
        <p:spPr>
          <a:xfrm>
            <a:off x="8497800" y="4154400"/>
            <a:ext cx="3326040" cy="249084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 rot="20340000">
            <a:off x="2701440" y="3446280"/>
            <a:ext cx="9514080" cy="7142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路伟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 rot="20340000">
            <a:off x="205920" y="1898280"/>
            <a:ext cx="9793440" cy="19731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5f5f5f"/>
                </a:solidFill>
                <a:latin typeface="Arial"/>
              </a:rPr>
              <a:t>PD</a:t>
            </a:r>
            <a:r>
              <a:rPr b="1" lang="zh-CN" sz="5600" spc="-1" strike="noStrike">
                <a:solidFill>
                  <a:srgbClr val="5f5f5f"/>
                </a:solidFill>
                <a:latin typeface="Arial"/>
              </a:rPr>
              <a:t>储备员竞聘呈现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3" descr="content-back-withText.jpg"/>
          <p:cNvPicPr/>
          <p:nvPr/>
        </p:nvPicPr>
        <p:blipFill>
          <a:blip r:embed="rId1"/>
          <a:stretch/>
        </p:blipFill>
        <p:spPr>
          <a:xfrm>
            <a:off x="0" y="1440"/>
            <a:ext cx="12188880" cy="68551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11"/>
          <p:cNvSpPr/>
          <p:nvPr/>
        </p:nvSpPr>
        <p:spPr>
          <a:xfrm flipH="1">
            <a:off x="205560" y="255600"/>
            <a:ext cx="1198260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 flipH="1">
            <a:off x="81720" y="6502320"/>
            <a:ext cx="428760" cy="17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154800" y="6445080"/>
            <a:ext cx="293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3"/>
          <p:cNvSpPr/>
          <p:nvPr/>
        </p:nvSpPr>
        <p:spPr>
          <a:xfrm>
            <a:off x="541440" y="6515640"/>
            <a:ext cx="38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000" spc="-1" strike="noStrike">
                <a:solidFill>
                  <a:srgbClr val="939598"/>
                </a:solidFill>
                <a:latin typeface="Arial"/>
                <a:ea typeface="MS PGothic"/>
              </a:rPr>
              <a:t>2013 LENOVO INTERNAL.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0" y="1440"/>
            <a:ext cx="12188880" cy="68580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segue-back.png"/>
          <p:cNvPicPr/>
          <p:nvPr/>
        </p:nvPicPr>
        <p:blipFill>
          <a:blip r:embed="rId1"/>
          <a:stretch/>
        </p:blipFill>
        <p:spPr>
          <a:xfrm>
            <a:off x="0" y="1440"/>
            <a:ext cx="12188880" cy="6855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C:\Users\Kathy\Documents\Corporate PPT Template\FINAL\ppt-images\NoTexture_Closing.png"/>
          <p:cNvPicPr/>
          <p:nvPr/>
        </p:nvPicPr>
        <p:blipFill>
          <a:blip r:embed="rId2"/>
          <a:stretch/>
        </p:blipFill>
        <p:spPr>
          <a:xfrm rot="20340000">
            <a:off x="1018800" y="3187800"/>
            <a:ext cx="10150560" cy="76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1522440" y="0"/>
            <a:ext cx="8466120" cy="6858000"/>
            <a:chOff x="1522440" y="0"/>
            <a:chExt cx="8466120" cy="6858000"/>
          </a:xfrm>
        </p:grpSpPr>
        <p:sp>
          <p:nvSpPr>
            <p:cNvPr id="544" name="矩形 4"/>
            <p:cNvSpPr/>
            <p:nvPr/>
          </p:nvSpPr>
          <p:spPr>
            <a:xfrm>
              <a:off x="21394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244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7"/>
            <p:cNvSpPr/>
            <p:nvPr/>
          </p:nvSpPr>
          <p:spPr>
            <a:xfrm rot="20926800">
              <a:off x="344340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0:59:00Z</dcterms:created>
  <dc:creator>WW Marketing</dc:creator>
  <dc:description/>
  <cp:keywords/>
  <dc:language>en-US</dc:language>
  <cp:lastModifiedBy>a</cp:lastModifiedBy>
  <dcterms:modified xsi:type="dcterms:W3CDTF">2014-07-29T06:54:17Z</dcterms:modified>
  <cp:revision>504</cp:revision>
  <dc:subject/>
  <dc:title>LENOVO TEMPLATE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