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9DE-90BA-43F5-9A1A-A58A2FD5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AD2-6274-4A91-80DA-295327D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5E8-D369-44D3-B98E-D0702982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D4C-2171-4A48-B9C9-A938BB64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D222-55BF-47AA-ADD1-4CBCAC90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7C0C-2F3E-46D6-B3EF-CDF503D6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D345-8F7E-4C3B-AAF3-18199B5D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299C-0576-42DA-8565-4A1FC1B2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4BF7-90FB-439D-8AD7-93EBCB99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FCA2-E48C-4374-8457-81A9E0BF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8CE9-C5A2-4E8D-85B9-E498F205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E99-EC93-4DAF-A518-11B96547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558A-E8F2-47CB-9DA4-187B382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E72E-9BFF-4468-92C7-65326DCD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1664-8DEF-4A24-9E95-426DD31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7424-8E60-46A1-B175-BDBC3D8F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C2C8-C8B1-47D7-8AFC-7D0D3F6D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279E-A9BC-422C-9A31-9ECF7DFE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5626-76BA-46FA-A975-C5826D13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2D6A3-3FD1-4D85-8893-D34CF84B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62D0-CD29-4865-8554-F31AFF88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066A-7FEC-4A13-B0BB-C3701098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116-526B-466D-980B-7A6BCEA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ED8E-7C46-4907-A0F2-414BDBB6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FE758-07E2-49BA-BAF8-E847DFD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4833-2F96-40A8-9C34-E9896F7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FF21-CF48-47FC-84B6-DC68BF85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B724-C3AC-418F-9867-7188D21A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7A8D-7F37-4835-B2CD-04B3DD73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00F2-8DAE-46E1-B02C-BD831711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349-8AE5-4C24-88AD-22518629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F0F-4975-4EA4-96D4-B8311FC6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CE2-74DA-422D-8AA5-D003DB43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5CE-F262-433A-A5E2-087088D6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D01-D9AF-41CF-BF13-5207262D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948-98BD-45B8-803D-59B24B4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45ED-03A7-4AF1-BAD3-5472B8B69FA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9D10-7FBD-4517-9A97-A63D4FB7460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BDFF-4DD3-47B4-957D-11D107553BEC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9432-C786-4EAF-BC3E-37456226A0FF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243240" y="496080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132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777777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3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18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146" name="Group 19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4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57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58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69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2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180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69696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4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83" name="Group 56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1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6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2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205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206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217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0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228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230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231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42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5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53" name="Group 126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54" name="Group 127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55" name="Group 128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3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38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66" name="Group 139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4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49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77" name="Group 150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78" name="Group 151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56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1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89" name="Group 162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67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300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302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303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86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314" name="Group 187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2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5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6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7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0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338" name="Group 211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16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49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0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3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361" name="Group 234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39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0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75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02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77" name="Group 103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78" name="Group 104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89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400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401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402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413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424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425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436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6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6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69696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6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777777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7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cc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4"/>
          <p:cNvSpPr txBox="1"/>
          <p:nvPr/>
        </p:nvSpPr>
        <p:spPr>
          <a:xfrm>
            <a:off x="3506760" y="451800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83" name="WordArt 5"/>
          <p:cNvSpPr txBox="1"/>
          <p:nvPr/>
        </p:nvSpPr>
        <p:spPr>
          <a:xfrm>
            <a:off x="3984480" y="523224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485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Box 7"/>
            <p:cNvSpPr/>
            <p:nvPr/>
          </p:nvSpPr>
          <p:spPr>
            <a:xfrm rot="20926800">
              <a:off x="2349720" y="2966040"/>
              <a:ext cx="3889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4:14:48Z</dcterms:created>
  <dc:creator>北京锐得幻演广告有限公司</dc:creator>
  <dc:description/>
  <cp:keywords/>
  <dc:language>en-US</dc:language>
  <cp:lastModifiedBy>a</cp:lastModifiedBy>
  <dcterms:modified xsi:type="dcterms:W3CDTF">2014-08-11T07:35:25Z</dcterms:modified>
  <cp:revision>350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