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0721B-0CC9-417F-84DA-EC7887A40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2F5B2-8A5F-462D-A931-C7E7DA176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9A1D3-977E-433A-9BB6-BF75113B7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AED1F-02E5-415A-B42A-705CC8D99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97748-438F-4928-A123-3AA251E9C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E2D8D-6A57-4D07-8169-7635446E4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0BA8F-53E7-46E3-9BCF-7299E5EB7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93200-DB04-49F4-8A39-98EAD8D06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C8163-E88E-4075-BBDC-38C745F03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F1B10-5BCC-466D-BDB7-0C2648943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6DD53-0308-4595-89A1-A408235B6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AE125-9FCA-4FE4-8743-315D74AA9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gf dgzer yuy koulkùml"/>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32F4E33D-CEBF-4371-BF9F-AE01FB4B7994}"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A614-E644-452F-A474-BC7FEAD1B24C}"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A7B0-66C0-4D8D-92D1-373CF7A31B4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81" name="Picture 3" descr="gh fgh kùlre gfd"/>
          <p:cNvPicPr/>
          <p:nvPr/>
        </p:nvPicPr>
        <p:blipFill>
          <a:blip r:embed="rId2"/>
          <a:stretch/>
        </p:blipFill>
        <p:spPr>
          <a:xfrm>
            <a:off x="0" y="0"/>
            <a:ext cx="9144000" cy="6858000"/>
          </a:xfrm>
          <a:prstGeom prst="rect">
            <a:avLst/>
          </a:prstGeom>
          <a:ln w="0">
            <a:noFill/>
          </a:ln>
        </p:spPr>
      </p:pic>
      <p:sp>
        <p:nvSpPr>
          <p:cNvPr id="82" name="Text Box 4"/>
          <p:cNvSpPr/>
          <p:nvPr/>
        </p:nvSpPr>
        <p:spPr>
          <a:xfrm>
            <a:off x="1908000" y="1341360"/>
            <a:ext cx="6877080" cy="15793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852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First Page :</a:t>
            </a:r>
            <a:endParaRPr b="0" lang="en-US" sz="3200" spc="-1" strike="noStrike">
              <a:solidFill>
                <a:srgbClr val="000000"/>
              </a:solidFill>
              <a:latin typeface="Arial"/>
            </a:endParaRPr>
          </a:p>
        </p:txBody>
      </p:sp>
      <p:sp>
        <p:nvSpPr>
          <p:cNvPr id="84" name="Text Box 3"/>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61812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Second Page :</a:t>
            </a:r>
            <a:endParaRPr b="0" lang="en-US" sz="3200" spc="-1" strike="noStrike">
              <a:solidFill>
                <a:srgbClr val="000000"/>
              </a:solidFill>
              <a:latin typeface="Arial"/>
            </a:endParaRPr>
          </a:p>
        </p:txBody>
      </p:sp>
      <p:sp>
        <p:nvSpPr>
          <p:cNvPr id="86" name="Text Box 3"/>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28T10:22:15Z</dcterms:modified>
  <cp:revision>3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