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691-1261-4318-9610-E6340434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0C8-2E37-4437-B790-2B74DBAD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8EF-62DD-4A46-BFA5-83447D23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68E-F02B-40E2-A071-9001A16F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5435-BC37-43BF-973C-A98C1D11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8884-FF09-4FCB-9FEE-84E2F55A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CB25-6F5F-4203-AFEA-7582DCDB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FB21-5FDF-4C21-B038-3E9BEFFB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AE8F-476E-4A41-B15D-C7477493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0D2F-1367-43F2-87AD-C3CE294C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6E24-B658-40D2-8EA8-BEC6049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2B8-0DB2-4A1F-A622-C5C31F08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050B-3720-44A7-A524-C9AAE5EE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71C5-724B-46DD-9880-A6CE4CCF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0690-3A99-4C70-8DDC-AA76AA96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943A-261F-4D84-9504-A67807E8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19C8-B45D-41EF-9EC6-D377DE79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BA64-C4C8-4030-8B32-CA757031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D1B9-1184-4514-8BC8-A71EE84E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9F23-CC63-4C4B-A828-1F17EF16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D5FA-EBBD-433C-BAB4-88B06061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DC7C-D37D-4211-A4C1-27AA7B79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323-E55F-452A-B1A5-B59311F7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50F3-5782-4EB3-8DC2-4C6B8245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28B94-9B0E-462A-9F6B-9E36AE9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7329-A7B0-43CA-B1FD-BD16405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28AC-2DEA-4DA9-8E9C-A76BE7F5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2845-5A8B-49DE-AD82-2985077D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3823-76BD-456E-BC09-6863182D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DB54-BA03-4D24-BB08-EEA64E30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E43-0DCD-4826-97A2-77E07A4D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9B1-4588-45A6-B4CE-B2D3AAFD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0F4-38E7-4400-975C-0DB8417E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8A1-F4DE-4032-9365-0800A18A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F62-2780-4281-90C7-0F805B8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683-1AF6-4119-95F4-C4ED2E17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604B-B272-460E-A3D5-D7F3B02BF38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E0EF-DE18-4DFC-9BBC-7C2E14B7EA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819000"/>
            <a:ext cx="9144000" cy="4343400"/>
            <a:chOff x="0" y="819000"/>
            <a:chExt cx="9144000" cy="4343400"/>
          </a:xfrm>
        </p:grpSpPr>
        <p:pic>
          <p:nvPicPr>
            <p:cNvPr id="6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819000"/>
              <a:ext cx="9144000" cy="43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6" descr=""/>
            <p:cNvPicPr/>
            <p:nvPr/>
          </p:nvPicPr>
          <p:blipFill>
            <a:blip r:embed="rId3"/>
            <a:stretch/>
          </p:blipFill>
          <p:spPr>
            <a:xfrm>
              <a:off x="8223840" y="2952360"/>
              <a:ext cx="92016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712-52CA-492D-B362-1A5C9A6F00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0" y="4627440"/>
            <a:ext cx="9144000" cy="515880"/>
            <a:chOff x="0" y="4627440"/>
            <a:chExt cx="9144000" cy="515880"/>
          </a:xfrm>
        </p:grpSpPr>
        <p:sp>
          <p:nvSpPr>
            <p:cNvPr id="50" name="Straight Connector 10"/>
            <p:cNvSpPr/>
            <p:nvPr/>
          </p:nvSpPr>
          <p:spPr>
            <a:xfrm>
              <a:off x="0" y="4627440"/>
              <a:ext cx="9144000" cy="1800"/>
            </a:xfrm>
            <a:prstGeom prst="line">
              <a:avLst/>
            </a:prstGeom>
            <a:ln w="19080">
              <a:solidFill>
                <a:srgbClr val="8cb3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4671000"/>
              <a:ext cx="685800" cy="47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B81D-7807-42F2-B389-28B862F792CF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EE0A-EA67-41B3-9554-57E6A737D34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0" y="4705200"/>
            <a:ext cx="9144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-11160" y="1092240"/>
            <a:ext cx="91407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输入标题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13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1T06:51:06Z</dcterms:modified>
  <cp:revision>1</cp:revision>
  <dc:subject/>
  <dc:title>PowerPoint 演示文稿</dc:title>
</cp:coreProperties>
</file>