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A32-D119-4249-BFEE-87D7D046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ACE-EC00-41C7-A3C3-898BAFF4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16FE5-71A6-441E-B868-060E0F11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D7390-F094-445F-ABEE-191BFB6E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BC3D3-5B9A-49A2-9220-348B0EE1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16C61-29B0-4B2D-8203-77BCCB3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3FDD4-B75E-43BB-BF78-910591B7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19A3E-CC19-43EB-B61F-015D5170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AF9AF-10CC-487C-839D-9D6CD580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90F5A-B8B2-4A29-BDBB-4C3CE60C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DD877-76B0-4DA3-832D-C82B003D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4B3DE-6ADA-46DA-93F0-DABE6FCC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441-3CA9-4DF9-A962-1C1F9F9D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31377-CB6D-432C-BFE2-E700D0E1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7EE35-F9AD-4E14-82AF-7F2BDCFC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3541F-03AE-45B7-AEB8-A9988590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8F7A8-3267-434C-94EB-DE1893CE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12E3F-BBD3-4A14-9578-49B36794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FB900-A4FC-4BCD-9C3C-816BD5EC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DDD7C-05C7-4641-BEC2-0A078EF1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1CCB2-CE57-4EF3-B3F1-D2BA2E0A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27338-18CF-4D31-BF30-DC89399E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D5299-6172-496C-8EE7-0A2B159D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7CC-3042-44FC-BF9E-139B3718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13BF4-B194-4219-AA4B-412A3F37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4AB0C-5FAD-4271-A26F-2991FB6A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AF308-84DE-4420-ABD6-7B9CF211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CBA3E-77D8-4B79-A65B-8F6FBF64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F73A0-42BE-48CB-AD1D-7C82F1D2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C6D0A-9A23-4674-B204-E5084891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8CF3E-524C-4C4F-BFAE-E1998F06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BCC4B-9A5C-47CE-BC73-215BF2A5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86ECA-86C5-4D52-AAE5-7A5789BC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7529B-977F-4499-B4D5-4DC4B1E4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71C2-A8D3-436D-869D-ED90257C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B896D-B449-475D-8989-1A4E6AC1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25E27-0076-46F0-8F06-CC518590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1AEDD-BD05-40B1-B894-36D5EE6B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C16C5-5920-42ED-81A0-64148B18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A5155-FB68-4B46-A684-24ED9CF0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70845-F2B2-4922-92AB-710F1ED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F8880-E676-4AF3-9747-F035F0A4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028D0-16DC-46D5-B56C-CF35FE9D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A5D05-AC72-4ED7-A9FF-2442E5C5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FA7A2-B530-4E6E-86FE-D0A2F742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5C67-DF6E-4AC8-99CE-4AE782A4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C7406-59A3-4F0A-BA58-3D790925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7F406-9111-42CF-B07F-A3D86A3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41D0B-F997-450D-AB0C-FA0E60B7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54528-6E8C-437F-86C6-3EDBF3BA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FEDBC-0123-436F-ACD5-BF3C869F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DE8A4-CB1B-4448-8F8E-E7EB2ED8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C62BC-F7C8-47D1-9773-A99809B2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D15A6-6007-4E04-8B2D-EFA64ECA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84158-11E2-47B8-A7CB-04D3EA23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88413-6F12-4ADF-939D-2A6A2EB4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E2E3-CC10-4378-9E6D-698D0F1E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628FE-39C2-4DF7-8166-842E3AD5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80390-14D5-41EB-B275-40027F02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76583-6FD1-4A01-93C3-52937581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E4853-6775-4FE3-BB34-99A0DF12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1EA37-C54E-48B7-901F-81F98BBF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65F5F-98C4-4004-9F53-94CD5D2D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67F67-E1DE-4F3F-84FF-2452BF9F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FF9AA-55DB-49CB-81BF-10CA5785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7E762-0BB6-4164-A1BD-C507162E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BEB47-C711-46E8-BB16-D2563C9B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BA80-1750-4578-B661-C167348E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8DA0C-94B3-4661-A6B9-F590CCEA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0970DE-ED17-41D1-B5D1-25CBB2C4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FCA0D-7049-44C4-B2AB-B9A1E2D3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2C5AD-B235-4066-B9BB-45EFC67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D3625-484F-4F4B-B6AD-244F0EF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DEB76-8356-4CDA-A65D-72EC83A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DA70A-72F4-4329-BFE7-E95A7FDD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52413-9B8C-49EB-B234-80279075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92BA5-8C5C-42A2-9169-5B0FA355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9F66-0B4D-4057-8BBA-D9B8145C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F05A-F375-4502-83DA-1561D3AF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AC25-1776-4477-BDDC-1D34F553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163-88AF-4BB2-B0CD-2428528C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406B-FFC5-4DF7-97EB-DDA10D36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F7B6-797F-487E-B0D7-0E7DD1E9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267D-792F-4B2D-99E0-6B902AC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0C5B-96BE-423F-BC78-C9C57905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29B7-F285-44C8-8925-1045E25E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9C15-E8CC-4E3C-92CD-EC9AF08C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67AF7-DE75-46C9-90F6-19FBA0FB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BD31-8848-453E-86C6-4D388B1E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3EC5-FEB0-493C-9E90-D083D58D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FABD-A1BB-43DC-A6CA-47D4ECCB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EDD-F67D-4E2D-9D77-CE61C106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66A02-F2E3-4770-8162-5F0DDC92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F283-0857-49F1-AF86-A9C4B1EE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CBD9-B79F-44BC-88FF-AC3ADF4E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7050B-3E70-43D7-9367-35B5D2AA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90FD-6E09-44D1-B72E-1FAC0C73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994B-21F4-4138-BECE-B6B6E240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632DA-8251-4D18-9657-E7BFC7AC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44CD-F7F2-4F2A-B573-FCF701C6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418C-9237-4AF6-98F1-6943B068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DE15-1AB3-4E47-BE84-33DEC1DF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90B-08B6-4B6B-92A9-48A391A2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3EBB-C35D-4F69-A090-7872CFA0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A1DDF-7DFA-491B-85A4-065D2F2A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065F-08FF-42FE-A367-A7E0DCCC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977B2-2E13-438D-8EF1-E5DF3F02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AB9E-46B0-4258-B8B6-ACF1187B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F575-766B-4953-9BED-0680F7BB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F35DD-1EF6-4325-97E6-35E15533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2811-9B4B-4439-8DC1-B9848495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5E5E3-EDCF-466E-A439-B0EF90A6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3A8E0-8913-44A5-A1CF-2879C16E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675-76E5-4744-8DCE-1283949B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D6BC0-D60E-4061-B39F-16FE3F35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AB2A4-84C1-4447-8717-26C4D47D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5C440-F0D7-44EF-A5FE-48E6B1B8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BCE28-2486-4D3C-959F-3C0DBCD0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21BB6-5777-4926-824A-1E7FE18F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E8CF5-D0F9-44E7-BAF4-17FDD221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EEE4A-91BC-4741-A061-6425811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D1B86-6CAC-4A86-93ED-2B0B1A6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90D6B-C964-414A-8B4F-0F7D988F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DFD6D-6112-42ED-A16C-6B57EC6B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F8B-42B2-4213-9F4E-A7415CB4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FFB3-5DE4-4811-8EC0-75AF2BC2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8E149-2402-4BF4-9333-A6076C84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36C6-381D-418D-8A7A-8A4A7CAE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759D-CD51-4186-B07F-B70942EC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5FC8E-7867-43C5-9F8B-8F001A36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8DE51-F2E5-49C4-8B7E-B030B22E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B5AC7-997F-45CC-8E26-57CD4E53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027B5-0EB5-4693-A9D6-98A948D9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59A03-BA82-443B-BEA3-20CD088B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B03B5-5D40-4BDF-8349-2F1B9195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590-F3D8-4506-AE2A-B1C0D460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4EADF-A810-4D94-A6B2-8C3FEA37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90B2-838A-4BEB-AD2B-A14BCDF7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9F19E-0549-48AB-A6CC-1A9E0B4A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EF888-CBE2-454D-86DB-1A80C285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FBC9C-DC7B-4236-85A8-556E373E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D779B-62AD-40A1-8EE9-A2D229C9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AC752-9CC3-430B-ABE2-F48DCBD6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4903D-D78E-4A76-963B-65B49B52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FDCBD-B8BA-4C12-820D-22628BBA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9E2A9-1ED5-480C-8456-3BCFF88D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D72-981A-4940-98FE-FDED9E03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7517-71A1-4DE0-82A5-D7AD7649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D970C-5806-4FA9-9153-858849F3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AFAD7-8307-41B7-88FB-EB7290A8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87DDC-CEB7-49D1-B734-79C16DA2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23BA3-4105-4D15-9D40-C44B3C22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47D36-0DC1-4F74-B444-050D4C0D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5D2E1-529F-4DD8-8C1C-08D490F1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D4240-C722-471B-910B-4B508287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9ECFF-BF98-4098-A167-28FAD01E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BD374-3F83-4881-8C21-F499A231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B60-10C0-4231-A8AF-3BB89E98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02556-AFDB-4BEC-881C-565208EB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34859-37BE-4B69-AE50-94C40AC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217EA-F0FB-4D62-8E2C-B07EED2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EA29E-CC1A-459E-BF5A-ACACB3E2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C5858-AF88-44B3-A019-C7DBE405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C6D67-7FA4-4A3A-863B-8869CF4C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28F35-7B5B-42BA-8C21-9A8ECDFD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E6F48-185F-43B5-AA72-64E38AF0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8E7BF-30D6-4ECB-9010-F862835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C1B9D-994A-4B57-AD7E-D4504D89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2" marL="10857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3" marL="142884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4" marL="177156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5" marL="177156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6" marL="177156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Heavy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BBC7-1D78-48C8-BF98-BFFB2C9A8447}" type="slidenum">
              <a:rPr b="0" lang="en-US" sz="1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Z:\newtek\_backgrounds_1.02\Tim\powerpoint templates\81-100\minus_orange\elements\orange.png"/>
          <p:cNvPicPr/>
          <p:nvPr/>
        </p:nvPicPr>
        <p:blipFill>
          <a:blip r:embed="rId10"/>
          <a:stretch/>
        </p:blipFill>
        <p:spPr>
          <a:xfrm>
            <a:off x="7848720" y="5524560"/>
            <a:ext cx="1295280" cy="125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4F3C-931E-4D1B-B63C-C720966CA61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0CA1-9CF7-43B2-9B90-87B6206986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B8FF-3700-4852-A9E5-2E4DA817EBB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3DFF-139D-4B9A-9582-B429FC45E3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334E-7437-468B-AC50-C504BE15361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E0CD-70B0-4612-888A-AA31FC5726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961F-B212-4583-81CF-C165AB595B8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4A5B-92D9-4098-ACAD-45A16E449C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6959-D77F-4490-802A-F85AD3111EC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9C05-44A8-4B45-9A53-753943D484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1F38-DAAB-4910-8F89-54324DE5EB0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C336-41C9-48BD-A773-472A90FCA6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Z:\newtek\_backgrounds_1.02\Tim\powerpoint templates\81-100\minus_orange\elements\orange.png"/>
          <p:cNvPicPr/>
          <p:nvPr/>
        </p:nvPicPr>
        <p:blipFill>
          <a:blip r:embed="rId3"/>
          <a:stretch/>
        </p:blipFill>
        <p:spPr>
          <a:xfrm>
            <a:off x="2514600" y="244440"/>
            <a:ext cx="4114800" cy="3994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2" marL="108576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3" marL="142884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4" marL="177156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5" marL="177156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6" marL="177156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anklin Gothic Heavy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EB4D-CA50-4E6B-8773-9A91EEC7B48D}" type="slidenum">
              <a:rPr b="0" lang="en-US" sz="12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A2D5-91AD-4E78-9297-9998F922FD6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B78E-0D49-4AF8-AA9C-24CE6C094F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2311-80A0-4441-BDA5-4AC47404BF2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B462-3B3D-48BB-A841-49F01E0E3A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BFE6-0876-483F-A012-6F821DEECCA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C0AC-BB36-4EF7-AB38-D7C60F6FCD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479A-8D31-405F-B51D-C1F799AC486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B3BB-67C1-44FE-83C7-CF03645ED8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86DA-5D62-49D9-BBB6-4F9E387B202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12C2-CF87-40C9-9360-B5FF9E855A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640B-32D8-40F0-80E7-004FC5A3D1E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C334-1312-4F77-BD2E-A82BA4A9A8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962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  <a:ea typeface="宋体"/>
              </a:rPr>
              <a:t>Minus Orange</a:t>
            </a:r>
            <a:endParaRPr b="0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837720" y="4800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76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8:45:00Z</dcterms:created>
  <dc:creator/>
  <dc:description/>
  <cp:keywords/>
  <dc:language>en-US</dc:language>
  <cp:lastModifiedBy>a</cp:lastModifiedBy>
  <dcterms:modified xsi:type="dcterms:W3CDTF">2014-05-31T02:13:30Z</dcterms:modified>
  <cp:revision>18</cp:revision>
  <dc:subject/>
  <dc:title>Minus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