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709-5415-458A-B585-4FE6EAE6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677-0196-4EF9-A5E1-A14C8CE6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227-A92C-4BE2-ACDF-D5AB4347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9E59-532D-45E8-A589-975CE255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E47-779B-4387-94F0-3997AFDB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6C0C-8FBA-4D45-8A47-F5C7583B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03E0-877D-46AD-9218-DD1A152E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3A38-BCD2-4372-95B0-AA5B37A1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27E-B5C9-4E20-9D03-1A1A2E78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D720-1698-4B59-84DC-8A76495F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0AAF-80B2-40B3-BF35-86EAB6D2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D34-C941-4D85-BF0C-63A5836D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6300720" y="6453360"/>
            <a:ext cx="2855880" cy="215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3580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A2FA-F60C-42D3-ABEE-AE4B308E9652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简约爱心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a</cp:lastModifiedBy>
  <dcterms:modified xsi:type="dcterms:W3CDTF">2015-01-14T06:31:57Z</dcterms:modified>
  <cp:revision>4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