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6545-8306-4BDB-8310-FA181CBFB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6DB8-6C06-4DDC-A875-3487002D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DA1F5-70F7-4B21-8A2B-50FEDE90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4818A8-5569-4BD1-AD71-66AED33A4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E7594B-E923-4AB9-8A32-A6A6660CA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E087B2-4EE7-4963-BFEE-0521B06D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99D5A3-697A-4755-B80E-8086EBE4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8D7BA-6387-4816-B5F3-6990AE7B8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D86293-289C-49E9-8585-B5600312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D9EA81-823C-4815-A13E-AD54E8137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3B242B-0C57-4460-BE79-F15086BAC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35B11-96B3-4F33-B932-12A7F6AE1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CEB-BB1A-4C58-B2E2-661777468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8C88CF-4CB4-43AE-B5C6-A89456A5A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B1498-D0AC-4FD8-A2BF-20CFF6A8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9E5FB-B737-48CF-9B21-974CABDB6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E6B0A4-A79B-400F-B889-4D584E3A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E6F9FD-339D-4470-BE17-AC7D7779B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17FB6E-9CDD-4CC3-B202-A0520E52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95F6B-6A3F-4936-8F3A-7A9BB097A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FE28BE-1079-462F-92A7-0C97D83E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859FFD-AF40-426F-9CC6-FBE2324C4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E33FD3-4C83-4F2A-B767-3354369F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8745-E1DC-4ACF-B921-B6A9B9F0E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3F410-059A-4DEA-B318-39751C7E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0840BE-70DE-40EC-AA49-0923D8FF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44A3CF-C30F-47E0-8B35-42D44395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F06434-1D8F-4B70-91B6-82E1A336B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BCCC89-124D-4A12-8DA7-DC966F2F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0D0070-391D-43C8-B08E-8C5CC9F8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3881DE-E3A1-4DE7-9D55-6A0526A9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FB7A7-ACC5-43DB-AE1D-9FD83F64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0B5C3-DC9F-45D9-B6F6-0BCAA85A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D724BF-B909-43C1-B66F-F8E9C6B95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1A9F-705E-45FC-B0B2-1EB95F6B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CC3E15-33FF-43C6-B1F8-DA8FBAE8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A3D469-FF74-467C-9BD9-8F30D987F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451D5B-68EE-433D-9928-6FB702C78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A11806-0101-402E-8B26-67A1B7148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FBC8C3-A26E-45B6-AEAF-5B18B575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763FAC-41C4-4CD3-A680-A2A533F6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27F1C6-8728-4B46-B755-A386C6E58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007AE-C566-432A-9446-FC5641D40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18E252-52E8-4EF3-BAA2-0124C0FC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51EF1-9F41-40D1-889B-E5A71C54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D873-5A2C-4B91-9A2B-76EF3F20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80419-8091-4738-A2CD-59C43744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74CBE7-DB65-4108-9A76-9BB3941C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DA424E-9D05-4CB4-A909-1907D0F4E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D1E4B7-1666-4845-BC54-E52ABAD24E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516AF9-F74E-41E1-B3B8-1917A73E7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2BB036-8345-494D-895F-AC8BE0FCA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315A7A-45B0-4E55-87AE-9584170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8E6B89-C4FB-4EB8-98B2-0EBE7DE5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3E3C52-5785-4F9E-B4CA-FF0862E8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076117-B16A-4D58-8F5A-3E00014F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66DE-1FEE-4B56-BD7A-20D2C0EF9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A0674C-19D6-48E5-A0E4-D1A747781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10013F-9627-4D6F-93E6-93A5FAF08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8D8C1-2FEC-4F47-8FB6-08D30ED1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D710FE-E2C7-45A4-A5BD-971CB1BB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9F28C2-1EED-4EFF-B60C-614862ACA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D4E75-DAF1-4B01-B4D3-FB144D945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AD64E2-54AD-4DD1-AF78-F2315E9B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C944-FF68-4A2A-AEE3-15B7AB5A6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516E-D934-444B-8EE1-98CF712E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B8C41-B5D5-4241-8FBE-7B582A363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B197-66FE-4E2B-952D-58B9C18A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8748-1663-47CA-8567-AC00BAAC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A18AE-07E0-4853-AFA6-B07F21E7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BB201-3A70-4178-901B-6C6669A87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83EE-FFFB-49A0-91F1-187466B7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5C443-130E-433B-ABC0-DDCFA794F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D4356-6340-4296-92F0-F4E68DA10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656F89-2945-47B9-80A0-BE0BFA102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6D01AB-169E-4B11-9F40-1E9FDCE6C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03CBC-6CC8-483F-A697-D1BF8F51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6E17-298F-4EED-BE31-A551EFEF8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B2951-8790-4A48-B30E-A074D3FA0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320F-9DB1-428E-8866-9B28A1F17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CADB0C-6245-4439-80A3-98533CC4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5E0B7-7B4A-4027-8924-2FF3AD4EC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32EC-B1A0-4E75-B838-195DA0A9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F9E8D-F383-4EE8-A507-F65F8E87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A701F-F25D-4D65-A08D-4F2CFDC44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FC10F-0998-4FE9-89C1-37B4B9144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C7C0C-0A7C-4EA2-92FC-DA4069C52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F0F05F-88B8-4CAA-8AD5-06349EF5D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4809A-A550-4B73-8951-7181CA9C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DA316-1439-420B-8277-C1099F3E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A7A0-AE7E-4EB2-B72E-7106AA404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A1B72-7BCF-4D99-8FB6-C58FD0D3B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DDFD-8A5C-4B55-A04A-1934DA8B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045FB-85E4-4E42-AB99-FF6F87206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C4B99-D6F5-4728-9ACB-91523435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273F-9453-4886-8AD4-0AE44231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655DD-E834-4610-8067-82A203483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1F13D3-FA9C-4174-895C-2371073E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7D8F5-3110-438F-B97C-1D4D533CA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FA5AA4-C503-445F-943C-9C603F8A1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ECDD5-474B-4696-AC08-9BF67C08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BBB7A-5B65-4379-B8D3-425275FDC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CF0D2-D50C-4E83-A266-08E8B43C9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C380E-3BCA-41F7-9505-EACDD9E8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A8D592-2A2D-4087-842E-987E47039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DAE24-3ECD-46AB-B15B-C8A550BB2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26A12-7136-42B4-9AE9-B0BD0CD05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22A46-B242-43B2-8E8F-F1BC0CDA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6C92C-66DF-4A28-A8B4-88203C86F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B7A1-0003-4442-B00A-AC04E1F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F5D9C4-E122-476C-B851-FFDDFA1F0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82CDB-D97E-459C-9B72-45304FC6B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4DC2-6FF8-4D15-B756-B49A79C55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69C562-8AF2-43DD-8C78-6305E2401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BB7CF6-413C-4A8A-92E8-D156C53C6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39AE55-9E6A-46A8-9552-3074BAA2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FC736B-8461-4917-85D8-DD6C0F1B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3952A-04F6-4A7C-98AA-626BF0FB4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B67EBF-873B-40BD-9627-5F5A3663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A5770-44B5-44A3-BD25-4B7381635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148A70-8782-4FFA-9E75-85E55994C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5AC607-96A9-429B-9056-B6799075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0B5278-19A1-41D7-82E8-FA26FBC7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098C-AEBC-40D6-B5D2-EF07DF69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0E03A-9E72-4314-B0FD-CAD0A895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37C399-E193-4B54-B9D2-C6448BD77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4FA1F-583A-430E-BB72-4EE93CFB4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DF6DC3-12D5-4A62-A87F-D7F4AAC2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EF828-0A93-4D55-863E-FEAE8C97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EAB83-BD4F-4AE1-8BC2-237821BA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6D91A-3693-46F8-912F-84619A78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8B0772-81DA-447D-9168-886B0743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9683B-FC2B-4FAB-B44D-36C1E6D72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86FDE-5869-42A5-A693-C9E23C9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FF5D-A959-4C3B-960A-9026FD20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B3622-65B2-4693-B39F-108478FE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4BE9A6-89BC-4741-9D41-C043C25D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F93957-C20E-43E6-B306-33D5E4AF4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32F076-FB74-4E3F-B8D3-2F1AA057A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5E6A6-BFEB-4751-98E4-7D9B00A4A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DF9D6E-AC50-42D9-96D6-89184132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3B1E0-C6E8-4955-B430-306FA7E6A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F8884-C9BB-4FDC-BBA3-E41098C5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76B8A5-9A19-428E-8EE4-730EBDDF9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11ABB3-E303-424A-9E38-EE4037A09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AEB-5ABA-457C-885E-8AE1707B4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0E3CC1-28F7-49CD-8D54-D4A6C75A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E506D-7551-4A34-9666-4946D25D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5DCF7-BECB-478E-98B1-7B4B4D11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2CDDA-1920-4707-8BB6-735B9DCDE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9E897-F26A-427F-8885-9C79A0D2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EC82B5-3DDE-466D-9BE3-DBA4407DA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1600E-6D51-4437-BC07-1BF82B52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212C51-974B-42F4-B596-463DE9406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8F446B-7679-4ECD-A565-34036317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9C3EF9-DEB7-4278-9ABF-ED09A64B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350DB-863E-4DBA-A6A0-E6ADB4F023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2BFB1-91ED-416E-A2D6-DC9D51CFFE5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963CD-DE43-48ED-9C21-266D4F65A52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A3177-EF99-45B8-87E3-11E32547A8A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AF02-3BDF-4678-BE87-4A5C1C143FF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8FA3-702E-44D9-8301-833062C81B3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2A597-9077-47EE-B0AD-EADFB86F035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ABFC-FA00-4062-8C77-7F63877433E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6676-CD91-40B4-B33C-4A9F2D75631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25D1-14B1-4947-82F0-50711131ED7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319D8-92C4-4E9B-8C44-FD820920FF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D36D-706C-423F-97F7-845F2A4E3C0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6D52-8C08-401D-B0DB-9A3BF1FADC1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CEBF-AA6F-41A9-B56D-143C7A4F0322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00199-DB70-480D-B52D-06952BA88C4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ABCB-060F-490C-97E8-8FB5AB816BAB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570E-DBEB-4816-AF36-671F948D3D27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DFA0-02A0-4D18-A393-96F3D695FDF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B4A45-A5FE-4DCE-A6CB-CC8126CA8A7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D5084-68B6-466A-98C7-48F029C25FD3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6433E-2EF4-4E2C-AC03-B1D5E1148E5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6F6D-98C1-4D96-8459-68B91394286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0570-A2F1-466D-9578-5FDE2419D7F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B2C5-335D-4715-B57E-7E2C304F2C0E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E009C-3D95-428A-A713-1FA16E1DE66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4396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1828800" y="2765520"/>
            <a:ext cx="60166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"/>
                <a:ea typeface="黑体"/>
              </a:rPr>
              <a:t>设计调研报告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Picture 2" descr="C:\Users\Administrator\Desktop\mb\未标2.jpg未标2"/>
          <p:cNvPicPr/>
          <p:nvPr/>
        </p:nvPicPr>
        <p:blipFill>
          <a:blip r:embed="rId1"/>
          <a:stretch/>
        </p:blipFill>
        <p:spPr>
          <a:xfrm>
            <a:off x="0" y="-22320"/>
            <a:ext cx="12165120" cy="68788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3"/>
          <p:cNvSpPr/>
          <p:nvPr/>
        </p:nvSpPr>
        <p:spPr>
          <a:xfrm>
            <a:off x="5008680" y="255600"/>
            <a:ext cx="31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调研流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4003560" y="1495440"/>
            <a:ext cx="4992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4991040" y="1355760"/>
            <a:ext cx="427032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制定计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分配工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市场调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人群调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模拟表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9" name="Object 6"/>
              <p:cNvSpPr txBox="1"/>
              <p:nvPr/>
            </p:nvSpPr>
            <p:spPr>
              <a:xfrm>
                <a:off x="56386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3" descr="未-2"/>
          <p:cNvPicPr/>
          <p:nvPr/>
        </p:nvPicPr>
        <p:blipFill>
          <a:blip r:embed="rId1"/>
          <a:stretch/>
        </p:blipFill>
        <p:spPr>
          <a:xfrm>
            <a:off x="-6480" y="14400"/>
            <a:ext cx="12184200" cy="68547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4"/>
          <p:cNvSpPr/>
          <p:nvPr/>
        </p:nvSpPr>
        <p:spPr>
          <a:xfrm>
            <a:off x="1104840" y="14400"/>
            <a:ext cx="558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黑体"/>
              </a:rPr>
              <a:t>市场调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066680" y="1603440"/>
            <a:ext cx="2449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4" name="Picture 6" descr="未标s题-2"/>
          <p:cNvPicPr/>
          <p:nvPr/>
        </p:nvPicPr>
        <p:blipFill>
          <a:blip r:embed="rId2"/>
          <a:stretch/>
        </p:blipFill>
        <p:spPr>
          <a:xfrm>
            <a:off x="584280" y="1724040"/>
            <a:ext cx="3375000" cy="18986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7" descr="未标s题-2"/>
          <p:cNvPicPr/>
          <p:nvPr/>
        </p:nvPicPr>
        <p:blipFill>
          <a:blip r:embed="rId3"/>
          <a:stretch/>
        </p:blipFill>
        <p:spPr>
          <a:xfrm>
            <a:off x="4113360" y="1698480"/>
            <a:ext cx="3373200" cy="189864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8" descr="未标s题-2"/>
          <p:cNvPicPr/>
          <p:nvPr/>
        </p:nvPicPr>
        <p:blipFill>
          <a:blip r:embed="rId4"/>
          <a:stretch/>
        </p:blipFill>
        <p:spPr>
          <a:xfrm>
            <a:off x="7740720" y="1698480"/>
            <a:ext cx="3375000" cy="18986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9"/>
          <p:cNvSpPr/>
          <p:nvPr/>
        </p:nvSpPr>
        <p:spPr>
          <a:xfrm>
            <a:off x="1392120" y="3963960"/>
            <a:ext cx="229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art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Text Box 10"/>
          <p:cNvSpPr/>
          <p:nvPr/>
        </p:nvSpPr>
        <p:spPr>
          <a:xfrm>
            <a:off x="4184640" y="3932280"/>
            <a:ext cx="214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art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Text Box 11"/>
          <p:cNvSpPr/>
          <p:nvPr/>
        </p:nvSpPr>
        <p:spPr>
          <a:xfrm>
            <a:off x="7048440" y="3943440"/>
            <a:ext cx="217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part.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Picture 3" descr="标题-2"/>
          <p:cNvPicPr/>
          <p:nvPr/>
        </p:nvPicPr>
        <p:blipFill>
          <a:blip r:embed="rId1"/>
          <a:stretch/>
        </p:blipFill>
        <p:spPr>
          <a:xfrm>
            <a:off x="1440" y="-1440"/>
            <a:ext cx="121906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内容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3" name="Picture 3" descr="标题-2"/>
          <p:cNvPicPr/>
          <p:nvPr/>
        </p:nvPicPr>
        <p:blipFill>
          <a:blip r:embed="rId1"/>
          <a:stretch/>
        </p:blipFill>
        <p:spPr>
          <a:xfrm>
            <a:off x="1440" y="-1440"/>
            <a:ext cx="1219068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自定义页（可选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Calibri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3" descr="题-2"/>
          <p:cNvPicPr/>
          <p:nvPr/>
        </p:nvPicPr>
        <p:blipFill>
          <a:blip r:embed="rId1"/>
          <a:stretch/>
        </p:blipFill>
        <p:spPr>
          <a:xfrm>
            <a:off x="3240" y="6480"/>
            <a:ext cx="12163320" cy="685152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4"/>
          <p:cNvSpPr/>
          <p:nvPr/>
        </p:nvSpPr>
        <p:spPr>
          <a:xfrm>
            <a:off x="5452920" y="2516040"/>
            <a:ext cx="40658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THANK 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558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59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0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a</cp:lastModifiedBy>
  <dcterms:modified xsi:type="dcterms:W3CDTF">2014-07-17T06:05:0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