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9D0E-FD9A-4DB6-8DC8-096F83FB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6EBC-2700-4E5F-9F2B-F21BB5EA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EEAC-364C-4B5E-9F69-41736D4C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FCAB-8D3C-48D2-9539-D638B360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627C-0E29-457D-8C03-AAC532DE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0F29-173A-4FDB-9F58-87BE585D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3C59-5F5C-4D9F-9BBB-8E6F9F94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9A6A-2679-44B6-BE59-09AD2329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9A01-6E47-4684-8CA9-ABD16715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F448-1A68-489F-AC5F-D693ADBA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8173-E33C-4314-A1DE-D4DFDB8F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39DC-ECF4-4B58-83D8-9D7C0922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C2FF-F45E-4A09-B12B-3EBC6616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29B8-B8EA-4431-B41E-45301A67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8921-7C23-47C6-AFFC-9E8B71D4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2500-B95F-46F1-B490-6F1F42ED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AE8E-3D98-4EE1-8681-C410E50C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2885-CC8D-4F65-81E8-F008258A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A6AC-48B1-49F1-BA58-ACC4B20B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085C-250C-47C9-B8DA-13902032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E03-758E-414A-A289-B9EE1DD4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4032-F88E-4020-BE9A-01CFDB9D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DCAC-8AAC-4C8D-816A-450F03E8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ADFA-AF2C-47C3-92A4-8408E266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图片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5655-B006-44C9-B877-A988BA8F14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DEF3-BD34-4298-91B1-1657B4B7416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C460-805D-430C-9FEA-987A974F73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08:44:12Z</dcterms:created>
  <dc:creator>hp</dc:creator>
  <dc:description/>
  <cp:keywords/>
  <dc:language>en-US</dc:language>
  <cp:lastModifiedBy>a</cp:lastModifiedBy>
  <dcterms:modified xsi:type="dcterms:W3CDTF">2014-08-13T02:12:56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