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2D6-9392-4BBE-B99C-D9FF9ED1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ED5-C411-49B0-B529-861396EB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6A11-1E9C-440B-91D3-8EA1877C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C1F92-1332-4245-A4AC-E2A94F4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B4B19-A215-49AB-9272-E7F30B7B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B7B08-2AED-453D-A972-690BEF0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6956E-EFC0-49E3-88FA-1F99CEC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F09B0-FB8C-48A6-8F3A-CCA6CDD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9DF8-3AFE-4A04-8D5B-9160764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FA44-5D4B-4EB5-A996-163FDCA4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0D2C4-9254-4C65-A300-38FFC2ED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22024-7C24-426C-B30E-213C6978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BAB-A136-4756-8439-087C141E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7FA0C-BE9D-42BA-AF59-631726A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BD724-A92D-4348-ABEF-74D291B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78DAE-0382-4C84-8558-B6EA5D5B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008FE-B621-4FC4-8CEB-C07E26A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AA3A2-1CD2-4F03-8DE9-0B7A7EA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F0DC1-02D5-4CE8-B3E8-8E85F8D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0B470-5287-4EE6-9959-45076F9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84E97-C020-4614-A786-53BE618D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BD83-1DC5-463B-A960-F826D96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4487E-1B55-413A-962D-04EE15F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2BE-8CE0-4FA0-ABAE-7D80A79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98BF-53A5-4AC9-8507-A63C2EF2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EECD-70BD-495B-99D1-9CC10A12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2AEB6-65B2-4D0C-A015-F81E1C2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9BBF-3DD1-49D4-91A1-4E0F4801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9738-C132-40D4-AA7C-B17F936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6CBD6-5DBD-4590-8154-30DCB695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8BB9-F6D2-40C8-853F-B29409E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4328D-6E78-4976-B405-9A59565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46212-B201-4F71-B0B7-34758F7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D36C9-5C7F-49F3-B64E-34F59DF9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CEE-B994-4B31-B0B1-ED2FCF8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35B91-0F8C-4580-9CF0-CAA30650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5A68-9F31-4115-B06E-02A9E1A1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91F4-E4CB-4A24-8F50-8A2BBD26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9CE3E-E3AA-4B0D-B62C-2B5D42C4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41FF8-07CD-45AD-84F5-141030A4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BA1C9-2F70-4952-872A-C1239C71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CFA1D-4F71-4580-8F5F-A2D77F1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AD5D5-8B0F-487F-9F8B-2833219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D1EEE-5ED8-4D3F-9956-8AEBB279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FA013-A88B-4F39-B80D-511590D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1D2C-27F1-499A-8896-780FFD4B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5AB8E-01C0-4B68-A16F-D54F98A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31198-0AED-4DF9-8549-94039502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CA05E-2974-4598-AAD3-827F719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306B-C71C-4A44-AAF8-D56B8968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E9A9-9D39-4B4F-BE13-44A2D7A2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2569F-AB4F-4C66-BDBB-E4AD2D46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71367-C644-4180-BFCD-4D0A98B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34435-72F7-4423-9358-CECDA528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A1B13-3057-47AE-A69B-2601780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6D20F-4074-41AB-A801-D744910C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004-7CFB-4A0D-9980-A714317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4DD99-BB79-415B-911E-E860D8AD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5C978-87A4-4407-9213-A548D26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AAFB3-6B0A-4A28-99B9-B43B3D7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BA275-EF5A-4045-B232-C1BC2E6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B7DD8-6763-4132-B105-0DE67F1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8739F-2D80-41FA-905A-DB5FE1F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69A1-4F03-4FFC-9CFC-C65CBEDE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A2D9F-00C4-4362-9C07-4EA48045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A7293-7B28-40DE-9D84-1214F3F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BA212-5B79-43A8-9CFF-E6CE6064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F227-7B63-4F24-9B30-0CFD4A02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6BA4A-6F05-40A1-AA32-263C9DE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0654F-72A2-426E-B5DF-BD73ADA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4A506-0D89-4B82-B37F-909430A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B2D1B-CCF8-4CA6-916A-BB9E855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D6549-5E01-4968-82D7-F61349A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ACE2A-2A8B-43D7-8CE3-94AD8FC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B092A-3977-437B-888F-A8E49AC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EE12E-A280-425F-8397-3D0343D6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CC4B6-A939-4F36-93CA-9522D9AD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B296-1884-4A43-9800-94027A1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BA09-9E0A-4702-8C5F-07BABB7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DF24-4315-4AE5-ABB2-1782A83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C81-1DE0-40DE-9D47-AE1A4291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8F34-424F-4EE2-AB33-1CAA694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31BE-FA2D-43E6-A9DA-7C1256A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2E6-0F94-41FB-8483-43385C9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6E12-A394-4E09-ADF9-9B62F285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FC9D-08A7-4691-B771-B2D7E100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4D5F-73DA-4F9F-8D7B-28046F63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0C00-EAA6-4B49-97D5-920A836F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B6AE-C3E6-4C43-8771-AF2FF9C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7558-FC36-4416-925E-012B22E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1BCD-8417-441F-922B-42D28F51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482-5F34-4ABA-B775-0FC607F9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924A-398F-4DB4-80CD-D5664F17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6A08-D8E2-4B7D-9F38-201C905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E53B-453A-41EE-8AA8-680038F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7DDB-0E3A-4859-8CD9-CA505EA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3B48-4805-43FD-9CF5-A584BB75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2891-AF59-4156-B5BE-57450814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0DE5-5F53-45E5-8C77-2FF684E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A4B1-6034-41A8-99A3-396EC1ED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D9C8-D5EB-4EB0-B3F7-5DE1C99F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70B2-FE29-4078-92E8-98DE041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C48-C9BE-4A6A-AAE7-EE244227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B87D-32A9-4A54-A9EB-911A32FC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F979-366D-409F-9308-F53A35F2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B2AB-1BF2-4063-AEA7-F14D159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94EF-C0F4-45D9-9348-1394942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A98C-81C9-421C-BFDF-6143869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1F25-2DA1-4CC6-82CE-EAAA86A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4000-C1EA-4E80-8499-EB5707C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46A0-20B5-4C4C-B59E-183FBC32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94C2-7F0A-4BF6-A863-13C6979A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D37E-83F8-482D-849A-A2153C28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52D-4A7C-49FD-9260-39AF354D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CF24-3A96-426E-898D-92F18BAC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4A26-438A-41B6-8F15-BA571C8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53E3-4B5C-4B7F-90DD-7B43C24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ED3B-E79E-4C01-BE64-9F761B4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3851A-42D3-4406-BE5D-C19A7EA9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D26A-FEDD-4115-8D61-47BFD6E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A266-3611-4700-BCCB-DADFEA9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D4FF-B0A7-4DFF-927C-BB91310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568C-9D56-4970-A643-779B30E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36FC-7B44-4D71-8743-F2C97358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53D-6EA1-46FC-B972-BFB73F0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D1154-944B-47A5-80FB-B8FCB6B9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9508-E4C3-4B1B-BF6F-9EEFD054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929D-3A71-4A1B-8B10-42E80299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12E51-8614-4943-B8AA-DA6F06D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2415-E810-4F9E-AFB3-79E8DCF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CFF7-8E6D-4C53-BD17-D700831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287E-2497-4449-9EE1-D1BC337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7007-8233-4BCA-AD50-02B3D91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98E5-EDA5-4983-85FE-C068C89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6AC19-0037-45AD-AADB-1D675C1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529-2407-490D-BE79-DAB2924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8822-9E6F-4BD1-BA67-1F5848B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4C730-2A7D-4C69-B7FB-4C3A8678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8F52-BC23-48A1-B503-EE7F4D90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4A52-8BA9-4CCE-BE96-AA63AC77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8850-7D28-42B4-8410-65B57B1B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80E3-1999-419A-B710-505B1442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EC8F-6524-4683-8E17-3B1A8410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6426-AB2F-40D5-9545-BB9E933C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462F-30CA-4E0A-B5CA-BCF87D9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878B-C43C-4364-ADFA-7BD2E64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D3-6C71-435D-B71F-FBD25D2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70B8-D56C-489F-B9FB-AA221B4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AE7C3-62FE-418B-9467-5B6A868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CA271-C27C-40ED-AD6A-F94F1BD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7BA1-6885-450B-9897-62069CE3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20DD-C277-45DF-B5AF-898DC39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F05D-23AA-427C-B73A-589FFA8E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A304-970D-42BD-97AE-D5A4253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C867-1EC5-44A7-B7B4-90612C1D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BE36-B7F7-4C63-AD91-55C564A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F3C0-CDFD-4730-BA87-1510EC0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8E1-065E-4702-BC0B-FFE81B8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F383-000F-4D20-B955-FE7F8604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495C-6A96-4019-AA64-3B0F02C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8CE8-DA86-4856-983A-2AD6405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237B-2DD8-4B9D-B062-FA6337F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E48D-8B54-4194-A26F-F94B094A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D592-7F80-4E92-85B5-F75EEC95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BA97-53D7-465C-9C10-85D90EDD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A9EBF-A9DC-4611-8BD2-E00D7F5F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C391E-7E54-4A71-ACCB-3D0D5D7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91B8-76D5-4994-AD82-F5A41DB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280A-8DA9-4DB9-8E46-9D333DC96CA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EB4-44CB-4939-BA28-BA4510CF3E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3C9-C060-43CA-AD75-0DFC789606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5137-6F72-472C-8831-A9AA52A267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346-EB75-4DED-A7EA-F9F284AD55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B935-3920-464D-95DE-AC6004FE60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9B3D-E936-42FA-A59E-0B6BA26208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652-93D6-4B67-BDD9-26291D0F14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9ECD-8082-47DD-9C7C-AC04F59AF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95E-0017-47A0-BC20-9CDF8EB4C7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F7A-ED65-4D9F-8B4E-2380D5F9C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6A8-71A4-4E31-8B11-753221C8DFA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3EB-B937-422F-8F1D-9FEC22118C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E3F-C5A6-4A10-AF9C-F705DAF7A3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297E-86AC-4F36-A4AB-C17267E3C9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F68-2189-4D71-B7C1-85E0C3C34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EFA-6F36-411B-AF63-DD5501C620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5A3B-61A5-4E27-8B6C-C8A1CE1026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F57-1C1E-4EF0-962E-97099C7AD7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829F-9E14-4F9C-8E6D-42D937125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3B6-E797-4A1E-A4EA-1682C74716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4278-6911-488E-B5AD-D7B40F4DBB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E82D-65EB-4D00-92ED-7E5C985182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1E6-F312-4C5E-A7F7-627FF240C3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377-F753-43D8-AD8B-0D4BFC5E3D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267-0CA7-4902-A6FC-FB6C2292BB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179880" y="4221000"/>
            <a:ext cx="2852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Object 3"/>
          <p:cNvGraphicFramePr/>
          <p:nvPr/>
        </p:nvGraphicFramePr>
        <p:xfrm>
          <a:off x="3708360" y="1819440"/>
          <a:ext cx="40719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819440"/>
                    <a:ext cx="407196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7:03:25Z</dcterms:modified>
  <cp:revision>1</cp:revision>
  <dc:subject/>
  <dc:title>PowerPoint 演示文稿</dc:title>
</cp:coreProperties>
</file>