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188-80EB-41AA-B3AB-C31B8E57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93C-D021-45C4-93E6-AD6E8B10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207-1255-4E68-8B08-E0A65801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355-1EE0-45EA-92FB-C651210E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E915-11CA-4F32-80F5-19FD584B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70EC-4735-4475-A5F2-BFE44D12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21D4-CBBD-42A6-BE89-85C772D6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8C79-4886-4130-A6C3-45884D4D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40D5-BD34-4598-97C9-40BCA822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09F8-F81D-4319-9EDF-9ED3487A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6266-2A41-4DC5-8F4A-5DC7ABC7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630-0B9F-4ACC-B1A2-4971980D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26BE-28F0-4F3B-AB24-01C80CB9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F1DC-114E-4E1D-9EDC-75D75ACF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DAB2-5E0C-4757-83E1-4A025A57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727D-B343-4AF1-89F0-D38DEA97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3AFA-F354-43BB-9418-6C0AFA3B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D275D-9ED1-42FF-9330-660870DB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55142-34C0-4A6D-A50E-37CF793D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EAE8-FDEE-46E9-8338-FBEE29DA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46BE6-FF52-43A7-A5D4-BA86F13A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C5AF6-998E-4DDA-BF02-EEA0301D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28E-B0ED-4850-9592-69CF7131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F32FD-8072-4C2B-9CD9-3955FC7E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068F4-CB0A-4894-A5C4-3B63A6B2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2674-84D1-4E2B-A51D-6CC7A99F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DF6BC-D3D8-41A8-97F2-CC8D636D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B160E-48A4-49FC-9DDB-2B063F5E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BE52-1574-4544-B81E-2166EFBF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78963-C196-45DA-A63B-82FC9E73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3D3-2C65-45BC-BA01-C543F6E8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031-741F-41E9-BA37-2240A8E3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C3D-036B-4618-B68A-D639E37E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6D0-D4F3-4772-892D-B2C368DC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641-2255-498D-8437-4947C7CC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D14-14EE-432D-A97C-63248E85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5077-5319-4EAB-8E93-B64C4DE604E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82C4-2E77-4A8E-9273-BD1699032E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D29A-7F99-4C7F-922C-EC02B7203F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9EA6-3066-4C95-B69D-BDB6E5DAFD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hyperlink" Target="258,3,&#24187;&#28783;&#29255; 3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71,4,&#24187;&#28783;&#29255; 4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73,6,&#24187;&#28783;&#29255; 6" TargetMode="External"/><Relationship Id="rId5" Type="http://schemas.openxmlformats.org/officeDocument/2006/relationships/hyperlink" Target="259,8,&#24187;&#28783;&#29255; 8" TargetMode="External"/><Relationship Id="rId6" Type="http://schemas.openxmlformats.org/officeDocument/2006/relationships/hyperlink" Target="262,10,&#24187;&#28783;&#29255; 10" TargetMode="External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hyperlink" Target="275,12,&#24187;&#28783;&#29255; 12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rcRect l="0" t="13872" r="0" b="11518"/>
          <a:stretch/>
        </p:blipFill>
        <p:spPr>
          <a:xfrm>
            <a:off x="1908000" y="333360"/>
            <a:ext cx="5688360" cy="6048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rcRect l="0" t="0" r="64062" b="85002"/>
          <a:stretch/>
        </p:blipFill>
        <p:spPr>
          <a:xfrm>
            <a:off x="38160" y="0"/>
            <a:ext cx="2577960" cy="1614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3429000"/>
            <a:ext cx="77724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剪纸</a:t>
            </a:r>
            <a:r>
              <a:rPr b="0" lang="en-US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-</a:t>
            </a: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艺术简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axianjianzhi03t_副本"/>
          <p:cNvPicPr/>
          <p:nvPr/>
        </p:nvPicPr>
        <p:blipFill>
          <a:blip r:embed="rId1"/>
          <a:stretch/>
        </p:blipFill>
        <p:spPr>
          <a:xfrm>
            <a:off x="466560" y="695160"/>
            <a:ext cx="8210880" cy="5327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ad4291e28e0f725ff32238d67_5602_副本"/>
          <p:cNvPicPr/>
          <p:nvPr/>
        </p:nvPicPr>
        <p:blipFill>
          <a:blip r:embed="rId2"/>
          <a:stretch/>
        </p:blipFill>
        <p:spPr>
          <a:xfrm>
            <a:off x="9180360" y="5388120"/>
            <a:ext cx="1231920" cy="1269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ad4291e28e0f725ff32238d67_5602_副本"/>
          <p:cNvPicPr/>
          <p:nvPr/>
        </p:nvPicPr>
        <p:blipFill>
          <a:blip r:embed="rId3"/>
          <a:stretch/>
        </p:blipFill>
        <p:spPr>
          <a:xfrm>
            <a:off x="-1320840" y="60480"/>
            <a:ext cx="1231920" cy="1269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420600" y="2984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169040" y="60228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72153 -0.00037 E">
                                      <p:cBhvr>
                                        <p:cTn id="204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7222 -0.000185 E">
                                      <p:cBhvr>
                                        <p:cTn id="206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axianjianzhi01t_副本1_副本"/>
          <p:cNvPicPr/>
          <p:nvPr/>
        </p:nvPicPr>
        <p:blipFill>
          <a:blip r:embed="rId1"/>
          <a:srcRect l="0" t="0" r="0" b="95707"/>
          <a:stretch/>
        </p:blipFill>
        <p:spPr>
          <a:xfrm>
            <a:off x="181080" y="620640"/>
            <a:ext cx="8640720" cy="244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2007919151255477_副本"/>
          <p:cNvPicPr/>
          <p:nvPr/>
        </p:nvPicPr>
        <p:blipFill>
          <a:blip r:embed="rId2"/>
          <a:stretch/>
        </p:blipFill>
        <p:spPr>
          <a:xfrm>
            <a:off x="-2184480" y="1628640"/>
            <a:ext cx="2151000" cy="388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2007919151255477_副本1"/>
          <p:cNvPicPr/>
          <p:nvPr/>
        </p:nvPicPr>
        <p:blipFill>
          <a:blip r:embed="rId3"/>
          <a:stretch/>
        </p:blipFill>
        <p:spPr>
          <a:xfrm>
            <a:off x="9180360" y="1628640"/>
            <a:ext cx="2121120" cy="388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360" y="23558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谢谢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959280" y="346716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baxianjianzhi01t_副本1_副本"/>
          <p:cNvPicPr/>
          <p:nvPr/>
        </p:nvPicPr>
        <p:blipFill>
          <a:blip r:embed="rId4"/>
          <a:srcRect l="0" t="94658" r="0" b="0"/>
          <a:stretch/>
        </p:blipFill>
        <p:spPr>
          <a:xfrm>
            <a:off x="181080" y="5989680"/>
            <a:ext cx="864072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417 9.3E-005 L 0.331111 9.3E-005 E">
                                      <p:cBhvr>
                                        <p:cTn id="235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2847 9.3E-005 E">
                                      <p:cBhvr>
                                        <p:cTn id="237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baxianjianzhi01t_副本1_副本"/>
          <p:cNvPicPr/>
          <p:nvPr/>
        </p:nvPicPr>
        <p:blipFill>
          <a:blip r:embed="rId1"/>
          <a:stretch/>
        </p:blipFill>
        <p:spPr>
          <a:xfrm>
            <a:off x="182520" y="1101600"/>
            <a:ext cx="8640720" cy="4703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1368360" y="1319040"/>
            <a:ext cx="338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2"/>
              </a:rPr>
              <a:t>发展历史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3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197080" y="2490840"/>
            <a:ext cx="2808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4"/>
              </a:rPr>
              <a:t>史籍记载</a:t>
            </a:r>
            <a:r>
              <a:rPr b="0" lang="zh-CN" sz="44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338640" y="3633840"/>
            <a:ext cx="2827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创作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00720" y="4776840"/>
            <a:ext cx="3360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6"/>
              </a:rPr>
              <a:t>视频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cad4291e28e0f725ff32238d67_560_本"/>
          <p:cNvPicPr/>
          <p:nvPr/>
        </p:nvPicPr>
        <p:blipFill>
          <a:blip r:embed="rId7"/>
          <a:stretch/>
        </p:blipFill>
        <p:spPr>
          <a:xfrm>
            <a:off x="9144000" y="92160"/>
            <a:ext cx="1282680" cy="129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ad4291e28e0f725ff32238d67_560_本"/>
          <p:cNvPicPr/>
          <p:nvPr/>
        </p:nvPicPr>
        <p:blipFill>
          <a:blip r:embed="rId8"/>
          <a:stretch/>
        </p:blipFill>
        <p:spPr>
          <a:xfrm>
            <a:off x="-1246320" y="5157720"/>
            <a:ext cx="1271880" cy="1295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1301760" y="404640"/>
            <a:ext cx="13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2198520" y="739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中山行书百年纪念版"/>
              </a:rPr>
              <a:t>  </a:t>
            </a:r>
            <a:r>
              <a:rPr b="1" lang="zh-CN" sz="1800" spc="-1" strike="noStrike">
                <a:solidFill>
                  <a:srgbClr val="808080"/>
                </a:solidFill>
                <a:latin typeface="Tahoma"/>
                <a:ea typeface="中山行书百年纪念版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732720" y="5805360"/>
            <a:ext cx="1276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9"/>
              </a:rPr>
              <a:t>末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72 0.010463 L -0.995347 0.014167 E">
                                      <p:cBhvr>
                                        <p:cTn id="31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4792 -9.3E-005 E">
                                      <p:cBhvr>
                                        <p:cTn id="33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axianjianzhi02t_副本2"/>
          <p:cNvPicPr/>
          <p:nvPr/>
        </p:nvPicPr>
        <p:blipFill>
          <a:blip r:embed="rId1"/>
          <a:stretch/>
        </p:blipFill>
        <p:spPr>
          <a:xfrm>
            <a:off x="449280" y="907920"/>
            <a:ext cx="8229600" cy="50421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0" y="1353600"/>
            <a:ext cx="388944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cad4291e28e0f725ff32238d67_560_副本1"/>
          <p:cNvPicPr/>
          <p:nvPr/>
        </p:nvPicPr>
        <p:blipFill>
          <a:blip r:embed="rId2"/>
          <a:stretch/>
        </p:blipFill>
        <p:spPr>
          <a:xfrm>
            <a:off x="9144000" y="84240"/>
            <a:ext cx="1206360" cy="126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ad4291e28e0f725ff32238d67_560_副本1"/>
          <p:cNvPicPr/>
          <p:nvPr/>
        </p:nvPicPr>
        <p:blipFill>
          <a:blip r:embed="rId3"/>
          <a:stretch/>
        </p:blipFill>
        <p:spPr>
          <a:xfrm>
            <a:off x="-1197000" y="5315040"/>
            <a:ext cx="1197000" cy="1270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1663560" y="208080"/>
            <a:ext cx="29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发展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564080" y="14446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楷体"/>
                <a:ea typeface="楷体"/>
                <a:hlinkClick r:id="rId4"/>
              </a:rPr>
              <a:t>免费PPT模板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003889 L -0.967569 -0.003889 E">
                                      <p:cBhvr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51875 -9.3E-005 E">
                                      <p:cBhvr>
                                        <p:cTn id="72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baxianjianzhi01t_1"/>
          <p:cNvPicPr/>
          <p:nvPr/>
        </p:nvPicPr>
        <p:blipFill>
          <a:blip r:embed="rId1"/>
          <a:stretch/>
        </p:blipFill>
        <p:spPr>
          <a:xfrm>
            <a:off x="466560" y="693720"/>
            <a:ext cx="8209080" cy="5183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284720" y="1054080"/>
            <a:ext cx="42098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cad4291e28e0f725ff32238d67_560_副本3"/>
          <p:cNvPicPr/>
          <p:nvPr/>
        </p:nvPicPr>
        <p:blipFill>
          <a:blip r:embed="rId2"/>
          <a:stretch/>
        </p:blipFill>
        <p:spPr>
          <a:xfrm>
            <a:off x="-1305000" y="98280"/>
            <a:ext cx="1295640" cy="11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ad4291e28e0f725ff32238d67_560_副本3"/>
          <p:cNvPicPr/>
          <p:nvPr/>
        </p:nvPicPr>
        <p:blipFill>
          <a:blip r:embed="rId3"/>
          <a:stretch/>
        </p:blipFill>
        <p:spPr>
          <a:xfrm>
            <a:off x="9144000" y="52801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066920" y="28116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y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661080" y="5877000"/>
            <a:ext cx="2232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067280" y="10540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6 0.010278 L 0.952986 0.010278 E">
                                      <p:cBhvr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64653 0.014722 E">
                                      <p:cBhvr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baxianjianzhi07t_副本"/>
          <p:cNvPicPr/>
          <p:nvPr/>
        </p:nvPicPr>
        <p:blipFill>
          <a:blip r:embed="rId1"/>
          <a:stretch/>
        </p:blipFill>
        <p:spPr>
          <a:xfrm>
            <a:off x="549360" y="961920"/>
            <a:ext cx="8137440" cy="50421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860720" y="124452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cad4291e28e0f725ff32238d67_560_副本8"/>
          <p:cNvPicPr/>
          <p:nvPr/>
        </p:nvPicPr>
        <p:blipFill>
          <a:blip r:embed="rId2"/>
          <a:stretch/>
        </p:blipFill>
        <p:spPr>
          <a:xfrm>
            <a:off x="9144000" y="0"/>
            <a:ext cx="1244520" cy="1244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ad4291e28e0f725ff32238d67_560_副本8"/>
          <p:cNvPicPr/>
          <p:nvPr/>
        </p:nvPicPr>
        <p:blipFill>
          <a:blip r:embed="rId3"/>
          <a:stretch/>
        </p:blipFill>
        <p:spPr>
          <a:xfrm>
            <a:off x="-1235160" y="5381640"/>
            <a:ext cx="1235160" cy="12445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1424160" y="260280"/>
            <a:ext cx="271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史籍记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775 -0.000185 E">
                                      <p:cBhvr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47778 -9.3E-005 E">
                                      <p:cBhvr>
                                        <p:cTn id="110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baxianjianzhi05t_副本"/>
          <p:cNvPicPr/>
          <p:nvPr/>
        </p:nvPicPr>
        <p:blipFill>
          <a:blip r:embed="rId1"/>
          <a:stretch/>
        </p:blipFill>
        <p:spPr>
          <a:xfrm>
            <a:off x="531720" y="693720"/>
            <a:ext cx="8210520" cy="5183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7116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2541252_165850689121_2_副本"/>
          <p:cNvPicPr/>
          <p:nvPr/>
        </p:nvPicPr>
        <p:blipFill>
          <a:blip r:embed="rId2"/>
          <a:stretch/>
        </p:blipFill>
        <p:spPr>
          <a:xfrm>
            <a:off x="-1287360" y="95400"/>
            <a:ext cx="1287360" cy="1198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2541252_165850689121_2_副本"/>
          <p:cNvPicPr/>
          <p:nvPr/>
        </p:nvPicPr>
        <p:blipFill>
          <a:blip r:embed="rId3"/>
          <a:stretch/>
        </p:blipFill>
        <p:spPr>
          <a:xfrm>
            <a:off x="9144000" y="5281560"/>
            <a:ext cx="1290600" cy="1192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5023080" y="29700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ical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7097400" y="58770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8542 -0.000185 E">
                                      <p:cBhvr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2569 9.3E-005 E">
                                      <p:cBhvr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baxianjianzhi04t_副本"/>
          <p:cNvPicPr/>
          <p:nvPr/>
        </p:nvPicPr>
        <p:blipFill>
          <a:blip r:embed="rId1"/>
          <a:stretch/>
        </p:blipFill>
        <p:spPr>
          <a:xfrm>
            <a:off x="542880" y="907920"/>
            <a:ext cx="8210520" cy="49705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48320" y="1273320"/>
            <a:ext cx="40384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cad4291e28e0f725ff32238d67_560_副本3"/>
          <p:cNvPicPr/>
          <p:nvPr/>
        </p:nvPicPr>
        <p:blipFill>
          <a:blip r:embed="rId2"/>
          <a:stretch/>
        </p:blipFill>
        <p:spPr>
          <a:xfrm>
            <a:off x="9144000" y="117360"/>
            <a:ext cx="1257480" cy="1155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ad4291e28e0f725ff32238d67_560_副本3"/>
          <p:cNvPicPr/>
          <p:nvPr/>
        </p:nvPicPr>
        <p:blipFill>
          <a:blip r:embed="rId3"/>
          <a:stretch/>
        </p:blipFill>
        <p:spPr>
          <a:xfrm>
            <a:off x="-1247760" y="5300640"/>
            <a:ext cx="1247760" cy="1155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98828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创作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542 -0.00037 E">
                                      <p:cBhvr>
                                        <p:cTn id="146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48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baxianjianzhi08t_副本"/>
          <p:cNvPicPr/>
          <p:nvPr/>
        </p:nvPicPr>
        <p:blipFill>
          <a:blip r:embed="rId1"/>
          <a:stretch/>
        </p:blipFill>
        <p:spPr>
          <a:xfrm>
            <a:off x="542880" y="693720"/>
            <a:ext cx="8137440" cy="5256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99528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ad4291e28e0f725ff32238d67_5601_副本"/>
          <p:cNvPicPr/>
          <p:nvPr/>
        </p:nvPicPr>
        <p:blipFill>
          <a:blip r:embed="rId2"/>
          <a:stretch/>
        </p:blipFill>
        <p:spPr>
          <a:xfrm>
            <a:off x="-1247760" y="39600"/>
            <a:ext cx="1247760" cy="1308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ad4291e28e0f725ff32238d67_5601_副本"/>
          <p:cNvPicPr/>
          <p:nvPr/>
        </p:nvPicPr>
        <p:blipFill>
          <a:blip r:embed="rId3"/>
          <a:stretch/>
        </p:blipFill>
        <p:spPr>
          <a:xfrm>
            <a:off x="9144000" y="5295960"/>
            <a:ext cx="1257480" cy="13078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4933080" y="29844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7035480" y="596412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64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611 -9.3E-005 E">
                                      <p:cBhvr>
                                        <p:cTn id="166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baxianjianzhi06t_副本"/>
          <p:cNvPicPr/>
          <p:nvPr/>
        </p:nvPicPr>
        <p:blipFill>
          <a:blip r:embed="rId1"/>
          <a:stretch/>
        </p:blipFill>
        <p:spPr>
          <a:xfrm>
            <a:off x="468360" y="907920"/>
            <a:ext cx="8209080" cy="5042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2541252_165850689121_2_副本1"/>
          <p:cNvPicPr/>
          <p:nvPr/>
        </p:nvPicPr>
        <p:blipFill>
          <a:blip r:embed="rId2"/>
          <a:stretch/>
        </p:blipFill>
        <p:spPr>
          <a:xfrm>
            <a:off x="9144000" y="88920"/>
            <a:ext cx="1298520" cy="1209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2541252_165850689121_2_副本1"/>
          <p:cNvPicPr/>
          <p:nvPr/>
        </p:nvPicPr>
        <p:blipFill>
          <a:blip r:embed="rId3"/>
          <a:stretch/>
        </p:blipFill>
        <p:spPr>
          <a:xfrm>
            <a:off x="-1322280" y="5345280"/>
            <a:ext cx="1298520" cy="1209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221544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视频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597 -9.3E-005 L 0.974514 -9.3E-005 E">
                                      <p:cBhvr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58 -9.3E-005 L -0.964653 -9.3E-005 E">
                                      <p:cBhvr>
                                        <p:cTn id="186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5:55:30Z</dcterms:created>
  <dc:creator>sg</dc:creator>
  <dc:description/>
  <dc:language>en-US</dc:language>
  <cp:lastModifiedBy>a</cp:lastModifiedBy>
  <dcterms:modified xsi:type="dcterms:W3CDTF">2015-01-14T05:55:38Z</dcterms:modified>
  <cp:revision>1</cp:revision>
  <dc:subject/>
  <dc:title>剪纸-艺术简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