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858-2F1B-44F8-BE6F-6C735C69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C61-ADC4-40F4-88EA-8ECA3399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12A-ABBF-4FD2-9674-EF667020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D59-9EA9-4642-AC5B-BA7D6A7E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4A9-D847-469B-819F-434C9B6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7E7-7380-4C38-AD42-585A188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3EC-14E9-48F9-B079-9443A094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5D2-3A68-483D-9329-4B851BD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92B-24B9-49A5-9314-ECA11BC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264-7A1E-40A6-A2DB-1190902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07B-468E-432D-99E3-6EBB9CE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0FF-48B8-4027-812A-BC4F4F9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3B9D-10D8-43E7-9C40-262F1B8F5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26170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EV019-01"/>
          <p:cNvPicPr/>
          <p:nvPr/>
        </p:nvPicPr>
        <p:blipFill>
          <a:blip r:embed="rId1"/>
          <a:stretch/>
        </p:blipFill>
        <p:spPr>
          <a:xfrm>
            <a:off x="-1508040" y="-2711520"/>
            <a:ext cx="12161880" cy="1102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EV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355760" y="-1347840"/>
            <a:ext cx="11856960" cy="8413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573120" y="0"/>
            <a:ext cx="10293120" cy="6795720"/>
            <a:chOff x="-573120" y="0"/>
            <a:chExt cx="10293120" cy="6795720"/>
          </a:xfrm>
        </p:grpSpPr>
        <p:pic>
          <p:nvPicPr>
            <p:cNvPr id="44" name="Picture 23" descr="梦幻世界大图 点击还原"/>
            <p:cNvPicPr/>
            <p:nvPr/>
          </p:nvPicPr>
          <p:blipFill>
            <a:blip r:embed="rId4"/>
            <a:stretch/>
          </p:blipFill>
          <p:spPr>
            <a:xfrm>
              <a:off x="-573120" y="0"/>
              <a:ext cx="10293120" cy="67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4" descr="梦幻世界大图 点击还原"/>
            <p:cNvPicPr/>
            <p:nvPr/>
          </p:nvPicPr>
          <p:blipFill>
            <a:blip r:embed="rId5"/>
            <a:srcRect l="0" t="5778" r="66136" b="88150"/>
            <a:stretch/>
          </p:blipFill>
          <p:spPr>
            <a:xfrm>
              <a:off x="-557280" y="133560"/>
              <a:ext cx="378360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5" descr="梦幻世界大图 点击还原"/>
            <p:cNvPicPr/>
            <p:nvPr/>
          </p:nvPicPr>
          <p:blipFill>
            <a:blip r:embed="rId6"/>
            <a:srcRect l="34167" t="80247" r="63289" b="0"/>
            <a:stretch/>
          </p:blipFill>
          <p:spPr>
            <a:xfrm>
              <a:off x="3077280" y="5458680"/>
              <a:ext cx="2883960" cy="133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2506680" y="1155600"/>
            <a:ext cx="712800" cy="349200"/>
            <a:chOff x="2506680" y="1155600"/>
            <a:chExt cx="712800" cy="349200"/>
          </a:xfrm>
        </p:grpSpPr>
        <p:sp>
          <p:nvSpPr>
            <p:cNvPr id="48" name="Oval 32"/>
            <p:cNvSpPr/>
            <p:nvPr/>
          </p:nvSpPr>
          <p:spPr>
            <a:xfrm>
              <a:off x="2905200" y="115560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33"/>
            <p:cNvSpPr txBox="1"/>
            <p:nvPr/>
          </p:nvSpPr>
          <p:spPr>
            <a:xfrm>
              <a:off x="2506680" y="124452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GLOBAL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884920" y="1028880"/>
            <a:ext cx="712800" cy="349200"/>
            <a:chOff x="5884920" y="1028880"/>
            <a:chExt cx="712800" cy="349200"/>
          </a:xfrm>
        </p:grpSpPr>
        <p:sp>
          <p:nvSpPr>
            <p:cNvPr id="51" name="Oval 35"/>
            <p:cNvSpPr/>
            <p:nvPr/>
          </p:nvSpPr>
          <p:spPr>
            <a:xfrm>
              <a:off x="6283440" y="102888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36"/>
            <p:cNvSpPr txBox="1"/>
            <p:nvPr/>
          </p:nvSpPr>
          <p:spPr>
            <a:xfrm>
              <a:off x="5884920" y="111780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BUSIN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46760" y="4152960"/>
            <a:ext cx="712800" cy="349200"/>
            <a:chOff x="5846760" y="4152960"/>
            <a:chExt cx="712800" cy="349200"/>
          </a:xfrm>
        </p:grpSpPr>
        <p:sp>
          <p:nvSpPr>
            <p:cNvPr id="54" name="Oval 38"/>
            <p:cNvSpPr/>
            <p:nvPr/>
          </p:nvSpPr>
          <p:spPr>
            <a:xfrm>
              <a:off x="6245280" y="415296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WordArt 39"/>
            <p:cNvSpPr txBox="1"/>
            <p:nvPr/>
          </p:nvSpPr>
          <p:spPr>
            <a:xfrm>
              <a:off x="5846760" y="424188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SUCC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362600" y="753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7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20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8" dur="12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2 -0.02028 C 0.40295 0.095 0.41771 0.31472 0.34445 0.46416 C 0.27014 0.61222 0.13368 0.63666 0.04184 0.52 C -0.05104 0.40194 -0.06614 0.18555 0.00781 0.03639 C 0.08212 -0.11306 0.21684 -0.14195 0.30972 -0.02028 Z">
                                      <p:cBhvr>
                                        <p:cTn id="19" dur="3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0.53694 C -0.14809 0.65638 -0.28507 0.63083 -0.36042 0.48277 C -0.43386 0.33416 -0.41841 0.11666 -0.32709 -0.00167 C -0.23421 -0.12056 -0.09879 -0.09584 -0.02448 0.05194 C 0.05017 0.20111 0.03767 0.41861 -0.05695 0.53694 Z">
                                      <p:cBhvr>
                                        <p:cTn id="21" dur="3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-0.41472 C -0.33681 -0.58833 -0.20851 -0.66722 -0.09913 -0.5925 C 0.0092 -0.51444 0.05851 -0.31 0.01215 -0.13805 C -0.03594 0.03611 -0.16285 0.11472 -0.2717 0.03861 C -0.38073 -0.03833 -0.43281 -0.24 -0.38333 -0.41472 Z">
                                      <p:cBhvr>
                                        <p:cTn id="23" dur="3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8466120" cy="5713200"/>
            <a:chOff x="0" y="0"/>
            <a:chExt cx="8466120" cy="5713200"/>
          </a:xfrm>
        </p:grpSpPr>
        <p:sp>
          <p:nvSpPr>
            <p:cNvPr id="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120"/>
              <a:ext cx="8466120" cy="42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7"/>
            <p:cNvSpPr/>
            <p:nvPr/>
          </p:nvSpPr>
          <p:spPr>
            <a:xfrm rot="20926800">
              <a:off x="1938240" y="2973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2:31:22Z</dcterms:created>
  <dc:creator>huangfugang</dc:creator>
  <dc:description/>
  <dc:language>en-US</dc:language>
  <cp:lastModifiedBy>User</cp:lastModifiedBy>
  <cp:lastPrinted>1899-12-30T00:00:00Z</cp:lastPrinted>
  <dcterms:modified xsi:type="dcterms:W3CDTF">2014-05-15T07:27:08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