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DC46-8F11-4110-B97C-698C5E128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AFE1-E5E1-4F44-9F25-EAAF5A82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8F13-B8FF-45BD-B705-70A1946E5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BCA0-2059-471C-9415-D51416F42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4690-28E7-49DD-92D9-37FF52EE5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2C67-F075-4172-A112-B39ECA42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4688-3B86-41ED-AA11-B2C0A29F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9229-4A39-47BC-AE8D-4163B40F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2168-B2A0-4531-830F-2FA884D9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33B3-5BA1-42E5-801B-089AAFD4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0082-77F8-4B90-B0F8-D06C124C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C9DA-54BE-42BA-B6B9-1CB43059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EF40-FF7D-4E32-9994-C23DFFC1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4616C-9B9D-4382-BA95-CDC88596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FD57-E497-49D9-90EF-223CF2A1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C81B-99A4-4CB8-A8A3-313C5F72A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6A7F-CD67-46C0-97D9-09D2B72B5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B48B1-5C61-46AD-977C-4EB5A4FD7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67D2C-919E-45D0-9646-16B654C3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120A9-1CF3-4384-913D-38AFE47B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BD1CD-F973-4D5C-92FA-8AE4AA74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A6011-8D84-4EA8-90CD-44BE631B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AE1F-BA0D-4CCF-B06A-F694DBBE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0F151-91C3-4D19-AE5D-4C2DDCC2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B813E-599A-4877-A14C-6629D7A6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C97F0-58CD-4B5C-93F5-139CD7F3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9438D-CDD0-4886-A04B-E24FD353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2A854-69D0-4352-9B8A-53022328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405D7-74FB-4E12-AC3C-BC97FB14A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50427-86FB-4461-95E1-216058B92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0D7EC-0290-430D-8F54-2C21AB32B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1726E-87FB-43C4-A8BC-508ADFAA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2760C-CDE6-4D20-ADA5-8441BC9A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7A7E-A204-4648-9194-794D94A6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ED0F7-6961-40A2-BCC4-34EF77FC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49228-809F-4F31-936D-F6F92893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6774A-2D92-4996-B8CF-97C31B988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09012-7816-4530-9CEF-331E22B0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8F54D-6C61-4553-9310-4EC4B6F9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6A245-3D7B-4E7C-B78A-A8DE16C9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A649C-A24E-477A-A5D9-E41DA12E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34331-7208-4971-957D-12D9E5BAC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612C5-F489-474D-BCD6-B9C63530F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B028-56C3-44A4-9991-1CE08C9E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8DC2-87C8-4004-B6DC-D80AB0FD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4F28-8AD0-4FBB-A598-07E2D648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FD3A-8CA2-452F-862E-F084DB0A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C311-B861-4B54-B2CE-A3920BA6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ogo389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9092-57C3-487B-BB2F-E38F149488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/Documents and Settings/Administrator/桌面/万圣节/未标题-2.jpg未标题-2"/>
          <p:cNvPicPr/>
          <p:nvPr/>
        </p:nvPicPr>
        <p:blipFill>
          <a:blip r:embed="rId2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BD5D-698E-4031-80B8-070AF68668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A4BF-91BB-45B0-87D1-6871FA961A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未标题-21"/>
          <p:cNvPicPr/>
          <p:nvPr/>
        </p:nvPicPr>
        <p:blipFill>
          <a:blip r:embed="rId2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7FCE-3ACF-416F-A05B-B6DF1233E43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3547-B7EF-4EF6-BA50-9115A1A831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7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11:04:12Z</dcterms:created>
  <dc:creator>Administrator</dc:creator>
  <dc:description/>
  <cp:keywords/>
  <dc:language>en-US</dc:language>
  <cp:lastModifiedBy>a</cp:lastModifiedBy>
  <dcterms:modified xsi:type="dcterms:W3CDTF">2014-05-31T02:22:26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