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1CAE-30E8-4384-8E37-58683D262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D1C0-0E4C-4AB1-9B4E-57CB99D0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31EF-067C-4DF1-BD00-C04A4826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B5B7-EF7F-4F18-A957-86E2774A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B75D-3726-4ACA-AEAA-B5925ED0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B62E-3CD3-48ED-80A2-91CCC796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7DFD-A188-4629-B124-45810545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A86A-E726-4A48-B312-A25A40D2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9AC9-A31C-4B06-833C-1238D271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864F-0C46-4744-9659-12156DD7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C847-138C-4D72-9F33-07441175E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E098-C3C3-41F6-8F0B-670B39BC0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690D-CB3F-4ED5-AA03-905E2BA17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253D-0749-4407-BE5C-5F955645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DF9A-9972-4CA1-8DDE-E6D4E413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71CC-E8FB-49A7-BC67-E2FFCD55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B8D7-3861-47A8-9F69-14A80962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48E9-F078-4B0A-AC98-3C7C13CB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4AE1-5CF6-4575-A6CE-3DBA5329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6FF2A-01FA-469F-81E8-AA12015B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6058-CA61-4834-A12A-F96D058A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7B2D-3BB7-4CF2-826E-C5168FF1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730C-E4D9-4019-A698-8C121089A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8D36-0E3D-40D6-B4CE-C24A39AA7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DF3E-C9FE-41EF-88DB-76399EC7731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9663-FAB5-4CF1-A6A5-C66A9E7D23F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F3F0-B7FF-4504-B25E-10BE9514446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81280" y="990360"/>
            <a:ext cx="4191120" cy="13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99"/>
                </a:solidFill>
                <a:latin typeface="Eras Bold ITC"/>
                <a:ea typeface="宋体"/>
              </a:rPr>
              <a:t>AMERICA 911</a:t>
            </a:r>
            <a:br>
              <a:rPr sz="3400"/>
            </a:br>
            <a:r>
              <a:rPr b="0" lang="en-US" sz="3400" spc="-1" strike="noStrike">
                <a:solidFill>
                  <a:srgbClr val="003399"/>
                </a:solidFill>
                <a:latin typeface="Eras Bold ITC"/>
                <a:ea typeface="宋体"/>
              </a:rPr>
              <a:t>TRIBUTE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3047760" y="2057400"/>
            <a:ext cx="3429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Eras Medium ITC"/>
                <a:ea typeface="宋体"/>
              </a:rPr>
              <a:t>CLICK TO ADD SUB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  <a:ea typeface="宋体"/>
              </a:rPr>
              <a:t>Your Topic Goes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宋体"/>
              </a:rPr>
              <a:t>Your Subtopics G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宋体"/>
              </a:rPr>
              <a:t>CLICK HERE TO ADD TOPIC TEX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320" y="106668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Eras Medium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Medium ITC"/>
                <a:ea typeface="宋体"/>
              </a:rPr>
              <a:t>CLICK HERE TO ADD MORE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81080" y="129492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99"/>
                </a:solidFill>
                <a:latin typeface="Arial Black"/>
                <a:ea typeface="宋体"/>
              </a:rPr>
              <a:t>Transitional Pag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541008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6" name="Picture 3" descr="america_9_11_tribute_prt"/>
          <p:cNvPicPr/>
          <p:nvPr/>
        </p:nvPicPr>
        <p:blipFill>
          <a:blip r:embed="rId1"/>
          <a:stretch/>
        </p:blipFill>
        <p:spPr>
          <a:xfrm>
            <a:off x="990720" y="16002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america_9_11_tribute_qx"/>
          <p:cNvPicPr/>
          <p:nvPr/>
        </p:nvPicPr>
        <p:blipFill>
          <a:blip r:embed="rId2"/>
          <a:stretch/>
        </p:blipFill>
        <p:spPr>
          <a:xfrm>
            <a:off x="3352680" y="16002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america_9_11_tribute_sld"/>
          <p:cNvPicPr/>
          <p:nvPr/>
        </p:nvPicPr>
        <p:blipFill>
          <a:blip r:embed="rId3"/>
          <a:stretch/>
        </p:blipFill>
        <p:spPr>
          <a:xfrm>
            <a:off x="990720" y="34290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america_9_11_tribute_trs"/>
          <p:cNvPicPr/>
          <p:nvPr/>
        </p:nvPicPr>
        <p:blipFill>
          <a:blip r:embed="rId4"/>
          <a:stretch/>
        </p:blipFill>
        <p:spPr>
          <a:xfrm>
            <a:off x="3352680" y="342900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8T17:10:43Z</dcterms:created>
  <dc:creator>eclipse</dc:creator>
  <dc:description/>
  <cp:keywords/>
  <dc:language>en-US</dc:language>
  <cp:lastModifiedBy>a</cp:lastModifiedBy>
  <dcterms:modified xsi:type="dcterms:W3CDTF">2014-07-30T05:03:50Z</dcterms:modified>
  <cp:revision>2</cp:revision>
  <dc:subject/>
  <dc:title>AMERICA 911 TRIBU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