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2E3-299E-4684-B40B-3EE91748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F07-4F92-4523-B538-D5454327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76C-FE52-43F5-AA18-B55D7382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FAF-2EBA-43C2-90B6-34AFCE34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5AC9-8626-40DD-A6DF-62776DB6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8FEE-40D9-468D-B297-E1C91389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5FE8-E263-433F-BF2F-6627F525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AA81-2299-4226-8B89-A96CE224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E52A-8F04-4481-A333-14320919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F93C-8FF0-4641-AF4F-7F7C67E9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4E62-EA1A-4A21-834F-DC289AB5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E79-ED56-4721-9E98-056A2B13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8E78-1B18-4661-A99E-6B76205C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4FDC-65CD-4E7D-B5CB-4CED1D25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1BA9-F1B8-46FE-96BF-7A0BD01E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2870-F650-4697-94A6-DAE4A399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C2F4-54F5-4FD5-9DFA-3B7E313E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884-94CA-4D95-9357-B1CEC5A8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568-427C-46BA-9E25-8BF3F6C9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C21-D65E-45E7-A689-6B005169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CFF-EB73-4ABF-9B9D-E6905F86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292-0D24-4B21-A92C-C1F1B06F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64C-D4DE-4679-A260-44FE0C2A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BBC-9ED7-49D2-85A3-C5EFBEF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4E14-7F40-4E79-93EE-CC42CCC48B12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BCA3-511A-44EA-BF28-801F96EC3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摩天写字楼商务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7160760" y="63244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3:58:01Z</dcterms:created>
  <dc:creator/>
  <dc:description/>
  <dc:language>en-US</dc:language>
  <cp:lastModifiedBy>echo</cp:lastModifiedBy>
  <dcterms:modified xsi:type="dcterms:W3CDTF">2015-01-08T12:35:13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322052</vt:lpwstr>
  </property>
</Properties>
</file>