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EC4-BE66-4A8C-BB9E-75C08FD8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2C4-C2B4-4A80-928A-CD9A345C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FA3-E839-44C5-96BF-494DCCE0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7DA-39A0-4CBE-9C7F-DC28D094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4988-F8DD-4EAE-B577-DE4BFC47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DC68-5A82-49A4-9389-5C00E001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FB7A-02C5-4726-AAAA-BF10C426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C40C-3697-4344-AD08-2BC475DC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CCDC-C4F7-402C-B1B6-4C3E611B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719A-B2EA-4DDF-ABA3-63140287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D529-C194-4136-9868-08AF9C5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A12-F75D-41F9-AE68-6BE82C2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6C4E-5291-4DDA-A5DC-EA733ABD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C756-1BB3-4E89-8915-A1606D45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945C-814E-4E3C-A29A-D42A6616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79AA-C1F8-4968-9DAC-1B790EE7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C084-539A-4B38-ADE4-96B54629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B313-B3D1-4108-AD79-05B9E68A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B04D-ECA7-4471-B93E-3729F10B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51EF-B94E-4046-85B9-6BBC0DD2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C3237-097B-4411-B19A-FBDCFFD8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B2694-00BF-450E-9E2E-24FB1EA2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E77-3E5C-4863-A7D5-73E5936A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4F2F-8863-4005-8342-5A1C3187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E27B-6FF3-4E6A-B6B6-3008D64D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1657-9A77-4099-AB97-F92E73B3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73A4-684B-45A0-8728-72AD046E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12AEB-C9AA-43B4-AEFA-4DE850B6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1969-3765-4EB3-9603-1E1DA2D0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12D78-21B4-44E5-8117-853B24A3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BA0-B29D-47A8-B314-A940D01A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483-AFDB-42E5-939F-223132C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CAD-7504-496D-924B-3C396507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03E-C69F-4814-81B4-B4EEB55D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EF5-2CE7-46AB-96AB-1243C9B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25D-3464-4E04-AC6E-879CB3E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2773-21CD-4FF0-8BCE-D828E9AA160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F986-5401-41D5-9846-2AA78378FFB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ADAB-8F8B-42A0-A4CB-E2AAF92CAF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16B4-4820-4DF9-BC53-CA7634775B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-249120" y="-22320"/>
            <a:ext cx="937404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"/>
          <p:cNvPicPr/>
          <p:nvPr/>
        </p:nvPicPr>
        <p:blipFill>
          <a:blip r:embed="rId1"/>
          <a:stretch/>
        </p:blipFill>
        <p:spPr>
          <a:xfrm>
            <a:off x="71280" y="44280"/>
            <a:ext cx="9001440" cy="6480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239840" y="936720"/>
            <a:ext cx="11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203640" y="184464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墨的历史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墨文化的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功效和用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价值和历史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4"/>
          <p:cNvPicPr/>
          <p:nvPr/>
        </p:nvPicPr>
        <p:blipFill>
          <a:blip r:embed="rId1"/>
          <a:stretch/>
        </p:blipFill>
        <p:spPr>
          <a:xfrm>
            <a:off x="15840" y="44280"/>
            <a:ext cx="9072720" cy="6832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3132000" y="1917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墨的历史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"/>
          <p:cNvPicPr/>
          <p:nvPr/>
        </p:nvPicPr>
        <p:blipFill>
          <a:blip r:embed="rId1"/>
          <a:stretch/>
        </p:blipFill>
        <p:spPr>
          <a:xfrm>
            <a:off x="15840" y="44280"/>
            <a:ext cx="9183600" cy="6613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15840" y="6381720"/>
            <a:ext cx="9183600" cy="476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705040" y="76500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國墨文化伴隨著中國幾千年思想文化的發展而發展，它對人類文化藝術的保存和綿延起到了至關重要的作用。墨是文房用具，既有集書畫、鐫刻、造型藝術為一體的外觀，又有百年如石，一點如漆，直書直畫的功能，因而備受人們的喜愛。墨從本質上來說是一種文化的象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中國人的理念中，墨是文人情結的體現。以墨言志，以墨抒情，以墨詠懷，墨詮釋著文人氣息和高雅情趣。中國墨文化博大精深，多姿多采。王毅先生藏墨多年，並有志於墨學的研究，他的《中國墨文化大觀》一書較為全面地介紹了中國墨文化的發展脈絡、藝術品位、文化內涵、審美情趣，具有較高的欣賞價值。是一本集知識性、實用性、操作性，圖文並茂、言之有物、雅俗共賞的墨學普及讀物，相信它的出版一定能有助於人們對中國墨文化的深入了解，並進而被這朵藝苑奇葩所深深吸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3"/>
          <p:cNvPicPr/>
          <p:nvPr/>
        </p:nvPicPr>
        <p:blipFill>
          <a:blip r:embed="rId1"/>
          <a:stretch/>
        </p:blipFill>
        <p:spPr>
          <a:xfrm>
            <a:off x="73080" y="44280"/>
            <a:ext cx="9107280" cy="6840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3564000" y="234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粗黑体"/>
              </a:rPr>
              <a:t>谢  谢  欣  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0T05:04:33Z</dcterms:modified>
  <cp:revision>1</cp:revision>
  <dc:subject/>
  <dc:title>PowerPoint 演示文稿</dc:title>
</cp:coreProperties>
</file>