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DB4-9B81-4086-B046-742383D9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3B1-A602-4B3E-84B5-DC1C2110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BED-8FE2-48BA-8239-1FEE0DE4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DBB-29F7-4CE0-9AFF-5F1B2880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3C6E-2BC8-48C7-8292-142C73E6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BFA4-E96E-4DE7-9232-CD8106F6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37A7-DBB2-46DA-B9B0-B1AFD831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74C0-8569-4A46-9C0E-C8EBD59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CA59-70D0-4BF8-B042-1DD866D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D3D1-505C-4B86-B603-41B500CA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715E-08FB-4FF8-9E86-B911DA5A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0B2-DA75-4CAA-9294-75708100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9E53-2D2D-4F25-9EBF-C3C4103F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2CA0-1D1A-4167-AEE8-1F700336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D0E8-0022-4C82-B6BC-B2B67EB4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2467-65FF-4BFE-AB1D-2D759646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2F39-012E-4628-A93D-2E4AE521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8F6A-3870-4F45-8A8A-AB95902A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3263-BA80-4166-B2EC-965084AC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0E9E0-00FF-46E5-B132-AFE26958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E389C-9F36-48C0-BFAA-815BE87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E853-0D40-425C-826A-8A8AA9F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775-841C-41E4-B6EF-808EB664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90D2-3536-4D3D-9691-840DD62A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29E3-A556-41F9-8EDA-8C59F54B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CAFC-4F4B-4D8F-B97F-897A786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D6FA-8425-4E55-9BFD-A69F4068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148D-CF3A-4E63-81E6-D75AA041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CC3A-2A29-4729-9A6C-28BFA14A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3D81-F346-41DA-A3DE-C91544C3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FF0D-8BFE-4A38-A399-7AE3C762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A8E6-7F53-4A21-97E5-212F4424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C4AA-25B4-46E9-AED4-92ECB02A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22D-7EDF-47C6-AFB8-B5FF8BAE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3F553-B527-4B73-A0F8-B243A430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E327-6C53-4AA4-9FBB-A223DA2A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2156-40E4-42A6-82A4-7A36C951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6C30-F7D5-4949-A2D7-C4EE4DEA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BAEFD-4555-4EAE-AA2F-018CECF6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B82A-42CD-4236-8ED5-7E8FCCC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41A8-6CEE-41B3-B1AD-EB7A7DFD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3031-CED4-4402-90EF-29AD50FC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038E-B9BA-4A5E-B044-17FA1573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A9D-A072-44AE-B0AF-3DE41BA5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F7E-A59F-4D46-9925-BDC18F64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CFB-0C07-4806-B8F4-0D6F46C8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718-79B1-4141-BFF1-64E47FD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655-DF14-4E94-8187-A4D656B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C7F-6A40-48DC-8484-6EBDC7DC07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128572726331400deuwhziz[1]"/>
          <p:cNvPicPr/>
          <p:nvPr/>
        </p:nvPicPr>
        <p:blipFill>
          <a:blip r:embed="rId2"/>
          <a:stretch/>
        </p:blipFill>
        <p:spPr>
          <a:xfrm>
            <a:off x="0" y="-90360"/>
            <a:ext cx="9144000" cy="6976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</p:pic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17A0-D8DE-4FE9-8C1B-A44A3DAE9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E95F-5994-4FEE-9BE7-902790F403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4377-4112-4AE6-A5CA-3BB7AB314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bizhi-1211-76602[1]"/>
          <p:cNvPicPr/>
          <p:nvPr/>
        </p:nvPicPr>
        <p:blipFill>
          <a:blip r:embed="rId2"/>
          <a:stretch/>
        </p:blipFill>
        <p:spPr>
          <a:xfrm>
            <a:off x="-28440" y="0"/>
            <a:ext cx="17348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4312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74312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B531-AC60-4EE2-9AB2-289D7D3440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0113-0D91-4490-A38E-929CC2823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bizhi-1211-76602[1]"/>
          <p:cNvPicPr/>
          <p:nvPr/>
        </p:nvPicPr>
        <p:blipFill>
          <a:blip r:embed="rId2"/>
          <a:stretch/>
        </p:blipFill>
        <p:spPr>
          <a:xfrm>
            <a:off x="0" y="0"/>
            <a:ext cx="1743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49AA-4FB0-45E7-962B-92A4A46FCC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F593-F1F1-4EE8-919B-B158DF060E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欧洲小镇风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4312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312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920" y="645336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叶菲</dc:creator>
  <dc:description/>
  <dc:language>en-US</dc:language>
  <cp:lastModifiedBy>a</cp:lastModifiedBy>
  <dcterms:modified xsi:type="dcterms:W3CDTF">2015-01-14T09:56:2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